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12.jpeg" ContentType="image/jpeg"/>
  <Override PartName="/ppt/media/image13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F5A-A47F-495F-9737-EADE7037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D26-4CAF-4027-AA49-674B07A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692-8016-4370-A5D8-BCAE5612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AFF-346C-4942-BC47-9E43B162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107-55E8-4940-A96B-24D16B59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BB2-9D7A-474C-8E02-016EC25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EDF-2226-42BC-B9F2-4E9C2F0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B66-D2C9-4530-B102-9949014F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C78-9ED9-4145-83A2-C1D6441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575-AEE3-4473-9712-C680C96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F55-D945-432A-A3CA-A754F78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63D-800C-4121-A418-DCAE9E1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397-F231-4860-834B-DCD1AFFF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00200" y="2819520"/>
            <a:ext cx="68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ỰC HÀNH: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ÂN CHIA CÁC NHÓM THỰC VẬ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905120" y="1752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̀I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loem20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31520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loem03"/>
          <p:cNvPicPr/>
          <p:nvPr/>
        </p:nvPicPr>
        <p:blipFill>
          <a:blip r:embed="rId3"/>
          <a:stretch/>
        </p:blipFill>
        <p:spPr>
          <a:xfrm>
            <a:off x="5977080" y="563724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760" y="-3049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90520" y="1504800"/>
          <a:ext cx="8610480" cy="2988000"/>
        </p:xfrm>
        <a:graphic>
          <a:graphicData uri="http://schemas.openxmlformats.org/drawingml/2006/table">
            <a:tbl>
              <a:tblPr/>
              <a:tblGrid>
                <a:gridCol w="911160"/>
                <a:gridCol w="1562040"/>
                <a:gridCol w="1306800"/>
                <a:gridCol w="1137960"/>
                <a:gridCol w="1230480"/>
                <a:gridCol w="1231920"/>
                <a:gridCol w="123012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ương thự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ực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ăn qu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ấy g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àm thuố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àm c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2231640" y="309240"/>
            <a:ext cx="472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IẾU PHÂN CHIA THỰC VẬ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O VAI TRÒ SỬ DỤ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838080" y="33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IV.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37160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ƯỚNG DẪN VIẾT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23880" y="17524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0020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êu cầu: Mỗi hs hoàn thành ra giấy kiểm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54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165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. 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677880" y="706320"/>
            <a:ext cx="1565280" cy="1008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2"/>
          <p:cNvSpPr/>
          <p:nvPr/>
        </p:nvSpPr>
        <p:spPr>
          <a:xfrm>
            <a:off x="3022560" y="122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ính Lú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4"/>
          <p:cNvSpPr/>
          <p:nvPr/>
        </p:nvSpPr>
        <p:spPr>
          <a:xfrm>
            <a:off x="3040200" y="182880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ẫu vật: cây thật, Tranh ả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3071880" y="236232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út dạ b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3089160" y="2890800"/>
            <a:ext cx="36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Giấy viết, giấy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588960" y="3619440"/>
            <a:ext cx="1560600" cy="1085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649440" y="1714680"/>
            <a:ext cx="1533240" cy="192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6875640" y="2432160"/>
            <a:ext cx="1998360" cy="14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6"/>
          <a:stretch/>
        </p:blipFill>
        <p:spPr>
          <a:xfrm>
            <a:off x="7199280" y="306360"/>
            <a:ext cx="1533600" cy="20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77880" y="4611600"/>
            <a:ext cx="4189320" cy="21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8"/>
          <a:stretch/>
        </p:blipFill>
        <p:spPr>
          <a:xfrm>
            <a:off x="4871880" y="4705200"/>
            <a:ext cx="4189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852720" y="2174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ẫu v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81520" y="957240"/>
            <a:ext cx="41893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3"/>
          <a:stretch/>
        </p:blipFill>
        <p:spPr>
          <a:xfrm>
            <a:off x="-42840" y="755640"/>
            <a:ext cx="4189320" cy="2197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1684440" y="3002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rêu t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996920" y="655164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Bèo 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035760" y="3084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t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6324480" y="65628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4"/>
          <a:stretch/>
        </p:blipFill>
        <p:spPr>
          <a:xfrm>
            <a:off x="5622840" y="3865680"/>
            <a:ext cx="3403800" cy="254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5"/>
          <a:stretch/>
        </p:blipFill>
        <p:spPr>
          <a:xfrm>
            <a:off x="1819440" y="3755880"/>
            <a:ext cx="247140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0880" y="1363680"/>
          <a:ext cx="8686800" cy="4130640"/>
        </p:xfrm>
        <a:graphic>
          <a:graphicData uri="http://schemas.openxmlformats.org/drawingml/2006/table">
            <a:tbl>
              <a:tblPr/>
              <a:tblGrid>
                <a:gridCol w="1408320"/>
                <a:gridCol w="1698480"/>
                <a:gridCol w="1408320"/>
                <a:gridCol w="1407960"/>
                <a:gridCol w="1407960"/>
                <a:gridCol w="1355760"/>
              </a:tblGrid>
              <a:tr h="582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S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ÊN CÂ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NHÓM THỰC VẬ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không có mạ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không có hạ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có hạt, không có h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Thực vật có mạch, có hạt, có h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bèo 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rê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Cây thô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l Nile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30"/>
          <p:cNvSpPr/>
          <p:nvPr/>
        </p:nvSpPr>
        <p:spPr>
          <a:xfrm>
            <a:off x="2666880" y="44424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IẾU PHÂN LOẠI CÂ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57200" y="388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793800" y="1600200"/>
            <a:ext cx="618480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3505320" y="1384200"/>
            <a:ext cx="5338800" cy="3497400"/>
          </a:xfrm>
          <a:prstGeom prst="rect">
            <a:avLst/>
          </a:prstGeom>
          <a:ln w="0">
            <a:noFill/>
          </a:ln>
        </p:spPr>
      </p:pic>
      <p:sp>
        <p:nvSpPr>
          <p:cNvPr id="75" name="Up Arrow Callout 15"/>
          <p:cNvSpPr/>
          <p:nvPr/>
        </p:nvSpPr>
        <p:spPr>
          <a:xfrm>
            <a:off x="380880" y="4276800"/>
            <a:ext cx="8610840" cy="2352600"/>
          </a:xfrm>
          <a:prstGeom prst="upArrowCallout">
            <a:avLst>
              <a:gd name="adj1" fmla="val -19901"/>
              <a:gd name="adj2" fmla="val 27027"/>
              <a:gd name="adj3" fmla="val 25000"/>
              <a:gd name="adj4" fmla="val 70041"/>
            </a:avLst>
          </a:prstGeom>
          <a:solidFill>
            <a:srgbClr val="92d05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Sử dụng kính lúp quan sát các cơ quan của cây rêu: rễ, thân, lá và vị trí bào t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eft Arrow Callout 7"/>
          <p:cNvSpPr/>
          <p:nvPr/>
        </p:nvSpPr>
        <p:spPr>
          <a:xfrm>
            <a:off x="5181480" y="1447920"/>
            <a:ext cx="3581640" cy="3733560"/>
          </a:xfrm>
          <a:prstGeom prst="leftArrowCallout">
            <a:avLst>
              <a:gd name="adj1" fmla="val 25001"/>
              <a:gd name="adj2" fmla="val 24998"/>
              <a:gd name="adj3" fmla="val 25000"/>
              <a:gd name="adj4" fmla="val 6498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Quan sát bèo ong: tìm rễ, thân, lá, xác định vị trí bào t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609480" y="690480"/>
            <a:ext cx="2590920" cy="327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80880" y="405756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85920" y="23184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09600" y="928800"/>
            <a:ext cx="4967280" cy="296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-304920" y="3914640"/>
            <a:ext cx="5581800" cy="2963880"/>
          </a:xfrm>
          <a:prstGeom prst="rect">
            <a:avLst/>
          </a:prstGeom>
          <a:ln w="0">
            <a:noFill/>
          </a:ln>
        </p:spPr>
      </p:pic>
      <p:sp>
        <p:nvSpPr>
          <p:cNvPr id="84" name="Left Arrow Callout 7"/>
          <p:cNvSpPr/>
          <p:nvPr/>
        </p:nvSpPr>
        <p:spPr>
          <a:xfrm>
            <a:off x="5276880" y="1590840"/>
            <a:ext cx="3867120" cy="4682880"/>
          </a:xfrm>
          <a:prstGeom prst="leftArrowCallout">
            <a:avLst>
              <a:gd name="adj1" fmla="val 25006"/>
              <a:gd name="adj2" fmla="val 24998"/>
              <a:gd name="adj3" fmla="val 25000"/>
              <a:gd name="adj4" fmla="val 64983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Quan sát rễ, thân, lá (dạng thân, dạng lá, kích thướ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Xác định cấu tạo và vị trí nón đực, nón cái, quan sát vị trí của hạt thô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8080" y="333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Cloud Callout 7"/>
          <p:cNvSpPr/>
          <p:nvPr/>
        </p:nvSpPr>
        <p:spPr>
          <a:xfrm>
            <a:off x="5156280" y="716040"/>
            <a:ext cx="3987720" cy="4394160"/>
          </a:xfrm>
          <a:prstGeom prst="cloudCallout">
            <a:avLst>
              <a:gd name="adj1" fmla="val -58773"/>
              <a:gd name="adj2" fmla="val 40555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dạng thân, rễ,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hoa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Xác định vị trí của hạt bên trong hay bên ngoài quả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146240" y="879480"/>
            <a:ext cx="3403440" cy="2549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96880" y="255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nl-NL" sz="2400" spc="-1" strike="noStrike">
                <a:solidFill>
                  <a:srgbClr val="ff0000"/>
                </a:solidFill>
                <a:latin typeface="Times New Roman"/>
              </a:rPr>
              <a:t>Phân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 chia thực vật thành từng nhóm phân lo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146240" y="3654360"/>
            <a:ext cx="34257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838080" y="33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. </a:t>
            </a:r>
            <a:r>
              <a:rPr b="1" lang="vi-VN" sz="2400" spc="-1" strike="noStrike">
                <a:solidFill>
                  <a:srgbClr val="ff0000"/>
                </a:solidFill>
                <a:latin typeface="Times New Roman"/>
              </a:rPr>
              <a:t>Phân chia thực vật thành từng nhóm theo vai trò sử dụ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838080" y="11286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1.Viết tên các loài cây em biết ra các mảnh giấy nhỏ (hoặc nhóm chuẩn bị các hình ảnh về các loài câ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2. Ghim các mảnh giấy ghi tên cây (mẫu cây thật, hoặc các thẻ ảnh cây vào bảng theo vai trò sử dụng của câ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3.Khuyến khích HS sáng tạo, trình bày đẹp, khoa học, tăng tính thẩm mỹ của báo cáo thực hành chúng của nhó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800" spc="-1" strike="noStrike">
                <a:solidFill>
                  <a:srgbClr val="000000"/>
                </a:solidFill>
                <a:latin typeface="Times New Roman"/>
              </a:rPr>
              <a:t>4. Khuyến khích HS tìm hiểu được nhiều ví dụ trong cuộc sống để hoàn thành bả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7:35:09Z</dcterms:created>
  <dc:creator>sdf</dc:creator>
  <dc:description/>
  <dc:language>en-US</dc:language>
  <cp:lastModifiedBy>Admin</cp:lastModifiedBy>
  <dcterms:modified xsi:type="dcterms:W3CDTF">2021-05-18T15:26:48Z</dcterms:modified>
  <cp:revision>493</cp:revision>
  <dc:subject/>
  <dc:title>Slide 1</dc:title>
</cp:coreProperties>
</file>