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gif" ContentType="image/gif"/>
  <Override PartName="/ppt/media/image16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230-113C-4911-A6E5-E4311BE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8DF-FE16-4DF2-8EEB-A1C2EAB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845-52D5-4894-A428-DA9392B9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85D-003F-44EE-859C-92994FBC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B94-9DB1-40D2-B776-2FC2095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E5E-3329-4D15-A546-3651513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1FD-3A72-43DB-BC37-2DA5634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C24-7354-4A3D-9BEC-5AECC9F5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FCA-98D3-49E0-A4DB-7AB9E68B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24B-5465-42F8-B882-5B89D95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242-501A-4A6F-9ADC-0B8D53E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A7E-B1C3-409C-A92C-80C05D4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2B4-023F-4C13-90BD-832B95CA4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2639880" y="596880"/>
            <a:ext cx="7253280" cy="1530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0" y="5054760"/>
            <a:ext cx="12015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MÔN TNXH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BÀI 15: PHÒNG TRÁNH CONG VẸO CỘT SỐNG (TIẾT 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4528" t="5203" r="2475" b="29404"/>
          <a:stretch/>
        </p:blipFill>
        <p:spPr>
          <a:xfrm>
            <a:off x="549360" y="274680"/>
            <a:ext cx="1130148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lh6.googleusercontent.com/nRFXqN83e_8hUVfvoxnZyTMcIQbL8MxbGwAA3sRw9W2XxbqGu01Nl93zrt-nQQrLcfgzohgsMNp2N8OrMwxy0ZwmjIcI0weLUWNlQQ8SCkBWEV8v1PQGRMh_BFAYHU7152INLzg"/>
          <p:cNvPicPr/>
          <p:nvPr/>
        </p:nvPicPr>
        <p:blipFill>
          <a:blip r:embed="rId2"/>
          <a:srcRect l="17274" t="81681" r="0" b="5424"/>
          <a:stretch/>
        </p:blipFill>
        <p:spPr>
          <a:xfrm>
            <a:off x="476280" y="219240"/>
            <a:ext cx="115063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550960" y="619200"/>
            <a:ext cx="6864480" cy="43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0" y="5684760"/>
            <a:ext cx="12192120" cy="117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3724200" y="2141640"/>
            <a:ext cx="541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85723"/>
                </a:solidFill>
                <a:latin typeface="HP-102"/>
              </a:rPr>
              <a:t>CỦNG C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Xuân Mai ♫ Bé Tập Thể Dục Buổi Sáng ♫ Nhạc Thiếu Nhi Bé Xuân Mai.mp4" descr=""/>
          <p:cNvPicPr/>
          <p:nvPr/>
        </p:nvPicPr>
        <p:blipFill>
          <a:blip r:embed="rId1"/>
          <a:stretch/>
        </p:blipFill>
        <p:spPr>
          <a:xfrm>
            <a:off x="822240" y="420840"/>
            <a:ext cx="104252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2981160" y="75888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9" descr=""/>
          <p:cNvPicPr/>
          <p:nvPr/>
        </p:nvPicPr>
        <p:blipFill>
          <a:blip r:embed="rId4"/>
          <a:stretch/>
        </p:blipFill>
        <p:spPr>
          <a:xfrm>
            <a:off x="4876920" y="1560600"/>
            <a:ext cx="3760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560600" y="189000"/>
            <a:ext cx="95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Ủ TỊCH HĐTQ TỔ CHỨC LỚP CHƠI TRÒ CHƠI “TẬP LÀM NGƯỜI MẪ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s://lh6.googleusercontent.com/5QghE1t6Y25f9tfXQWo0tdQ0PCWZQWvYcqlYceKAxFsiuNm09YY0XHZmsv9cydmtfZE8UWvTRSpap8ZuTGTKBjX3KZL3-6aEtNIH8gegAqp6mhv8r5XaXs7441KKyUub0YtTEc8"/>
          <p:cNvPicPr/>
          <p:nvPr/>
        </p:nvPicPr>
        <p:blipFill>
          <a:blip r:embed="rId1"/>
          <a:srcRect l="16254" t="41480" r="2851" b="11435"/>
          <a:stretch/>
        </p:blipFill>
        <p:spPr>
          <a:xfrm>
            <a:off x="274680" y="1554120"/>
            <a:ext cx="11539440" cy="5008680"/>
          </a:xfrm>
          <a:prstGeom prst="rect">
            <a:avLst/>
          </a:prstGeom>
          <a:ln w="0">
            <a:noFill/>
          </a:ln>
        </p:spPr>
      </p:pic>
      <p:pic>
        <p:nvPicPr>
          <p:cNvPr id="50" name="Vui Đến Trường - Nhóm Hoa Tay - Nhạc Thiếu Nhi Sôi Động Remix.mp4" descr=""/>
          <p:cNvPicPr/>
          <p:nvPr/>
        </p:nvPicPr>
        <p:blipFill>
          <a:blip r:embed="rId2"/>
          <a:stretch/>
        </p:blipFill>
        <p:spPr>
          <a:xfrm>
            <a:off x="8994600" y="1755720"/>
            <a:ext cx="25210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395360" y="3579840"/>
            <a:ext cx="2981520" cy="246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3009960" y="739800"/>
            <a:ext cx="7253280" cy="36320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4" descr=""/>
          <p:cNvPicPr/>
          <p:nvPr/>
        </p:nvPicPr>
        <p:blipFill>
          <a:blip r:embed="rId4"/>
          <a:stretch/>
        </p:blipFill>
        <p:spPr>
          <a:xfrm>
            <a:off x="4529160" y="1914480"/>
            <a:ext cx="4518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5691" t="16868" r="66774" b="55253"/>
          <a:stretch/>
        </p:blipFill>
        <p:spPr>
          <a:xfrm>
            <a:off x="274680" y="438120"/>
            <a:ext cx="2797200" cy="585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33716" t="15815" r="47595" b="55957"/>
          <a:stretch/>
        </p:blipFill>
        <p:spPr>
          <a:xfrm>
            <a:off x="2816280" y="328680"/>
            <a:ext cx="2743200" cy="596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14541" t="5657" r="34998" b="84713"/>
          <a:stretch/>
        </p:blipFill>
        <p:spPr>
          <a:xfrm>
            <a:off x="5084640" y="712800"/>
            <a:ext cx="6912000" cy="32367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2"/>
          <p:cNvSpPr/>
          <p:nvPr/>
        </p:nvSpPr>
        <p:spPr>
          <a:xfrm>
            <a:off x="1407960" y="177336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50760" y="1773360"/>
            <a:ext cx="102420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3913200" y="1828800"/>
            <a:ext cx="185760" cy="1407960"/>
          </a:xfrm>
          <a:custGeom>
            <a:avLst/>
            <a:gdLst/>
            <a:ahLst/>
            <a:rect l="l" t="t" r="r" b="b"/>
            <a:pathLst>
              <a:path w="185661" h="1408176">
                <a:moveTo>
                  <a:pt x="128016" y="0"/>
                </a:moveTo>
                <a:cubicBezTo>
                  <a:pt x="114052" y="181526"/>
                  <a:pt x="127028" y="186338"/>
                  <a:pt x="91440" y="310896"/>
                </a:cubicBezTo>
                <a:cubicBezTo>
                  <a:pt x="86144" y="329432"/>
                  <a:pt x="81129" y="348211"/>
                  <a:pt x="73152" y="365760"/>
                </a:cubicBezTo>
                <a:cubicBezTo>
                  <a:pt x="50590" y="415397"/>
                  <a:pt x="0" y="512064"/>
                  <a:pt x="0" y="512064"/>
                </a:cubicBezTo>
                <a:cubicBezTo>
                  <a:pt x="6096" y="579120"/>
                  <a:pt x="8766" y="646576"/>
                  <a:pt x="18288" y="713232"/>
                </a:cubicBezTo>
                <a:cubicBezTo>
                  <a:pt x="21014" y="732315"/>
                  <a:pt x="31280" y="749560"/>
                  <a:pt x="36576" y="768096"/>
                </a:cubicBezTo>
                <a:cubicBezTo>
                  <a:pt x="43481" y="792263"/>
                  <a:pt x="47959" y="817081"/>
                  <a:pt x="54864" y="841248"/>
                </a:cubicBezTo>
                <a:cubicBezTo>
                  <a:pt x="60160" y="859784"/>
                  <a:pt x="67856" y="877576"/>
                  <a:pt x="73152" y="896112"/>
                </a:cubicBezTo>
                <a:cubicBezTo>
                  <a:pt x="80057" y="920279"/>
                  <a:pt x="85988" y="944728"/>
                  <a:pt x="91440" y="969264"/>
                </a:cubicBezTo>
                <a:cubicBezTo>
                  <a:pt x="98183" y="999607"/>
                  <a:pt x="98814" y="1031599"/>
                  <a:pt x="109728" y="1060704"/>
                </a:cubicBezTo>
                <a:cubicBezTo>
                  <a:pt x="117445" y="1081284"/>
                  <a:pt x="136474" y="1095909"/>
                  <a:pt x="146304" y="1115568"/>
                </a:cubicBezTo>
                <a:cubicBezTo>
                  <a:pt x="154925" y="1132810"/>
                  <a:pt x="159296" y="1151896"/>
                  <a:pt x="164592" y="1170432"/>
                </a:cubicBezTo>
                <a:cubicBezTo>
                  <a:pt x="196186" y="1281013"/>
                  <a:pt x="182880" y="1252932"/>
                  <a:pt x="182880" y="1408176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9"/>
          <p:cNvSpPr/>
          <p:nvPr/>
        </p:nvSpPr>
        <p:spPr>
          <a:xfrm>
            <a:off x="3548160" y="1828800"/>
            <a:ext cx="1243080" cy="0"/>
          </a:xfrm>
          <a:prstGeom prst="line">
            <a:avLst/>
          </a:prstGeom>
          <a:ln w="7632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10176" t="15991" r="12284" b="37367"/>
          <a:stretch/>
        </p:blipFill>
        <p:spPr>
          <a:xfrm>
            <a:off x="785880" y="328680"/>
            <a:ext cx="10863360" cy="611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63526" t="25438" r="26816" b="49434"/>
          <a:stretch/>
        </p:blipFill>
        <p:spPr>
          <a:xfrm>
            <a:off x="8412120" y="1554120"/>
            <a:ext cx="1354320" cy="329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4"/>
          <a:srcRect l="75537" t="23902" r="13374" b="49154"/>
          <a:stretch/>
        </p:blipFill>
        <p:spPr>
          <a:xfrm>
            <a:off x="10094760" y="1298520"/>
            <a:ext cx="1554480" cy="352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627440" y="512640"/>
            <a:ext cx="3071880" cy="38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084400" y="2048040"/>
            <a:ext cx="6164280" cy="41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23218" t="69792" r="59801" b="9979"/>
          <a:stretch/>
        </p:blipFill>
        <p:spPr>
          <a:xfrm>
            <a:off x="2084400" y="1736640"/>
            <a:ext cx="6164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2"/>
          <a:srcRect l="7873" t="62457" r="14823" b="7562"/>
          <a:stretch/>
        </p:blipFill>
        <p:spPr>
          <a:xfrm>
            <a:off x="212760" y="384120"/>
            <a:ext cx="11485440" cy="6180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212760" y="1920960"/>
            <a:ext cx="8218440" cy="46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s://lh6.googleusercontent.com/mZsoDwa-mhBOvc6RASoshbE94Smlp1BEcPosrGG0usVBjcg-h2asgvTk1L1P52owzALkz05QJU5h5szh8NNxfNmuwkPsug2saRguMYqheo1u6pry85yxQPs0hfS5u8-3W1bhxbw"/>
          <p:cNvPicPr/>
          <p:nvPr/>
        </p:nvPicPr>
        <p:blipFill>
          <a:blip r:embed="rId3"/>
          <a:srcRect l="41971" t="69971" r="40185" b="15304"/>
          <a:stretch/>
        </p:blipFill>
        <p:spPr>
          <a:xfrm>
            <a:off x="622440" y="2084400"/>
            <a:ext cx="76262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25T04:07:20Z</dcterms:created>
  <dc:creator>Admin</dc:creator>
  <dc:description/>
  <dc:language>en-US</dc:language>
  <cp:lastModifiedBy>Windows User</cp:lastModifiedBy>
  <dcterms:modified xsi:type="dcterms:W3CDTF">2021-08-15T14:51:22Z</dcterms:modified>
  <cp:revision>27</cp:revision>
  <dc:subject/>
  <dc:title>PowerPoint Presentation</dc:title>
</cp:coreProperties>
</file>