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2639-40C5-470E-9D36-1C3E3184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88390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853520"/>
            <a:ext cx="88390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D3F-B95C-487C-8BD9-BD367CD1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8800" y="44953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8535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28800" y="48535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3E6A-46B3-4EF6-A02A-58A95619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2845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8000" y="4495320"/>
            <a:ext cx="2845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6720" y="4495320"/>
            <a:ext cx="2845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853520"/>
            <a:ext cx="2845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8000" y="4853520"/>
            <a:ext cx="2845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6720" y="4853520"/>
            <a:ext cx="2845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45BD-6BB2-4D66-8569-B57C9BA1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8A07-FCE2-4DB2-A137-6D4E9901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9E78-F41B-4C00-B6AC-5BD9F006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E87B-C185-4773-BFCB-1246F36B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4313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28800" y="4495320"/>
            <a:ext cx="4313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632A-6B0D-4665-A696-9EA04122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91F7-81A2-484F-BA51-7FA342A9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3581280"/>
            <a:ext cx="88390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92E9-E566-4224-AF2F-A1C0C37A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28800" y="4495320"/>
            <a:ext cx="4313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-360" y="48535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CA11-C61B-4887-B8FC-4E8659DE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44953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3878-E2A3-4826-9DB0-E7A20601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4313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28800" y="44953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28800" y="48535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A8B7-EEE7-4C4C-A714-2BE026C5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28800" y="44953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-360" y="4853520"/>
            <a:ext cx="88390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05E9-5A56-4F5D-9D3F-E145AC91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88390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-360" y="4853520"/>
            <a:ext cx="88390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0E9C-82B3-4AFE-9FE6-AB57E7EA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28800" y="44953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-360" y="48535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28800" y="48535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4C02-B6E5-4831-9E99-FCAC2DCE1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2845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8000" y="4495320"/>
            <a:ext cx="2845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6720" y="4495320"/>
            <a:ext cx="2845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-360" y="4853520"/>
            <a:ext cx="2845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8000" y="4853520"/>
            <a:ext cx="2845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6720" y="4853520"/>
            <a:ext cx="284580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D326-BCF7-40B7-A7AB-803857D3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241-79F9-4674-B0B3-235D2881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4313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28800" y="4495320"/>
            <a:ext cx="4313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D510-B31E-4625-A78D-12DEABC8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922B-25AC-456B-856F-8C5AF165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3581280"/>
            <a:ext cx="883908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ACE7-FCFE-4E3B-BAC8-48DB3442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28800" y="4495320"/>
            <a:ext cx="4313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8535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73E-948A-4F05-B71B-CE215AA4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4313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28800" y="44953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28800" y="48535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292-8077-43E4-A228-0A80BA06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8800" y="4495320"/>
            <a:ext cx="431316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853520"/>
            <a:ext cx="8839080" cy="3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E2A3-2623-43A3-A0A2-90EFEB21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1D01-3A7E-4308-9A6B-064493E4F202}" type="slidenum">
              <a:rPr b="1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5812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293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6299-96EF-4E88-87B5-F42E9EF77D20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ctr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6629400" cy="43880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-7632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d293"/>
                </a:solidFill>
                <a:latin typeface="Tahoma"/>
              </a:rPr>
              <a:t>Bài 9. VÌ SAO CẦN CÓ HỆ ĐIỀU HÀN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2057400"/>
            <a:ext cx="5181480" cy="2590920"/>
          </a:xfrm>
          <a:prstGeom prst="irregularSeal2">
            <a:avLst/>
          </a:prstGeom>
          <a:solidFill>
            <a:srgbClr val="cc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 hãy quan s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ình ảnh giao thông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5791320"/>
            <a:ext cx="91440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ình trạng giao thông rất lộn xộ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ác phương tiện tham gia giao thông không tuân theo một quy luật nào, nhiều xe tranh chấp làn đường của xe khác, làm cho giao thông bị tắc nghẽ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609480"/>
            <a:ext cx="5105520" cy="2362320"/>
          </a:xfrm>
          <a:prstGeom prst="cloudCallout">
            <a:avLst>
              <a:gd name="adj1" fmla="val -36907"/>
              <a:gd name="adj2" fmla="val 52824"/>
            </a:avLst>
          </a:prstGeom>
          <a:solidFill>
            <a:srgbClr val="d3a21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m có nhận xét gì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ề tình trạng giao thông tại ngã t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ong hình ảnh nà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4760" y="83808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Các quan sá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71600" y="762120"/>
            <a:ext cx="6019920" cy="479088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0" y="1447920"/>
            <a:ext cx="2133360" cy="1066680"/>
            <a:chOff x="0" y="1447920"/>
            <a:chExt cx="2133360" cy="1066680"/>
          </a:xfrm>
        </p:grpSpPr>
        <p:sp>
          <p:nvSpPr>
            <p:cNvPr id="90" name=""/>
            <p:cNvSpPr/>
            <p:nvPr/>
          </p:nvSpPr>
          <p:spPr>
            <a:xfrm>
              <a:off x="0" y="1447920"/>
              <a:ext cx="2133360" cy="1066680"/>
            </a:xfrm>
            <a:prstGeom prst="wedgeRectCallout">
              <a:avLst>
                <a:gd name="adj1" fmla="val 71949"/>
                <a:gd name="adj2" fmla="val 65625"/>
              </a:avLst>
            </a:prstGeom>
            <a:solidFill>
              <a:srgbClr val="cc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1200" y="1600200"/>
              <a:ext cx="141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Hệ thống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phân luồ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7391520" y="228600"/>
            <a:ext cx="1752480" cy="914400"/>
            <a:chOff x="7391520" y="228600"/>
            <a:chExt cx="1752480" cy="914400"/>
          </a:xfrm>
        </p:grpSpPr>
        <p:sp>
          <p:nvSpPr>
            <p:cNvPr id="93" name=""/>
            <p:cNvSpPr/>
            <p:nvPr/>
          </p:nvSpPr>
          <p:spPr>
            <a:xfrm>
              <a:off x="7391520" y="228600"/>
              <a:ext cx="1752480" cy="914400"/>
            </a:xfrm>
            <a:prstGeom prst="wedgeRectCallout">
              <a:avLst>
                <a:gd name="adj1" fmla="val -90759"/>
                <a:gd name="adj2" fmla="val 85592"/>
              </a:avLst>
            </a:prstGeom>
            <a:solidFill>
              <a:srgbClr val="cc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18600" y="380880"/>
              <a:ext cx="146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Hệ thống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đèn tín hiệ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7086600" y="4419720"/>
            <a:ext cx="2057040" cy="838080"/>
            <a:chOff x="7086600" y="4419720"/>
            <a:chExt cx="2057040" cy="838080"/>
          </a:xfrm>
        </p:grpSpPr>
        <p:sp>
          <p:nvSpPr>
            <p:cNvPr id="96" name=""/>
            <p:cNvSpPr/>
            <p:nvPr/>
          </p:nvSpPr>
          <p:spPr>
            <a:xfrm>
              <a:off x="7086600" y="4419720"/>
              <a:ext cx="2057040" cy="838080"/>
            </a:xfrm>
            <a:prstGeom prst="wedgeRectCallout">
              <a:avLst>
                <a:gd name="adj1" fmla="val -99148"/>
                <a:gd name="adj2" fmla="val 22916"/>
              </a:avLst>
            </a:prstGeom>
            <a:solidFill>
              <a:srgbClr val="cc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71280" y="4495680"/>
              <a:ext cx="135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Cảnh sát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giao thô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-7632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d293"/>
                </a:solidFill>
                <a:latin typeface="Tahoma"/>
              </a:rPr>
              <a:t>Bài 9. VÌ SAO CẦN CÓ HỆ ĐIỀU HÀN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1600200"/>
            <a:ext cx="5181840" cy="2590920"/>
          </a:xfrm>
          <a:prstGeom prst="irregularSeal2">
            <a:avLst/>
          </a:prstGeom>
          <a:solidFill>
            <a:srgbClr val="cc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m hãy quan s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ình ảnh giao thông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à cho nhận xé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1523880"/>
            <a:ext cx="5181480" cy="2590920"/>
          </a:xfrm>
          <a:prstGeom prst="irregularSeal2">
            <a:avLst/>
          </a:prstGeom>
          <a:solidFill>
            <a:srgbClr val="cc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Điều gì đã khiến cho giao thô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ật tự, ổn định hơ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2438280"/>
            <a:ext cx="3124440" cy="800280"/>
          </a:xfrm>
          <a:prstGeom prst="flowChartPunchedTape">
            <a:avLst/>
          </a:prstGeom>
          <a:solidFill>
            <a:srgbClr val="cc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ệ thống điều khi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789160"/>
            <a:ext cx="85345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ao thông trật tự hơn, các phương tiện đi đúng làn đường của mìn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hông xảy ra tình trạng tắc nghẽn giao thô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948 0.03815 C -0.1217 0.03885 -0.1599 0.03376 -0.1849 0.04578 C -0.19688 0.0518 -0.22118 0.06128 -0.22118 0.06151 C -0.23143 0.06844 -0.24045 0.07237 -0.25243 0.0763 C -0.26059 0.08232 -0.27118 0.08717 -0.2757 0.09688 C -0.27795 0.10151 -0.28108 0.11191 -0.28108 0.11214 C -0.28247 0.15052 -0.2717 0.18313 -0.29931 0.20856 C -0.30348 0.22081 -0.31059 0.22752 -0.32257 0.23145 C -0.33021 0.23654 -0.33559 0.24417 -0.34323 0.24925 C -0.36476 0.26336 -0.39427 0.27746 -0.42084 0.27746 E">
                                      <p:cBhvr>
                                        <p:cTn id="9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5 -0.01549 C -0.11476 -0.02382 -0.13229 -0.04254 -0.13976 -0.05572 C -0.15347 -0.07977 -0.14288 -0.0726 -0.16059 -0.09087 C -0.16632 -0.09688 -0.17344 -0.10104 -0.17899 -0.10728 C -0.19479 -0.12462 -0.20712 -0.14613 -0.22292 -0.16347 C -0.23924 -0.18173 -0.2599 -0.20555 -0.2783 -0.22243 C -0.29271 -0.23584 -0.2875 -0.22798 -0.30139 -0.24347 C -0.31597 -0.25965 -0.32205 -0.28254 -0.34045 -0.29503 C -0.34514 -0.3022 -0.34826 -0.31006 -0.35434 -0.3163 C -0.36042 -0.31561 -0.36667 -0.31538 -0.37274 -0.31422 C -0.38003 -0.3126 -0.38802 -0.30682 -0.39583 -0.30682 E">
                                      <p:cBhvr>
                                        <p:cTn id="9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1329E-006 C 0.00972 0.0007 0.01961 0.0007 0.02916 0.00301 C 0.03316 0.00394 0.03646 0.00787 0.04062 0.00833 C 0.09323 0.01758 0.14948 0.01989 0.20312 0.02498 C 0.25121 0.03631 0.30173 0.04139 0.35121 0.0444 C 0.35833 0.06405 0.35416 0.04995 0.35416 0.08879 E">
                                      <p:cBhvr>
                                        <p:cTn id="99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1752480"/>
            <a:ext cx="6248160" cy="3810240"/>
          </a:xfrm>
          <a:prstGeom prst="irregularSeal2">
            <a:avLst/>
          </a:prstGeom>
          <a:solidFill>
            <a:srgbClr val="cc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a hãy xé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ệ thống máy tính gồm các thiết b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ần cứng và phần mề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2057400"/>
            <a:ext cx="5334120" cy="2730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459000">
            <a:off x="6306840" y="1479240"/>
            <a:ext cx="1805040" cy="1298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 rot="461400">
            <a:off x="6475320" y="2522160"/>
            <a:ext cx="1978200" cy="1416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 rot="462600">
            <a:off x="6616800" y="3661920"/>
            <a:ext cx="2071440" cy="1443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8600" y="1371600"/>
            <a:ext cx="1676520" cy="685800"/>
          </a:xfrm>
          <a:prstGeom prst="wedgeRectCallout">
            <a:avLst>
              <a:gd name="adj1" fmla="val 78597"/>
              <a:gd name="adj2" fmla="val 138194"/>
            </a:avLst>
          </a:prstGeom>
          <a:solidFill>
            <a:srgbClr val="ff99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ác thiết bị phần cứ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1447920"/>
            <a:ext cx="1828800" cy="457200"/>
          </a:xfrm>
          <a:prstGeom prst="wedgeRectCallout">
            <a:avLst>
              <a:gd name="adj1" fmla="val -45398"/>
              <a:gd name="adj2" fmla="val 175000"/>
            </a:avLst>
          </a:prstGeom>
          <a:solidFill>
            <a:srgbClr val="ff99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ác phần mề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7600" y="838080"/>
            <a:ext cx="36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Cái gì điều khiển máy tín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7632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d293"/>
                </a:solidFill>
                <a:latin typeface="Tahoma"/>
              </a:rPr>
              <a:t>Bài 9. VÌ SAO CẦN CÓ HỆ ĐIỀU HÀN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5562720"/>
            <a:ext cx="7543800" cy="1143000"/>
          </a:xfrm>
          <a:prstGeom prst="upArrowCallout">
            <a:avLst>
              <a:gd name="adj1" fmla="val 165015"/>
              <a:gd name="adj2" fmla="val 165000"/>
              <a:gd name="adj3" fmla="val 16667"/>
              <a:gd name="adj4" fmla="val 66660"/>
            </a:avLst>
          </a:pr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hi máy tính làm việc, nhiều thiết bị phần cứng và phần mề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ùng hoạt động và tham gia vào quá trình xử lí thông t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1295280"/>
            <a:ext cx="6553080" cy="3810240"/>
          </a:xfrm>
          <a:prstGeom prst="cloudCallout">
            <a:avLst>
              <a:gd name="adj1" fmla="val 33527"/>
              <a:gd name="adj2" fmla="val 66166"/>
            </a:avLst>
          </a:prstGeom>
          <a:gradFill rotWithShape="0">
            <a:gsLst>
              <a:gs pos="0">
                <a:srgbClr val="5e1700"/>
              </a:gs>
              <a:gs pos="50000">
                <a:srgbClr val="cc3300"/>
              </a:gs>
              <a:gs pos="100000">
                <a:srgbClr val="5e17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Để phần cứ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à phần mềm hoạt độ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hịp nhàng cần có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ột hệ thố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điều khiể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đó là gì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981080"/>
            <a:ext cx="8457840" cy="3581280"/>
            <a:chOff x="457200" y="1981080"/>
            <a:chExt cx="8457840" cy="3581280"/>
          </a:xfrm>
        </p:grpSpPr>
        <p:grpSp>
          <p:nvGrpSpPr>
            <p:cNvPr id="115" name=""/>
            <p:cNvGrpSpPr/>
            <p:nvPr/>
          </p:nvGrpSpPr>
          <p:grpSpPr>
            <a:xfrm>
              <a:off x="457200" y="1981080"/>
              <a:ext cx="8457840" cy="3581280"/>
              <a:chOff x="457200" y="1981080"/>
              <a:chExt cx="8457840" cy="3581280"/>
            </a:xfrm>
          </p:grpSpPr>
          <p:sp>
            <p:nvSpPr>
              <p:cNvPr id="116" name=""/>
              <p:cNvSpPr/>
              <p:nvPr/>
            </p:nvSpPr>
            <p:spPr>
              <a:xfrm>
                <a:off x="457200" y="1981080"/>
                <a:ext cx="8457840" cy="3581280"/>
              </a:xfrm>
              <a:prstGeom prst="vertic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800000"/>
                  </a:gs>
                  <a:gs pos="100000">
                    <a:srgbClr val="5c1f00"/>
                  </a:gs>
                </a:gsLst>
                <a:lin ang="5400000"/>
              </a:gra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192560" y="204156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042920" y="2814480"/>
              <a:ext cx="7189920" cy="20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15000"/>
                </a:lnSpc>
                <a:spcBef>
                  <a:spcPts val="451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Hệ điều hành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thực hiện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15000"/>
                </a:lnSpc>
                <a:spcBef>
                  <a:spcPts val="451"/>
                </a:spcBef>
                <a:spcAft>
                  <a:spcPts val="451"/>
                </a:spcAft>
                <a:buClr>
                  <a:srgbClr val="ffffff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Điều khiển các thiết bị (phần cứng)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15000"/>
                </a:lnSpc>
                <a:spcBef>
                  <a:spcPts val="451"/>
                </a:spcBef>
                <a:spcAft>
                  <a:spcPts val="451"/>
                </a:spcAft>
                <a:buClr>
                  <a:srgbClr val="ffffff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Tổ chức thực hiện các chương trình (phần mềm)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990240" y="2057400"/>
            <a:ext cx="20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ahoma"/>
              </a:rPr>
              <a:t>HỆ ĐIỀU HÀN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00400" y="15238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ết thúc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09960" y="2614680"/>
            <a:ext cx="1776600" cy="2185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2:01:01Z</dcterms:created>
  <dc:creator>VietDB</dc:creator>
  <dc:description/>
  <dc:language>en-US</dc:language>
  <cp:lastModifiedBy>thuy</cp:lastModifiedBy>
  <dcterms:modified xsi:type="dcterms:W3CDTF">2007-05-13T01:32:09Z</dcterms:modified>
  <cp:revision>162</cp:revision>
  <dc:subject/>
  <dc:title>Slide 1</dc:title>
</cp:coreProperties>
</file>