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4645-E045-4C96-BAC5-2A07D09A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DAA6-5253-4E41-BD82-83D238F1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D29B-8DA8-48F0-ADF7-7C79FD844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71D6-C0B5-4817-9F1E-E0A961B76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1825-F5F2-4220-A35C-6EED128A6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DB59-C3E1-4C87-BFF0-A0E001D1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AF03-DB67-4B1E-B492-8201932E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9B55-68D6-461D-9C11-C956B115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EFB2-75AD-4F1A-AF8A-F2E9B7D9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BEE5-EC48-4901-99F5-C7D720FD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0541-B609-4B01-BA5F-55ADC1BA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DE10-C82F-4E4D-B7D1-8448E3EE9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D58E-63C8-4358-B966-E9B8E6C8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3CF6-69E0-4380-8793-19EF5128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973E-8F3D-4E25-979B-3CE562EE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4BF8-F6C6-4964-ACA1-1D6A0CF1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AD89-0DC1-468E-8922-D501BCE03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AADD-3D13-41AF-9552-DE223D49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74CF-0F44-4797-B9E0-D5931833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1C58-3366-4BC5-9CF4-44A50358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4B1C-BC58-4668-8A63-6A106D43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8712-C359-4F70-87BF-1D785BA2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E977-2C5A-4952-9008-B78EF6E0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1145-4BA9-41BD-A34E-C93AD9EF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444C-58FB-4003-93A0-2D4D593B045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F0CC-8CCD-4788-AF95-5D8F2C9BC99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7880" y="228600"/>
            <a:ext cx="2224440" cy="459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iểm tra bài c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2440" y="838080"/>
            <a:ext cx="735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Times New Roman"/>
              </a:rPr>
              <a:t>Nêu ý nghĩa của các nút lệnh được đánh số trên thanh công cụ sa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80880" y="1447920"/>
            <a:ext cx="7848720" cy="1600200"/>
            <a:chOff x="380880" y="1447920"/>
            <a:chExt cx="7848720" cy="1600200"/>
          </a:xfrm>
        </p:grpSpPr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380880" y="1981440"/>
              <a:ext cx="78487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1676520" y="1447920"/>
              <a:ext cx="457200" cy="381240"/>
            </a:xfrm>
            <a:prstGeom prst="wedgeRectCallout">
              <a:avLst>
                <a:gd name="adj1" fmla="val 42013"/>
                <a:gd name="adj2" fmla="val 106666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ef66"/>
                </a:gs>
                <a:gs pos="100000">
                  <a:srgbClr val="ff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66880" y="1447920"/>
              <a:ext cx="457200" cy="381240"/>
            </a:xfrm>
            <a:prstGeom prst="wedgeRectCallout">
              <a:avLst>
                <a:gd name="adj1" fmla="val 42013"/>
                <a:gd name="adj2" fmla="val 106666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ef66"/>
                </a:gs>
                <a:gs pos="100000">
                  <a:srgbClr val="ff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15200" y="1447920"/>
              <a:ext cx="457200" cy="381240"/>
            </a:xfrm>
            <a:prstGeom prst="wedgeRectCallout">
              <a:avLst>
                <a:gd name="adj1" fmla="val 42013"/>
                <a:gd name="adj2" fmla="val 106666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ef66"/>
                </a:gs>
                <a:gs pos="100000">
                  <a:srgbClr val="ff0000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71800" y="2667240"/>
              <a:ext cx="457200" cy="380880"/>
            </a:xfrm>
            <a:prstGeom prst="wedgeRectCallout">
              <a:avLst>
                <a:gd name="adj1" fmla="val 76736"/>
                <a:gd name="adj2" fmla="val -130000"/>
              </a:avLst>
            </a:prstGeom>
            <a:gradFill rotWithShape="0">
              <a:gsLst>
                <a:gs pos="0">
                  <a:srgbClr val="9900cc"/>
                </a:gs>
                <a:gs pos="50000">
                  <a:srgbClr val="99ff99"/>
                </a:gs>
                <a:gs pos="100000">
                  <a:srgbClr val="9900c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81280" y="2667240"/>
              <a:ext cx="457200" cy="380880"/>
            </a:xfrm>
            <a:prstGeom prst="wedgeRectCallout">
              <a:avLst>
                <a:gd name="adj1" fmla="val 7291"/>
                <a:gd name="adj2" fmla="val -140833"/>
              </a:avLst>
            </a:prstGeom>
            <a:gradFill rotWithShape="0">
              <a:gsLst>
                <a:gs pos="0">
                  <a:srgbClr val="9900cc"/>
                </a:gs>
                <a:gs pos="50000">
                  <a:srgbClr val="99ff99"/>
                </a:gs>
                <a:gs pos="100000">
                  <a:srgbClr val="9900c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91120" y="2667240"/>
              <a:ext cx="457200" cy="380880"/>
            </a:xfrm>
            <a:prstGeom prst="wedgeRectCallout">
              <a:avLst>
                <a:gd name="adj1" fmla="val -50000"/>
                <a:gd name="adj2" fmla="val -137083"/>
              </a:avLst>
            </a:prstGeom>
            <a:gradFill rotWithShape="0">
              <a:gsLst>
                <a:gs pos="0">
                  <a:srgbClr val="9900cc"/>
                </a:gs>
                <a:gs pos="50000">
                  <a:srgbClr val="99ff99"/>
                </a:gs>
                <a:gs pos="100000">
                  <a:srgbClr val="9900c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270160" y="3679920"/>
            <a:ext cx="458784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: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ộp chọn phông ch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:  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Hộp chọn cỡ ch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: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hữ đ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:  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Chữ nghiê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: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hữ gạch châ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:  </a:t>
            </a:r>
            <a:r>
              <a:rPr b="0" lang="en-US" sz="2400" spc="-1" strike="noStrike">
                <a:solidFill>
                  <a:srgbClr val="9900cc"/>
                </a:solidFill>
                <a:latin typeface="Times New Roman"/>
              </a:rPr>
              <a:t>Hộp chọn màu ch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757600" y="3809880"/>
            <a:ext cx="2666880" cy="442800"/>
            <a:chOff x="2757600" y="3809880"/>
            <a:chExt cx="2666880" cy="442800"/>
          </a:xfrm>
        </p:grpSpPr>
        <p:sp>
          <p:nvSpPr>
            <p:cNvPr id="162" name=""/>
            <p:cNvSpPr/>
            <p:nvPr/>
          </p:nvSpPr>
          <p:spPr>
            <a:xfrm>
              <a:off x="2757600" y="3809880"/>
              <a:ext cx="266688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57600" y="4164480"/>
              <a:ext cx="2666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757600" y="4281480"/>
            <a:ext cx="2666880" cy="380880"/>
            <a:chOff x="2757600" y="4281480"/>
            <a:chExt cx="2666880" cy="380880"/>
          </a:xfrm>
        </p:grpSpPr>
        <p:sp>
          <p:nvSpPr>
            <p:cNvPr id="165" name=""/>
            <p:cNvSpPr/>
            <p:nvPr/>
          </p:nvSpPr>
          <p:spPr>
            <a:xfrm>
              <a:off x="2757600" y="4281480"/>
              <a:ext cx="26668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57600" y="4586400"/>
              <a:ext cx="2666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757600" y="4710240"/>
            <a:ext cx="2666880" cy="380880"/>
            <a:chOff x="2757600" y="4710240"/>
            <a:chExt cx="2666880" cy="380880"/>
          </a:xfrm>
        </p:grpSpPr>
        <p:sp>
          <p:nvSpPr>
            <p:cNvPr id="168" name=""/>
            <p:cNvSpPr/>
            <p:nvPr/>
          </p:nvSpPr>
          <p:spPr>
            <a:xfrm>
              <a:off x="2757600" y="4710240"/>
              <a:ext cx="26668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57600" y="5015160"/>
              <a:ext cx="2666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57600" y="5153040"/>
            <a:ext cx="2666880" cy="380880"/>
            <a:chOff x="2757600" y="5153040"/>
            <a:chExt cx="2666880" cy="380880"/>
          </a:xfrm>
        </p:grpSpPr>
        <p:sp>
          <p:nvSpPr>
            <p:cNvPr id="171" name=""/>
            <p:cNvSpPr/>
            <p:nvPr/>
          </p:nvSpPr>
          <p:spPr>
            <a:xfrm>
              <a:off x="2757600" y="5153040"/>
              <a:ext cx="26668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57600" y="5457960"/>
              <a:ext cx="2666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757600" y="5576760"/>
            <a:ext cx="2666880" cy="380880"/>
            <a:chOff x="2757600" y="5576760"/>
            <a:chExt cx="2666880" cy="380880"/>
          </a:xfrm>
        </p:grpSpPr>
        <p:sp>
          <p:nvSpPr>
            <p:cNvPr id="174" name=""/>
            <p:cNvSpPr/>
            <p:nvPr/>
          </p:nvSpPr>
          <p:spPr>
            <a:xfrm>
              <a:off x="2757600" y="5576760"/>
              <a:ext cx="26668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57600" y="5881680"/>
              <a:ext cx="2666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743200" y="6019920"/>
            <a:ext cx="2666880" cy="380880"/>
            <a:chOff x="2743200" y="6019920"/>
            <a:chExt cx="2666880" cy="380880"/>
          </a:xfrm>
        </p:grpSpPr>
        <p:sp>
          <p:nvSpPr>
            <p:cNvPr id="177" name=""/>
            <p:cNvSpPr/>
            <p:nvPr/>
          </p:nvSpPr>
          <p:spPr>
            <a:xfrm>
              <a:off x="2743200" y="6019920"/>
              <a:ext cx="26668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43200" y="6324840"/>
              <a:ext cx="2666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449280" y="3276720"/>
            <a:ext cx="41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</a:rPr>
              <a:t>Trả lời: Ý nghĩa của từng nút lệnh l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095880" y="3733920"/>
            <a:ext cx="20955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304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Bài 16. ĐỊNH DẠNG ĐOẠN VĂN BẢ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8960" y="990000"/>
            <a:ext cx="50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Times New Roman"/>
              </a:rPr>
              <a:t>3.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Định dạng đoạn văn bằng hộp thoại Paragrap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219320" y="1428840"/>
            <a:ext cx="72388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304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Bài 16. ĐỊNH DẠNG ĐOẠN VĂN BẢ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960" y="990000"/>
            <a:ext cx="50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Times New Roman"/>
              </a:rPr>
              <a:t>3.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Định dạng đoạn văn bằng hộp thoại Paragrap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04920" y="196920"/>
            <a:ext cx="838188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59500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8" dur="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580920" y="1752480"/>
            <a:ext cx="182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ết thúc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124080" y="251460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304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Bài 16. ĐỊNH DẠNG ĐOẠN VĂN BẢ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9680" y="99000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1. Định dạng đoạn vă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1437480"/>
            <a:ext cx="8305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9900cc"/>
                </a:solidFill>
                <a:latin typeface="Times New Roman"/>
              </a:rPr>
              <a:t>Định dạng đoạn văn</a:t>
            </a:r>
            <a:r>
              <a:rPr b="0" lang="pt-BR" sz="2100" spc="-1" strike="noStrike">
                <a:solidFill>
                  <a:srgbClr val="9900cc"/>
                </a:solidFill>
                <a:latin typeface="Times New Roman"/>
              </a:rPr>
              <a:t> là thay đổi các tính chất sau đây của đoạn văn bản 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94600" y="2048760"/>
            <a:ext cx="6289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Kiểu căn lề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Vị trí lề của cả đoạn văn bản so với toàn tra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cc"/>
                </a:solidFill>
                <a:latin typeface="Times New Roman"/>
              </a:rPr>
              <a:t>Khoảng cách lề của dòng đầu tiê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3366"/>
                </a:solidFill>
                <a:latin typeface="Times New Roman"/>
              </a:rPr>
              <a:t>Khoảng cách đến đoạn văn trên hoặc dướ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cc"/>
                </a:solidFill>
                <a:latin typeface="Times New Roman"/>
              </a:rPr>
              <a:t>Khoảng cách giữa các dòng trong đoạn vă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33520" y="2054880"/>
            <a:ext cx="7467120" cy="2745360"/>
            <a:chOff x="533520" y="2054880"/>
            <a:chExt cx="7467120" cy="2745360"/>
          </a:xfrm>
        </p:grpSpPr>
        <p:grpSp>
          <p:nvGrpSpPr>
            <p:cNvPr id="186" name=""/>
            <p:cNvGrpSpPr/>
            <p:nvPr/>
          </p:nvGrpSpPr>
          <p:grpSpPr>
            <a:xfrm>
              <a:off x="533520" y="2054880"/>
              <a:ext cx="7467120" cy="2745360"/>
              <a:chOff x="533520" y="2054880"/>
              <a:chExt cx="7467120" cy="2745360"/>
            </a:xfrm>
          </p:grpSpPr>
          <p:sp>
            <p:nvSpPr>
              <p:cNvPr id="187" name=""/>
              <p:cNvSpPr/>
              <p:nvPr/>
            </p:nvSpPr>
            <p:spPr>
              <a:xfrm>
                <a:off x="533520" y="2125800"/>
                <a:ext cx="7467120" cy="2674440"/>
              </a:xfrm>
              <a:prstGeom prst="verticalScroll">
                <a:avLst>
                  <a:gd name="adj" fmla="val 12500"/>
                </a:avLst>
              </a:prstGeom>
              <a:gradFill rotWithShape="0">
                <a:gsLst>
                  <a:gs pos="0">
                    <a:srgbClr val="9900cc"/>
                  </a:gs>
                  <a:gs pos="100000">
                    <a:srgbClr val="ffef66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593520" y="2054880"/>
                <a:ext cx="13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000000"/>
                    </a:solidFill>
                    <a:latin typeface="Times New Roman"/>
                  </a:rPr>
                  <a:t>Nhận xé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1066680" y="2515320"/>
              <a:ext cx="6324120" cy="17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pt-BR" sz="2800" spc="-1" strike="noStrike">
                  <a:solidFill>
                    <a:srgbClr val="000000"/>
                  </a:solidFill>
                  <a:latin typeface="Times New Roman"/>
                </a:rPr>
                <a:t>Khác với định dạng kí tự, định dạng đoạn văn tác động đến </a:t>
              </a:r>
              <a:r>
                <a:rPr b="1" i="1" lang="pt-BR" sz="2800" spc="-1" strike="noStrike">
                  <a:solidFill>
                    <a:srgbClr val="003366"/>
                  </a:solidFill>
                  <a:latin typeface="Times New Roman"/>
                </a:rPr>
                <a:t>toàn bộ đoạn văn bản</a:t>
              </a:r>
              <a:r>
                <a:rPr b="0" lang="pt-BR" sz="2800" spc="-1" strike="noStrike">
                  <a:solidFill>
                    <a:srgbClr val="000000"/>
                  </a:solidFill>
                  <a:latin typeface="Times New Roman"/>
                </a:rPr>
                <a:t> mà </a:t>
              </a:r>
              <a:r>
                <a:rPr b="1" lang="pt-BR" sz="2800" spc="-1" strike="noStrike">
                  <a:solidFill>
                    <a:srgbClr val="cc3300"/>
                  </a:solidFill>
                  <a:latin typeface="Times New Roman"/>
                </a:rPr>
                <a:t>con trỏ soạn thảo đang ở đó</a:t>
              </a:r>
              <a:r>
                <a:rPr b="0" lang="pt-BR" sz="28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304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Bài 16. ĐỊNH DẠNG ĐOẠN VĂN BẢ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9680" y="99000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1. Định dạng đoạn vă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077320" cy="42688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594160" y="5718240"/>
            <a:ext cx="40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Các dạng căn lề đoạn văn bả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304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Bài 16. ĐỊNH DẠNG ĐOẠN VĂN BẢ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9680" y="99000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1. Định dạng đoạn vă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89840" y="5843520"/>
            <a:ext cx="427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Khoảng cách giữa các đoạn vă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và giữa các dòng trong một đoạn vă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467480" cy="42735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715000" y="4267080"/>
            <a:ext cx="2095560" cy="21909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143000" y="1420920"/>
            <a:ext cx="6021360" cy="2399040"/>
          </a:xfrm>
          <a:prstGeom prst="cloudCallout">
            <a:avLst>
              <a:gd name="adj1" fmla="val 29398"/>
              <a:gd name="adj2" fmla="val 71393"/>
            </a:avLst>
          </a:prstGeom>
          <a:gradFill rotWithShape="0">
            <a:gsLst>
              <a:gs pos="0">
                <a:srgbClr val="0000cc"/>
              </a:gs>
              <a:gs pos="50000">
                <a:srgbClr val="99ccff"/>
              </a:gs>
              <a:gs pos="100000">
                <a:srgbClr val="0000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Vậy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, làm thế nào để định dạng được đoạn văn bản như trên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304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Bài 16. ĐỊNH DẠNG ĐOẠN VĂN BẢ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4560" y="1065960"/>
            <a:ext cx="48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Times New Roman"/>
              </a:rPr>
              <a:t>2. Sử dụng các nút lệnh để định dạng đoạn văn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9600" y="1639800"/>
            <a:ext cx="8153280" cy="14104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Để thực hiện định dạng đoạn văn, em chỉ cần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đưa con trỏ soạn thảo vào đoạn văn bản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à sử dụng các nút lệnh trên thanh công cụ định dạn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7848720" cy="469800"/>
          </a:xfrm>
          <a:prstGeom prst="rect">
            <a:avLst/>
          </a:prstGeom>
          <a:ln w="0">
            <a:noFill/>
          </a:ln>
        </p:spPr>
      </p:pic>
      <p:grpSp>
        <p:nvGrpSpPr>
          <p:cNvPr id="204" name=""/>
          <p:cNvGrpSpPr/>
          <p:nvPr/>
        </p:nvGrpSpPr>
        <p:grpSpPr>
          <a:xfrm>
            <a:off x="4324320" y="4148280"/>
            <a:ext cx="990720" cy="506160"/>
            <a:chOff x="4324320" y="4148280"/>
            <a:chExt cx="990720" cy="506160"/>
          </a:xfrm>
        </p:grpSpPr>
        <p:sp>
          <p:nvSpPr>
            <p:cNvPr id="205" name=""/>
            <p:cNvSpPr/>
            <p:nvPr/>
          </p:nvSpPr>
          <p:spPr>
            <a:xfrm flipH="1" rot="16200000">
              <a:off x="4743360" y="3728880"/>
              <a:ext cx="152280" cy="9907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20800" y="4286160"/>
              <a:ext cx="81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ăn l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15160" y="4143240"/>
            <a:ext cx="2501640" cy="515880"/>
            <a:chOff x="5915160" y="4143240"/>
            <a:chExt cx="2501640" cy="515880"/>
          </a:xfrm>
        </p:grpSpPr>
        <p:sp>
          <p:nvSpPr>
            <p:cNvPr id="208" name=""/>
            <p:cNvSpPr/>
            <p:nvPr/>
          </p:nvSpPr>
          <p:spPr>
            <a:xfrm>
              <a:off x="5915160" y="4290840"/>
              <a:ext cx="250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hay đổi lề cả đoạn vă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rot="16200000">
              <a:off x="6557760" y="3952800"/>
              <a:ext cx="152640" cy="533520"/>
            </a:xfrm>
            <a:custGeom>
              <a:avLst/>
              <a:gdLst>
                <a:gd name="textAreaLeft" fmla="*/ 360 w 152640"/>
                <a:gd name="textAreaRight" fmla="*/ 55440 w 15264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181480" y="5181480"/>
            <a:ext cx="1752840" cy="609840"/>
          </a:xfrm>
          <a:prstGeom prst="wedgeRectCallout">
            <a:avLst>
              <a:gd name="adj1" fmla="val -30708"/>
              <a:gd name="adj2" fmla="val -246615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Giãn cách dòng trong đoạn vă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304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Bài 16. ĐỊNH DẠNG ĐOẠN VĂN BẢ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4560" y="1065960"/>
            <a:ext cx="48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Times New Roman"/>
              </a:rPr>
              <a:t>2. Sử dụng các nút lệnh để định dạng đoạn văn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7200" y="3581280"/>
            <a:ext cx="8001000" cy="2907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77724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304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Bài 16. ĐỊNH DẠNG ĐOẠN VĂN BẢ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79640" y="634248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Ví dụ căn lề đoạn văn bả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5715000"/>
            <a:ext cx="22096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35000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4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304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Bài 16. ĐỊNH DẠNG ĐOẠN VĂN BẢ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5715000"/>
            <a:ext cx="22096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628164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Ví dụ thay đổi khoảng cách giữa các dòng trong đoạn văn bả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và tăng / giảm mức thụt lề trá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5328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52500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5" dur="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304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Bài 16. ĐỊNH DẠNG ĐOẠN VĂN BẢ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8960" y="1142280"/>
            <a:ext cx="50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Times New Roman"/>
              </a:rPr>
              <a:t>3.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Định dạng đoạn văn bằng hộp thoại Paragrap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1873080"/>
            <a:ext cx="8001000" cy="96840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100000">
                <a:srgbClr val="ffef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ộp thoại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aragraph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(Đoạn văn bản) được dùng đ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ăng hay giảm khoảng cách giữa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ác đoạn văn bản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3144960"/>
            <a:ext cx="8001000" cy="971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ef66"/>
              </a:gs>
              <a:gs pos="100000">
                <a:srgbClr val="99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Cách mở: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Đặt con trỏ soạn thảo vào đoạn văn cần định dạng và mở hộp thoại Paragraph bằng lệnh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Forma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Paragraph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huy</cp:lastModifiedBy>
  <dcterms:modified xsi:type="dcterms:W3CDTF">2007-05-16T10:18:45Z</dcterms:modified>
  <cp:revision>1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