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49D-9D77-4AE6-B2FB-2FA6F7BC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AD10-A47D-4A1F-8ED4-2CB4723D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C5F-0C19-41AF-AB22-02511597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C3A-086A-469A-B28E-8ABD59C1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FB2F-4660-428F-A009-527901C0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7F56-9A1E-4DE3-87DB-7C274A9A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B78D-0C1C-45CB-B2B1-4A52D6D3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B29E-BCCF-45EB-89D5-69368550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F77-20EE-442E-8FF5-3599E0CD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8E4-0F75-401B-9CF1-73696298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4E2B-B0E8-427F-A0FC-A3F46AEE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CD22-8583-4D89-86A1-D6F7BAC1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DFB7-7C19-4D26-99EC-BB91E7FF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729D-64A1-4143-9BB1-DD6ED7F6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38A9-CE64-4438-850E-5B705BA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72B0-44F9-4474-8F5C-033766B8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EC50-30E0-42D0-B6CE-30F67574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7C0-9AC2-4C7F-ACA0-9E549C08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C6-B88D-4C39-B2D3-76A73E2F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218-F891-4B77-A3D1-15EC7BE4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281-4B3D-4734-A02C-6ED75BCC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D72-3997-4FB7-B4CB-8D85333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F1B0-CF62-4B4E-84F2-1E7F8F5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305-E251-4B86-878E-D3BCC97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B0F-B432-4A1F-91EC-2E4908DEA4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FE1B-14E8-4657-8276-608F07A477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1960" y="11422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văn bả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1597680"/>
            <a:ext cx="83059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</a:rPr>
              <a:t>Định dạng văn bản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là thay đổi kiểu dáng, vị trí của các kí tự (con chữ, số, kí hiệu), các đoạn văn bản và các đối tượng khác trên tra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để văn bản dễ đọc, trang văn bản có bố cục đẹp và người đọc dễ ghi nhớ các nội dung cần thiế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187920" y="4167360"/>
            <a:ext cx="93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Định dạng văn bản gồm hai loại: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Định dạng kí tự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và </a:t>
            </a:r>
            <a:r>
              <a:rPr b="0" lang="it-IT" sz="2000" spc="-1" strike="noStrike">
                <a:solidFill>
                  <a:srgbClr val="0000cc"/>
                </a:solidFill>
                <a:latin typeface="Comic Sans MS"/>
              </a:rPr>
              <a:t>định dạng đoạn văn bả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736800" y="1752480"/>
            <a:ext cx="161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Kết thú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124080" y="2438280"/>
            <a:ext cx="25718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1960" y="11422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1. Định dạng văn bả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53000" y="1811880"/>
            <a:ext cx="6719400" cy="1617120"/>
            <a:chOff x="1053000" y="1811880"/>
            <a:chExt cx="6719400" cy="1617120"/>
          </a:xfrm>
        </p:grpSpPr>
        <p:grpSp>
          <p:nvGrpSpPr>
            <p:cNvPr id="157" name=""/>
            <p:cNvGrpSpPr/>
            <p:nvPr/>
          </p:nvGrpSpPr>
          <p:grpSpPr>
            <a:xfrm>
              <a:off x="1053000" y="1811880"/>
              <a:ext cx="6719400" cy="1617120"/>
              <a:chOff x="1053000" y="1811880"/>
              <a:chExt cx="6719400" cy="1617120"/>
            </a:xfrm>
          </p:grpSpPr>
          <p:sp>
            <p:nvSpPr>
              <p:cNvPr id="158" name=""/>
              <p:cNvSpPr/>
              <p:nvPr/>
            </p:nvSpPr>
            <p:spPr>
              <a:xfrm>
                <a:off x="1066680" y="1828800"/>
                <a:ext cx="6705720" cy="160020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ef66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53000" y="1811880"/>
                <a:ext cx="9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ưu ý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143000" y="2079720"/>
              <a:ext cx="65214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Nên định dạng văn bản sau khi đã soạn thảo xong toàn bộ phần nội dung của văn bản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4419720"/>
            <a:ext cx="167472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6680" y="3579120"/>
            <a:ext cx="6782040" cy="1849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50000">
                <a:srgbClr val="ffffff"/>
              </a:gs>
              <a:gs pos="100000">
                <a:srgbClr val="99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í 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ứ nhất, để tiết kiệm thời g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ứ hai, sẽ giúp cho văn bản có một  định dạng thống nhất, hợp lí, không phải chỉnh sửa lại nhiều lầ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057400"/>
            <a:ext cx="3962520" cy="1981080"/>
          </a:xfrm>
          <a:prstGeom prst="cloudCallout">
            <a:avLst>
              <a:gd name="adj1" fmla="val -44953"/>
              <a:gd name="adj2" fmla="val 67148"/>
            </a:avLst>
          </a:prstGeom>
          <a:gradFill rotWithShape="0">
            <a:gsLst>
              <a:gs pos="0">
                <a:srgbClr val="ffef66"/>
              </a:gs>
              <a:gs pos="50000">
                <a:srgbClr val="cc3300"/>
              </a:gs>
              <a:gs pos="100000">
                <a:srgbClr val="ffef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ại sao lại phải như vậy nhỉ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522800"/>
            <a:ext cx="7620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9900cc"/>
                </a:solidFill>
                <a:latin typeface="Times New Roman"/>
              </a:rPr>
              <a:t>Định dạng kí tự</a:t>
            </a:r>
            <a:r>
              <a:rPr b="0" lang="en-US" sz="2200" spc="-1" strike="noStrike">
                <a:solidFill>
                  <a:srgbClr val="9900cc"/>
                </a:solidFill>
                <a:latin typeface="Times New Roman"/>
              </a:rPr>
              <a:t> là thay đổi dáng vẻ của một hay một nhóm kí t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208600"/>
            <a:ext cx="38102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Times New Roman"/>
              </a:rPr>
              <a:t>Các tính chất phổ biến gồ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44600" y="2894760"/>
            <a:ext cx="51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Phông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ủ đô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ủ đ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3413880"/>
            <a:ext cx="4839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Cỡ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Thủ đô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ủ đ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03200" y="4143960"/>
            <a:ext cx="695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Kiểu chữ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ủ đô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hủ đô  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ủ đ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00320" y="4753440"/>
            <a:ext cx="479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cc"/>
              </a:buClr>
              <a:buFont typeface="Arial"/>
              <a:buChar char="-"/>
              <a:tabLst>
                <a:tab algn="l" pos="26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Màu sắc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ủ đ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2480" y="1676520"/>
            <a:ext cx="5943600" cy="4038480"/>
          </a:xfrm>
          <a:prstGeom prst="irregularSeal1">
            <a:avLst/>
          </a:prstGeom>
          <a:gradFill rotWithShape="0">
            <a:gsLst>
              <a:gs pos="0">
                <a:srgbClr val="ffef66"/>
              </a:gs>
              <a:gs pos="50000">
                <a:srgbClr val="ffb800"/>
              </a:gs>
              <a:gs pos="100000">
                <a:srgbClr val="ffe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Mystical"/>
              </a:rPr>
              <a:t>Cã hai c¸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Mystical"/>
              </a:rPr>
              <a:t>®Ó ®Þnh d¹ng kÝ t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1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" y="1797120"/>
            <a:ext cx="8228160" cy="2025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ể thực hiện định dạng kí tự, em làm theo hai bướ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Chọn phần văn bản cần định d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Sử dụng các nút lệnh trên thanh công cụ định d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8915400" cy="533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880" y="4724280"/>
            <a:ext cx="2286000" cy="457200"/>
          </a:xfrm>
          <a:prstGeom prst="wedgeRectCallout">
            <a:avLst>
              <a:gd name="adj1" fmla="val 28958"/>
              <a:gd name="adj2" fmla="val -135416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chọn phô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4724280"/>
            <a:ext cx="685800" cy="1371600"/>
          </a:xfrm>
          <a:prstGeom prst="wedgeRectCallout">
            <a:avLst>
              <a:gd name="adj1" fmla="val 10648"/>
              <a:gd name="adj2" fmla="val -79050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ọ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05320" y="5410080"/>
            <a:ext cx="685800" cy="685800"/>
          </a:xfrm>
          <a:prstGeom prst="wedgeRectCallout">
            <a:avLst>
              <a:gd name="adj1" fmla="val -24305"/>
              <a:gd name="adj2" fmla="val -22500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ữ đ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5410080"/>
            <a:ext cx="990720" cy="685800"/>
          </a:xfrm>
          <a:prstGeom prst="wedgeRectCallout">
            <a:avLst>
              <a:gd name="adj1" fmla="val -85097"/>
              <a:gd name="adj2" fmla="val -22500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ữ nghiê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5181480"/>
            <a:ext cx="990720" cy="914400"/>
          </a:xfrm>
          <a:prstGeom prst="wedgeRectCallout">
            <a:avLst>
              <a:gd name="adj1" fmla="val -177402"/>
              <a:gd name="adj2" fmla="val -156250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ữ gạch c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4800600"/>
            <a:ext cx="2286000" cy="457200"/>
          </a:xfrm>
          <a:prstGeom prst="wedgeRectCallout">
            <a:avLst>
              <a:gd name="adj1" fmla="val 28958"/>
              <a:gd name="adj2" fmla="val -135416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ộp chọn màu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3680" y="15231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a. Sử dụng các nút lệnh: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7550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360" y="159948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cc"/>
                </a:solidFill>
                <a:latin typeface="Times New Roman"/>
              </a:rPr>
              <a:t>b. Sử dụng hộp thoại Font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1925640"/>
            <a:ext cx="7619760" cy="26593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Để định dạng kí tự ta làm theo hai bướ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. Chọn phần văn bản muốn định dạ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97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. Mở bảng chọn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chọn lệnh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à sử dụng hộp thoại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on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464080" cy="6095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490920" y="6315120"/>
            <a:ext cx="24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HỘP THOẠI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28800"/>
            <a:ext cx="1905120" cy="533520"/>
          </a:xfrm>
          <a:prstGeom prst="wedgeRectCallout">
            <a:avLst>
              <a:gd name="adj1" fmla="val 81916"/>
              <a:gd name="adj2" fmla="val -131250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phô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2362320"/>
            <a:ext cx="1905120" cy="457200"/>
          </a:xfrm>
          <a:prstGeom prst="wedgeRectCallout">
            <a:avLst>
              <a:gd name="adj1" fmla="val 19999"/>
              <a:gd name="adj2" fmla="val -138541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kiểu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590920"/>
            <a:ext cx="1905120" cy="457200"/>
          </a:xfrm>
          <a:prstGeom prst="wedgeRectCallout">
            <a:avLst>
              <a:gd name="adj1" fmla="val -59833"/>
              <a:gd name="adj2" fmla="val -184027"/>
            </a:avLst>
          </a:prstGeom>
          <a:gradFill rotWithShape="0">
            <a:gsLst>
              <a:gs pos="0">
                <a:srgbClr val="ffffff"/>
              </a:gs>
              <a:gs pos="50000">
                <a:srgbClr val="ffef6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ọn cỡ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886200"/>
            <a:ext cx="3657600" cy="457200"/>
          </a:xfrm>
          <a:prstGeom prst="wedgeRectCallout">
            <a:avLst>
              <a:gd name="adj1" fmla="val -18837"/>
              <a:gd name="adj2" fmla="val 147916"/>
            </a:avLst>
          </a:prstGeom>
          <a:gradFill rotWithShape="0">
            <a:gsLst>
              <a:gs pos="0">
                <a:srgbClr val="99ff99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ển thị kết quả định dạng ch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8950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106596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2. Định dạng kí t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4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omic Sans MS"/>
              </a:rPr>
              <a:t>Bài 16. ĐỊNH DẠNG VĂN BẢ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909080"/>
            <a:ext cx="8534520" cy="31035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ef66"/>
              </a:gs>
              <a:gs pos="100000">
                <a:srgbClr val="ffb8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cc3300"/>
                </a:solidFill>
                <a:latin typeface="Times New Roman"/>
              </a:rPr>
              <a:t>Lưu ý:</a:t>
            </a:r>
            <a:r>
              <a:rPr b="0" lang="pt-BR" sz="34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3400" spc="-1" strike="noStrike">
                <a:solidFill>
                  <a:srgbClr val="000000"/>
                </a:solidFill>
                <a:latin typeface="Times New Roman"/>
              </a:rPr>
              <a:t>Nếu không chọn trước phần văn bản nào thì các thao tác định dạng trên sẽ được áp dụng cho các kí tự sẽ được gõ vào sau đó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uy</cp:lastModifiedBy>
  <dcterms:modified xsi:type="dcterms:W3CDTF">2007-05-17T03:04:40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