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11.wmf" ContentType="image/x-wmf"/>
  <Override PartName="/ppt/media/image4.jpeg" ContentType="image/jpeg"/>
  <Override PartName="/ppt/media/image5.gif" ContentType="image/gif"/>
  <Override PartName="/ppt/media/image9.png" ContentType="image/png"/>
  <Override PartName="/ppt/media/image6.jpeg" ContentType="image/jpeg"/>
  <Override PartName="/ppt/media/image7.jpeg" ContentType="image/jpeg"/>
  <Override PartName="/ppt/media/image10.wmf" ContentType="image/x-wmf"/>
  <Override PartName="/ppt/media/image12.jpeg" ContentType="image/jpeg"/>
  <Override PartName="/ppt/media/image8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109D0-A187-410E-8D8E-F25AB23B8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3907B-C864-4E42-82A1-9A78580A4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B9B30-5993-4970-BD70-69A576F30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8CBC9-39B8-4855-B07B-9B0F371D1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83CA3-1D19-4DE9-9E9B-4724A3410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317F9-32B6-4E00-89E4-301059CDB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FE627-7A89-4E25-AFCF-4938ABC08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02C57-B603-4DDC-88B9-1EC0D31B3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E95C5-DADF-4938-AE3E-10589E829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AE7AD-2911-464E-AD25-633064ECE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9184F-381F-4CBF-A379-D263E3E3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C28D1-7235-480B-9984-71C59EA30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42693-7CE6-45ED-BC27-4ABD1584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76D12-6A4F-49AD-81A1-4B771999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FDE68-3162-43AF-8878-BBF6A62B4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41A54-BAB9-4BC2-9880-3198CEDD7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63C7B-4ECF-4193-BD73-EADDBE5B2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D9CE6-F236-4B81-A66D-E73399076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DC3BA-CD8E-4226-AB8E-6D425A468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D267C-E5AF-461A-8E80-F92AA3CDD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A06F2-BEA3-4AD7-817A-19E8A61D2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55252-E968-4E26-BE52-163C608F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5EF86-CCD1-4A30-A62C-4C9F41F0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FC6DA-A6F4-4DEF-9A7C-10F0BD23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C4513-A4E4-46FF-8030-07351F09C14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364CD-327D-4BCC-B439-1A277AE7C6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jpeg"/><Relationship Id="rId4" Type="http://schemas.openxmlformats.org/officeDocument/2006/relationships/image" Target="../media/image5.gif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1523880"/>
            <a:ext cx="205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Bài 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133720"/>
            <a:ext cx="74678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25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THÔNG TIN VÀ BIỂU DIỄN THÔNG TIN</a:t>
            </a:r>
            <a:endParaRPr b="1" lang="en-US" sz="32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095880" y="4800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225000"/>
            <a:ext cx="8382240" cy="5367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Garamond"/>
              </a:rPr>
              <a:t>Bài 2. THÔNG TIN VÀ BIỂU DIỄN THÔNG TIN</a:t>
            </a:r>
            <a:endParaRPr b="1" lang="en-US" sz="2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"/>
          <p:cNvSpPr/>
          <p:nvPr/>
        </p:nvSpPr>
        <p:spPr>
          <a:xfrm>
            <a:off x="-1440" y="1219320"/>
            <a:ext cx="43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Các dạng thông tin cơ bả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3048120"/>
            <a:ext cx="3429000" cy="52056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Hình ản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4191120"/>
            <a:ext cx="3429000" cy="52056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Âm than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5562720"/>
            <a:ext cx="91584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buClr>
                <a:srgbClr val="ffcc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Ba dạng thông tin mà hiện nay các máy tính có thể tiếp nhận và xử lí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495680" y="3809880"/>
            <a:ext cx="1082880" cy="1447920"/>
          </a:xfrm>
          <a:prstGeom prst="rect">
            <a:avLst/>
          </a:prstGeom>
          <a:ln w="0">
            <a:noFill/>
          </a:ln>
        </p:spPr>
      </p:pic>
      <p:grpSp>
        <p:nvGrpSpPr>
          <p:cNvPr id="109" name=""/>
          <p:cNvGrpSpPr/>
          <p:nvPr/>
        </p:nvGrpSpPr>
        <p:grpSpPr>
          <a:xfrm>
            <a:off x="533520" y="1371600"/>
            <a:ext cx="6019200" cy="1428840"/>
            <a:chOff x="533520" y="1371600"/>
            <a:chExt cx="6019200" cy="1428840"/>
          </a:xfrm>
        </p:grpSpPr>
        <p:sp>
          <p:nvSpPr>
            <p:cNvPr id="110" name=""/>
            <p:cNvSpPr/>
            <p:nvPr/>
          </p:nvSpPr>
          <p:spPr>
            <a:xfrm>
              <a:off x="533520" y="1981080"/>
              <a:ext cx="3428640" cy="520560"/>
            </a:xfrm>
            <a:prstGeom prst="rect">
              <a:avLst/>
            </a:prstGeom>
            <a:noFill/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- Văn bả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3"/>
            <a:stretch/>
          </p:blipFill>
          <p:spPr>
            <a:xfrm>
              <a:off x="4647960" y="1371600"/>
              <a:ext cx="1904760" cy="1428840"/>
            </a:xfrm>
            <a:prstGeom prst="rect">
              <a:avLst/>
            </a:prstGeom>
            <a:ln w="9360">
              <a:solidFill>
                <a:srgbClr val="003399"/>
              </a:solidFill>
              <a:miter/>
            </a:ln>
          </p:spPr>
        </p:pic>
      </p:grpSp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5791320" y="4038480"/>
            <a:ext cx="1676160" cy="12193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6019920" y="1752480"/>
            <a:ext cx="3124080" cy="2343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4920" y="1676520"/>
            <a:ext cx="5790960" cy="3124080"/>
          </a:xfrm>
          <a:prstGeom prst="cloudCallout">
            <a:avLst>
              <a:gd name="adj1" fmla="val 67023"/>
              <a:gd name="adj2" fmla="val 26523"/>
            </a:avLst>
          </a:prstGeom>
          <a:gradFill rotWithShape="0">
            <a:gsLst>
              <a:gs pos="0">
                <a:srgbClr val="ffffcc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iểu diễn thông tin có quan trọng không? Vì sao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5472000"/>
            <a:ext cx="9144000" cy="1280160"/>
          </a:xfrm>
          <a:prstGeom prst="upArrowCallout">
            <a:avLst>
              <a:gd name="adj1" fmla="val -123392"/>
              <a:gd name="adj2" fmla="val 176223"/>
              <a:gd name="adj3" fmla="val 20319"/>
              <a:gd name="adj4" fmla="val 66383"/>
            </a:avLst>
          </a:prstGeom>
          <a:gradFill rotWithShape="0">
            <a:gsLst>
              <a:gs pos="0">
                <a:srgbClr val="ffffff"/>
              </a:gs>
              <a:gs pos="50000">
                <a:srgbClr val="99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Biểu diễn thông tin giúp cho việc truyền, tiếp nhận và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quan trọng nhất là xử lí thông tin được dễ dàng, chính xác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91586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-5040" y="1066680"/>
            <a:ext cx="548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Biểu diễn thông tin trong máy tín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600200"/>
            <a:ext cx="9144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ông tin lưu trữ trong máy tính (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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dữ liệu) phải được biểu diễn dưới dạng phù hợ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225360"/>
            <a:ext cx="838224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Garamond"/>
              </a:rPr>
              <a:t>Bài 2. THÔNG TIN VÀ BIỂU DIỄN THÔNG TI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0" y="2666880"/>
            <a:ext cx="7543440" cy="4191120"/>
            <a:chOff x="0" y="2666880"/>
            <a:chExt cx="7543440" cy="4191120"/>
          </a:xfrm>
        </p:grpSpPr>
        <p:pic>
          <p:nvPicPr>
            <p:cNvPr id="120" name="" descr=""/>
            <p:cNvPicPr/>
            <p:nvPr/>
          </p:nvPicPr>
          <p:blipFill>
            <a:blip r:embed="rId1"/>
            <a:stretch/>
          </p:blipFill>
          <p:spPr>
            <a:xfrm>
              <a:off x="0" y="4876920"/>
              <a:ext cx="142812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2365920" y="2666880"/>
              <a:ext cx="5177520" cy="2895840"/>
            </a:xfrm>
            <a:prstGeom prst="cloudCallout">
              <a:avLst>
                <a:gd name="adj1" fmla="val -69902"/>
                <a:gd name="adj2" fmla="val 52740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f99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Thông tin được biểu diễn trong máy tính như thế nào?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60" y="175104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Ví dụ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76320" y="4114800"/>
          <a:ext cx="8991360" cy="2666880"/>
        </p:xfrm>
        <a:graphic>
          <a:graphicData uri="http://schemas.openxmlformats.org/drawingml/2006/table">
            <a:tbl>
              <a:tblPr/>
              <a:tblGrid>
                <a:gridCol w="1198440"/>
                <a:gridCol w="1198440"/>
                <a:gridCol w="6594480"/>
              </a:tblGrid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Đèn 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Đèn B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Ý nghĩa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ật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ật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Được đi từ A 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B và từ B 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ậ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Tắ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hỉ được đi từ A 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Tắ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ật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hỉ được đi từ B 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Tắ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Tắ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ấm đi lạ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225000"/>
            <a:ext cx="8382240" cy="5367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Garamond"/>
              </a:rPr>
              <a:t>Bài 2. THÔNG TIN VÀ BIỂU DIỄN THÔNG TIN</a:t>
            </a:r>
            <a:endParaRPr b="1" lang="en-US" sz="2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"/>
          <p:cNvSpPr/>
          <p:nvPr/>
        </p:nvSpPr>
        <p:spPr>
          <a:xfrm>
            <a:off x="-5040" y="1066680"/>
            <a:ext cx="548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Biểu diễn thông tin trong máy tín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449000" y="1752480"/>
            <a:ext cx="6174720" cy="2159280"/>
            <a:chOff x="1449000" y="1752480"/>
            <a:chExt cx="6174720" cy="2159280"/>
          </a:xfrm>
        </p:grpSpPr>
        <p:sp>
          <p:nvSpPr>
            <p:cNvPr id="127" name=""/>
            <p:cNvSpPr/>
            <p:nvPr/>
          </p:nvSpPr>
          <p:spPr>
            <a:xfrm>
              <a:off x="1631880" y="3124080"/>
              <a:ext cx="457200" cy="381240"/>
            </a:xfrm>
            <a:prstGeom prst="flowChartSummingJunction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449000" y="3502080"/>
              <a:ext cx="91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Đèn 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875640" y="1752480"/>
              <a:ext cx="457200" cy="381240"/>
            </a:xfrm>
            <a:prstGeom prst="flowChartSummingJunction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706800" y="2130480"/>
              <a:ext cx="91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Đèn B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31" name="" descr=""/>
            <p:cNvPicPr/>
            <p:nvPr/>
          </p:nvPicPr>
          <p:blipFill>
            <a:blip r:embed="rId1"/>
            <a:stretch/>
          </p:blipFill>
          <p:spPr>
            <a:xfrm>
              <a:off x="2362320" y="1752480"/>
              <a:ext cx="4190760" cy="2159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04920" y="3200400"/>
            <a:ext cx="369720" cy="309600"/>
          </a:xfrm>
          <a:prstGeom prst="flowChartSummingJunction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6600" y="350676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Đèn 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1981080"/>
            <a:ext cx="370080" cy="309600"/>
          </a:xfrm>
          <a:prstGeom prst="flowChartSummingJunction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87480" y="228744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Đèn 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046160" y="2057400"/>
            <a:ext cx="3394080" cy="17524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-5040" y="1066680"/>
            <a:ext cx="548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Biểu diễn thông tin trong máy tín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60" y="15987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Ví dụ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76320" y="4114800"/>
          <a:ext cx="8839080" cy="2666880"/>
        </p:xfrm>
        <a:graphic>
          <a:graphicData uri="http://schemas.openxmlformats.org/drawingml/2006/table">
            <a:tbl>
              <a:tblPr/>
              <a:tblGrid>
                <a:gridCol w="1198440"/>
                <a:gridCol w="1198440"/>
                <a:gridCol w="6442200"/>
              </a:tblGrid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Đèn 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Đèn 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Ý nghĩ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Bật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Bật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Được đi từ A 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B và từ B 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Bật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Tắt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Chỉ được đi từ A 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Tắt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Bật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Chỉ được đi từ B 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Tắt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Tắt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Cấm đi lạ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40" name=""/>
          <p:cNvSpPr/>
          <p:nvPr/>
        </p:nvSpPr>
        <p:spPr>
          <a:xfrm>
            <a:off x="2895480" y="2819520"/>
            <a:ext cx="2835360" cy="18478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Quy ước: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- Bật là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- Tắt là 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4724280"/>
            <a:ext cx="685800" cy="381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5257800"/>
            <a:ext cx="685800" cy="380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5791320"/>
            <a:ext cx="685800" cy="380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6305400"/>
            <a:ext cx="685800" cy="381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4724280"/>
            <a:ext cx="609480" cy="381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00200" y="5257800"/>
            <a:ext cx="533520" cy="380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528920" y="5791320"/>
            <a:ext cx="685800" cy="380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00200" y="6296040"/>
            <a:ext cx="533520" cy="380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76320" y="4119480"/>
          <a:ext cx="2438280" cy="2664000"/>
        </p:xfrm>
        <a:graphic>
          <a:graphicData uri="http://schemas.openxmlformats.org/drawingml/2006/table">
            <a:tbl>
              <a:tblPr/>
              <a:tblGrid>
                <a:gridCol w="24382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ểu diễn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2514600" y="2209680"/>
            <a:ext cx="6095880" cy="2438640"/>
          </a:xfrm>
          <a:prstGeom prst="cloudCallout">
            <a:avLst>
              <a:gd name="adj1" fmla="val -57055"/>
              <a:gd name="adj2" fmla="val 126430"/>
            </a:avLst>
          </a:prstGeom>
          <a:gradFill rotWithShape="0">
            <a:gsLst>
              <a:gs pos="0">
                <a:srgbClr val="ffff99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y ước cách biểu diễn thông tin trong máy tín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25360"/>
            <a:ext cx="838224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Garamond"/>
              </a:rPr>
              <a:t>Bài 2. THÔNG TIN VÀ BIỂU DIỄN THÔNG TI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1.09827E-006 L 0.3033 -0.13433 E">
                                      <p:cBhvr>
                                        <p:cTn id="87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-5040" y="1295280"/>
            <a:ext cx="548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Biểu diễn thông tin trong máy tín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182880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Thông tin trong máy tính được biểu diễn dưới dạng các dãy số 0 và 1, gọi là dãy b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225360"/>
            <a:ext cx="838224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Garamond"/>
              </a:rPr>
              <a:t>Bài 2. THÔNG TIN VÀ BIỂU DIỄN THÔNG TI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 rot="340200">
            <a:off x="5486040" y="5486400"/>
            <a:ext cx="290340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6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cc"/>
                </a:solidFill>
                <a:latin typeface="Arial"/>
              </a:rPr>
              <a:t>0101011011001</a:t>
            </a:r>
            <a:endParaRPr b="0" lang="en-US" sz="3200" spc="1" strike="noStrike">
              <a:ln w="9360">
                <a:solidFill>
                  <a:srgbClr val="0000ff"/>
                </a:solidFill>
                <a:miter/>
              </a:ln>
              <a:solidFill>
                <a:srgbClr val="ffffcc"/>
              </a:solidFill>
              <a:latin typeface="Arial"/>
              <a:ea typeface="Arial"/>
            </a:endParaRPr>
          </a:p>
        </p:txBody>
      </p:sp>
      <p:sp>
        <p:nvSpPr>
          <p:cNvPr id="156" name=""/>
          <p:cNvSpPr txBox="1"/>
          <p:nvPr/>
        </p:nvSpPr>
        <p:spPr>
          <a:xfrm rot="275400">
            <a:off x="5029200" y="4800240"/>
            <a:ext cx="3124080" cy="105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7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cc"/>
                </a:solidFill>
                <a:latin typeface="Arial"/>
              </a:rPr>
              <a:t>011101011010</a:t>
            </a:r>
            <a:endParaRPr b="0" lang="en-US" sz="3200" spc="1" strike="noStrike">
              <a:ln w="9360">
                <a:solidFill>
                  <a:srgbClr val="0000ff"/>
                </a:solidFill>
                <a:miter/>
              </a:ln>
              <a:solidFill>
                <a:srgbClr val="ffffcc"/>
              </a:solidFill>
              <a:latin typeface="Arial"/>
              <a:ea typeface="Arial"/>
            </a:endParaRPr>
          </a:p>
        </p:txBody>
      </p:sp>
      <p:sp>
        <p:nvSpPr>
          <p:cNvPr id="157" name=""/>
          <p:cNvSpPr txBox="1"/>
          <p:nvPr/>
        </p:nvSpPr>
        <p:spPr>
          <a:xfrm rot="21166200">
            <a:off x="4876920" y="4419720"/>
            <a:ext cx="2973240" cy="80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7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cc"/>
                </a:solidFill>
                <a:latin typeface="Arial"/>
              </a:rPr>
              <a:t>010101011000</a:t>
            </a:r>
            <a:endParaRPr b="0" lang="en-US" sz="3200" spc="1" strike="noStrike">
              <a:ln w="9360">
                <a:solidFill>
                  <a:srgbClr val="0000ff"/>
                </a:solidFill>
                <a:miter/>
              </a:ln>
              <a:solidFill>
                <a:srgbClr val="ffffcc"/>
              </a:solidFill>
              <a:latin typeface="Arial"/>
              <a:ea typeface="Arial"/>
            </a:endParaRPr>
          </a:p>
        </p:txBody>
      </p:sp>
      <p:sp>
        <p:nvSpPr>
          <p:cNvPr id="158" name=""/>
          <p:cNvSpPr txBox="1"/>
          <p:nvPr/>
        </p:nvSpPr>
        <p:spPr>
          <a:xfrm rot="21056400">
            <a:off x="4952520" y="3962160"/>
            <a:ext cx="2454480" cy="84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7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cc"/>
                </a:solidFill>
                <a:latin typeface="Arial"/>
              </a:rPr>
              <a:t>010101001001</a:t>
            </a:r>
            <a:endParaRPr b="0" lang="en-US" sz="3200" spc="1" strike="noStrike">
              <a:ln w="9360">
                <a:solidFill>
                  <a:srgbClr val="0000ff"/>
                </a:solidFill>
                <a:miter/>
              </a:ln>
              <a:solidFill>
                <a:srgbClr val="ffffcc"/>
              </a:solidFill>
              <a:latin typeface="Arial"/>
              <a:ea typeface="Arial"/>
            </a:endParaRPr>
          </a:p>
        </p:txBody>
      </p:sp>
      <p:sp>
        <p:nvSpPr>
          <p:cNvPr id="159" name=""/>
          <p:cNvSpPr txBox="1"/>
          <p:nvPr/>
        </p:nvSpPr>
        <p:spPr>
          <a:xfrm rot="20575800">
            <a:off x="4876560" y="3581280"/>
            <a:ext cx="2361960" cy="82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7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ffcc"/>
                </a:solidFill>
                <a:latin typeface="Arial"/>
              </a:rPr>
              <a:t>110101011011</a:t>
            </a:r>
            <a:endParaRPr b="0" lang="en-US" sz="3200" spc="1" strike="noStrike">
              <a:ln w="9360">
                <a:solidFill>
                  <a:srgbClr val="0000ff"/>
                </a:solidFill>
                <a:miter/>
              </a:ln>
              <a:solidFill>
                <a:srgbClr val="ffffcc"/>
              </a:solidFill>
              <a:latin typeface="Arial"/>
              <a:ea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74880" y="42051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16016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18" presetSubtype="1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path" presetID="56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25 0.0511 L -0.30417 0.27307 E">
                                      <p:cBhvr>
                                        <p:cTn id="147" dur="3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3500"/>
                            </p:stCondLst>
                            <p:childTnLst>
                              <p:par>
                                <p:cTn id="149" nodeType="afterEffect" fill="hold" presetClass="entr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8" presetSubtype="1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500"/>
                            </p:stCondLst>
                            <p:childTnLst>
                              <p:par>
                                <p:cTn id="155" nodeType="afterEffect" fill="hold" presetClass="path" presetID="56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92 0.02752 L -0.31754 0.21619 E">
                                      <p:cBhvr>
                                        <p:cTn id="156" dur="3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7500"/>
                            </p:stCondLst>
                            <p:childTnLst>
                              <p:par>
                                <p:cTn id="158" nodeType="afterEffect" fill="hold" presetClass="entr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8" presetSubtype="1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8500"/>
                            </p:stCondLst>
                            <p:childTnLst>
                              <p:par>
                                <p:cTn id="164" nodeType="afterEffect" fill="hold" presetClass="path" presetID="56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25 0.03006 L -0.3375 0.17433 E">
                                      <p:cBhvr>
                                        <p:cTn id="165" dur="3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1500"/>
                            </p:stCondLst>
                            <p:childTnLst>
                              <p:par>
                                <p:cTn id="167" nodeType="afterEffect" fill="hold" presetClass="entr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8" presetSubtype="1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73" nodeType="afterEffect" fill="hold" presetClass="path" presetID="56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083 0.02336 L -0.3625 0.12324 E">
                                      <p:cBhvr>
                                        <p:cTn id="174" dur="3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500"/>
                            </p:stCondLst>
                            <p:childTnLst>
                              <p:par>
                                <p:cTn id="176" nodeType="afterEffect" fill="hold" presetClass="entr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8" presetSubtype="1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6500"/>
                            </p:stCondLst>
                            <p:childTnLst>
                              <p:par>
                                <p:cTn id="182" nodeType="afterEffect" fill="hold" presetClass="path" presetID="56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035 0.00115 L -0.40035 0.04555 E">
                                      <p:cBhvr>
                                        <p:cTn id="183" dur="3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9500"/>
                            </p:stCondLst>
                            <p:childTnLst>
                              <p:par>
                                <p:cTn id="185" nodeType="afterEffect" fill="hold" presetClass="entr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809880" y="1600200"/>
            <a:ext cx="1067040" cy="3048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Ậ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Ế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ĐỔ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46280" y="4456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28600" y="1752480"/>
            <a:ext cx="1557000" cy="2425680"/>
            <a:chOff x="228600" y="1752480"/>
            <a:chExt cx="1557000" cy="2425680"/>
          </a:xfrm>
        </p:grpSpPr>
        <p:graphicFrame>
          <p:nvGraphicFramePr>
            <p:cNvPr id="165" name=""/>
            <p:cNvGraphicFramePr/>
            <p:nvPr/>
          </p:nvGraphicFramePr>
          <p:xfrm>
            <a:off x="228600" y="1752480"/>
            <a:ext cx="1557000" cy="2160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1752480"/>
                      <a:ext cx="1557000" cy="21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7" name=""/>
            <p:cNvSpPr/>
            <p:nvPr/>
          </p:nvSpPr>
          <p:spPr>
            <a:xfrm>
              <a:off x="317880" y="3809880"/>
              <a:ext cx="136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on ngườ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086600" y="1676520"/>
            <a:ext cx="1828440" cy="2702160"/>
            <a:chOff x="7086600" y="1676520"/>
            <a:chExt cx="1828440" cy="2702160"/>
          </a:xfrm>
        </p:grpSpPr>
        <p:graphicFrame>
          <p:nvGraphicFramePr>
            <p:cNvPr id="169" name=""/>
            <p:cNvGraphicFramePr/>
            <p:nvPr/>
          </p:nvGraphicFramePr>
          <p:xfrm>
            <a:off x="7086600" y="1676520"/>
            <a:ext cx="1828440" cy="2039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086600" y="1676520"/>
                      <a:ext cx="1828440" cy="203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1" name=""/>
            <p:cNvSpPr/>
            <p:nvPr/>
          </p:nvSpPr>
          <p:spPr>
            <a:xfrm>
              <a:off x="7643880" y="4010400"/>
              <a:ext cx="110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áy tín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990800" y="1600200"/>
            <a:ext cx="1904760" cy="2303640"/>
            <a:chOff x="1990800" y="1600200"/>
            <a:chExt cx="1904760" cy="2303640"/>
          </a:xfrm>
        </p:grpSpPr>
        <p:sp>
          <p:nvSpPr>
            <p:cNvPr id="173" name=""/>
            <p:cNvSpPr/>
            <p:nvPr/>
          </p:nvSpPr>
          <p:spPr>
            <a:xfrm>
              <a:off x="1990800" y="1981080"/>
              <a:ext cx="190476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ông tin dạng văn bản, hình ảnh, âm than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57400" y="1600200"/>
              <a:ext cx="1676520" cy="304560"/>
            </a:xfrm>
            <a:prstGeom prst="rightArrow">
              <a:avLst>
                <a:gd name="adj1" fmla="val 50000"/>
                <a:gd name="adj2" fmla="val 137618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100480" y="1676520"/>
            <a:ext cx="1676520" cy="2166840"/>
            <a:chOff x="5100480" y="1676520"/>
            <a:chExt cx="1676520" cy="2166840"/>
          </a:xfrm>
        </p:grpSpPr>
        <p:sp>
          <p:nvSpPr>
            <p:cNvPr id="176" name=""/>
            <p:cNvSpPr/>
            <p:nvPr/>
          </p:nvSpPr>
          <p:spPr>
            <a:xfrm>
              <a:off x="5176800" y="2286360"/>
              <a:ext cx="15238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ông tin dạng bit 0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và 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100480" y="1676520"/>
              <a:ext cx="1676520" cy="304920"/>
            </a:xfrm>
            <a:prstGeom prst="rightArrow">
              <a:avLst>
                <a:gd name="adj1" fmla="val 50000"/>
                <a:gd name="adj2" fmla="val 137456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5029200" y="4191120"/>
            <a:ext cx="1523880" cy="304560"/>
          </a:xfrm>
          <a:prstGeom prst="leftArrow">
            <a:avLst>
              <a:gd name="adj1" fmla="val 50000"/>
              <a:gd name="adj2" fmla="val 12508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981080" y="4191120"/>
            <a:ext cx="1524240" cy="304560"/>
          </a:xfrm>
          <a:prstGeom prst="leftArrow">
            <a:avLst>
              <a:gd name="adj1" fmla="val 50000"/>
              <a:gd name="adj2" fmla="val 12511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09680" y="1752480"/>
            <a:ext cx="4648320" cy="1828800"/>
          </a:xfrm>
          <a:prstGeom prst="leftRightArrow">
            <a:avLst>
              <a:gd name="adj1" fmla="val 50000"/>
              <a:gd name="adj2" fmla="val 50599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IAO TIẾ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5334120"/>
            <a:ext cx="914400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ô hình quá trình thực hiện giao tiếp giữa người và máy tín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25360"/>
            <a:ext cx="838224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Garamond"/>
              </a:rPr>
              <a:t>Bài 2. THÔNG TIN VÀ BIỂU DIỄN THÔNG TI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355 -0.00347 L 5E-006 4.62428E-006 E">
                                      <p:cBhvr>
                                        <p:cTn id="225" dur="1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834 2.83237E-006 L 3.33333E-006 2.83237E-006 E">
                                      <p:cBhvr>
                                        <p:cTn id="231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 -7.51445E-007 L -3.33333E-006 -7.51445E-007 E">
                                      <p:cBhvr>
                                        <p:cTn id="237" dur="1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667 9.82659E-007 L 5.55112E-017 9.82659E-007 E">
                                      <p:cBhvr>
                                        <p:cTn id="243" dur="1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12952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Arial"/>
              </a:rPr>
              <a:t>Kết thúc!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352680" y="2971800"/>
            <a:ext cx="1951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8T06:37:45Z</dcterms:created>
  <dc:creator>Ngoc Thong</dc:creator>
  <dc:description/>
  <dc:language>en-US</dc:language>
  <cp:lastModifiedBy>thuy</cp:lastModifiedBy>
  <dcterms:modified xsi:type="dcterms:W3CDTF">2007-07-03T03:11:13Z</dcterms:modified>
  <cp:revision>355</cp:revision>
  <dc:subject/>
  <dc:title>Bài 1 _ THÔNG TIN VÀ TIN HỌC</dc:title>
</cp:coreProperties>
</file>