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4D1-FB34-4DCA-AEB2-56A8BBEB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571D-CE38-4468-B51D-C5A825C3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E8A6-5C0F-44C9-ACD3-930D6A9A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96A8-1EB7-417C-B264-364440F0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9F67-7BF7-416F-BB40-B1FD23B0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5339-2543-4778-BD06-FB950F0B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8640-8648-4CF9-83F2-4AC36CBA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4996-D8C9-44BE-A96B-5E6A4B14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CAEF-B55D-4675-8396-C99C30F2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A2D1-D6C1-4CF1-8CB9-0C07490F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C8CC-15C7-459B-9FC6-67FB9925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FBE2-AE82-46E1-83D7-2178A10E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9950-3F6F-4AF6-BB59-42D303FE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A231-C0BD-4539-8CD0-2719AAA4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97DC-D2A6-46B0-81A9-0F15885C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B24D-9698-4725-9C49-84A94878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9304-F2EC-4B07-9817-4875E565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4E36-AE81-4636-890B-C60A3EE1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0588-E6A1-4463-BA5B-1B3983EF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008C-0F89-45D7-9C9A-B56B621E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F627-8E19-42B4-9289-3EF3A29E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EF70-68E9-40FA-8BE8-B1381FB0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3323-56E1-4DED-B834-DC51C58C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411-9F15-4EFF-8866-C5324A4B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AAB2-4DCA-4AC1-9C5D-05867FC5387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878D-22F7-4021-8540-998BE328A60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219320" y="244080"/>
            <a:ext cx="552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1080" y="989640"/>
            <a:ext cx="31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1. Trình bày trang văn bả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772400" cy="49989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62120" y="6095880"/>
            <a:ext cx="6476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914400"/>
            <a:ext cx="3200400" cy="533520"/>
          </a:xfrm>
          <a:prstGeom prst="wedgeRectCallout">
            <a:avLst>
              <a:gd name="adj1" fmla="val -34921"/>
              <a:gd name="adj2" fmla="val 10148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ướng tr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19320" y="244080"/>
            <a:ext cx="552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2400" y="68472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3. In văn bả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343400" y="1295280"/>
            <a:ext cx="4419720" cy="331488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228600" y="1295280"/>
            <a:ext cx="3962520" cy="3276720"/>
            <a:chOff x="228600" y="1295280"/>
            <a:chExt cx="3962520" cy="3276720"/>
          </a:xfrm>
        </p:grpSpPr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228600" y="1295280"/>
              <a:ext cx="3962520" cy="3276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07" name=""/>
            <p:cNvSpPr/>
            <p:nvPr/>
          </p:nvSpPr>
          <p:spPr>
            <a:xfrm>
              <a:off x="750960" y="3947760"/>
              <a:ext cx="1349640" cy="144000"/>
            </a:xfrm>
            <a:prstGeom prst="rect">
              <a:avLst/>
            </a:prstGeom>
            <a:solidFill>
              <a:srgbClr val="ff0000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705720" y="1828800"/>
            <a:ext cx="1600200" cy="38088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4876920"/>
            <a:ext cx="7772400" cy="1218960"/>
          </a:xfrm>
          <a:prstGeom prst="upArrowCallout">
            <a:avLst>
              <a:gd name="adj1" fmla="val -157720"/>
              <a:gd name="adj2" fmla="val 159406"/>
              <a:gd name="adj3" fmla="val 16667"/>
              <a:gd name="adj4" fmla="val 6666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ận dụng những kiến thức về trình bày văn bản đã họ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m thử đưa ra giải pháp giải quyết những lỗi trên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19320" y="244080"/>
            <a:ext cx="552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2400" y="68472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3. In văn bả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8600" y="1295280"/>
            <a:ext cx="8534520" cy="3314880"/>
            <a:chOff x="228600" y="1295280"/>
            <a:chExt cx="8534520" cy="3314880"/>
          </a:xfrm>
        </p:grpSpPr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4343400" y="1295280"/>
              <a:ext cx="4419720" cy="331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"/>
            <p:cNvGrpSpPr/>
            <p:nvPr/>
          </p:nvGrpSpPr>
          <p:grpSpPr>
            <a:xfrm>
              <a:off x="228600" y="1295280"/>
              <a:ext cx="3962520" cy="3276720"/>
              <a:chOff x="228600" y="1295280"/>
              <a:chExt cx="3962520" cy="3276720"/>
            </a:xfrm>
          </p:grpSpPr>
          <p:pic>
            <p:nvPicPr>
              <p:cNvPr id="2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8600" y="1295280"/>
                <a:ext cx="3962520" cy="32767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216" name=""/>
              <p:cNvSpPr/>
              <p:nvPr/>
            </p:nvSpPr>
            <p:spPr>
              <a:xfrm>
                <a:off x="750960" y="3947760"/>
                <a:ext cx="1349640" cy="144000"/>
              </a:xfrm>
              <a:prstGeom prst="rect">
                <a:avLst/>
              </a:prstGeom>
              <a:solidFill>
                <a:srgbClr val="ff0000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6705720" y="1828800"/>
              <a:ext cx="1600200" cy="3808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33520" y="4876920"/>
            <a:ext cx="7772400" cy="1218960"/>
          </a:xfrm>
          <a:prstGeom prst="upArrowCallout">
            <a:avLst>
              <a:gd name="adj1" fmla="val -157720"/>
              <a:gd name="adj2" fmla="val 159406"/>
              <a:gd name="adj3" fmla="val 16667"/>
              <a:gd name="adj4" fmla="val 6666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ên xem văn bản trước khi in để sửa chữa kịp thời các lỗ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ránh phải in lại nhiều lần và tránh lãng phí giấ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4876920"/>
            <a:ext cx="8001000" cy="1218960"/>
          </a:xfrm>
          <a:prstGeom prst="upArrowCallout">
            <a:avLst>
              <a:gd name="adj1" fmla="val -153031"/>
              <a:gd name="adj2" fmla="val 164095"/>
              <a:gd name="adj3" fmla="val 16667"/>
              <a:gd name="adj4" fmla="val 6666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iệc xem lại 1 văn bản trước khi in ra giấy có quan trọng khô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ại sa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432600" y="1523880"/>
            <a:ext cx="17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ết thú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124080" y="2209680"/>
            <a:ext cx="20764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791320" cy="4969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19320" y="244080"/>
            <a:ext cx="552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0360" y="989640"/>
            <a:ext cx="32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1. Trình bày trang văn bả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58320" y="144684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Đặt lề cho tra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9320" y="244080"/>
            <a:ext cx="552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1080" y="989640"/>
            <a:ext cx="31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1. Trình bày trang văn bả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717560"/>
            <a:ext cx="7086600" cy="3261600"/>
          </a:xfrm>
          <a:prstGeom prst="foldedCorner">
            <a:avLst>
              <a:gd name="adj" fmla="val 125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990000"/>
                </a:solidFill>
                <a:latin typeface="Arial"/>
              </a:rPr>
              <a:t>Lưu 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Đừng nhầm lề trang với lề đoạn văn. Lề đoạn văn được tính từ lề trang và có thể ”thò” ra ngoài lề tr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Nếu văn bản có nhiều trang, việc trình bày trang có tác dụng đến mọi trang của văn bả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9320" y="244080"/>
            <a:ext cx="552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9960" y="837360"/>
            <a:ext cx="410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0000"/>
                </a:solidFill>
                <a:latin typeface="Times New Roman"/>
              </a:rPr>
              <a:t>2. Chọn hướng trang và đặt lề tr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0200" y="129456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File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 Page Setu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/ Mar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562720" cy="5105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896160" y="4495680"/>
            <a:ext cx="2133720" cy="990720"/>
          </a:xfrm>
          <a:prstGeom prst="wedgeRectCallout">
            <a:avLst>
              <a:gd name="adj1" fmla="val -83629"/>
              <a:gd name="adj2" fmla="val 4406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ình ảnh của trang ứng với các lựa chọn trê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19320" y="244080"/>
            <a:ext cx="552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9960" y="837360"/>
            <a:ext cx="41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990000"/>
                </a:solidFill>
                <a:latin typeface="Times New Roman"/>
              </a:rPr>
              <a:t>3. Chọn hướng trang và đặt lề trang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34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75500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19320" y="244080"/>
            <a:ext cx="552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2400" y="98964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3. In văn bả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838080" y="1751040"/>
            <a:ext cx="7543800" cy="971640"/>
            <a:chOff x="838080" y="1751040"/>
            <a:chExt cx="7543800" cy="971640"/>
          </a:xfrm>
        </p:grpSpPr>
        <p:sp>
          <p:nvSpPr>
            <p:cNvPr id="173" name=""/>
            <p:cNvSpPr/>
            <p:nvPr/>
          </p:nvSpPr>
          <p:spPr>
            <a:xfrm>
              <a:off x="838080" y="1751040"/>
              <a:ext cx="7543800" cy="9716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In văn bản bằng cách nháy nút lệnh Print (in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trên thanh công cụ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7391520" y="1828800"/>
              <a:ext cx="685800" cy="63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"/>
          <p:cNvSpPr/>
          <p:nvPr/>
        </p:nvSpPr>
        <p:spPr>
          <a:xfrm>
            <a:off x="762120" y="3122280"/>
            <a:ext cx="7619760" cy="1410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990000"/>
                </a:solidFill>
                <a:latin typeface="Arial"/>
              </a:rPr>
              <a:t>Lưu ý:</a:t>
            </a:r>
            <a:r>
              <a:rPr b="1" lang="pt-BR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0000"/>
                </a:solidFill>
                <a:latin typeface="Arial"/>
              </a:rPr>
              <a:t>Để có thể in được, máy tính của em phải được nối với máy in và máy in phải được bậ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19320" y="244080"/>
            <a:ext cx="552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2400" y="98964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3. In văn bả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89640" y="1675440"/>
            <a:ext cx="22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em trước khi 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914400" y="2306880"/>
            <a:ext cx="7543800" cy="971640"/>
            <a:chOff x="914400" y="2306880"/>
            <a:chExt cx="7543800" cy="971640"/>
          </a:xfrm>
        </p:grpSpPr>
        <p:sp>
          <p:nvSpPr>
            <p:cNvPr id="180" name=""/>
            <p:cNvSpPr/>
            <p:nvPr/>
          </p:nvSpPr>
          <p:spPr>
            <a:xfrm>
              <a:off x="914400" y="2306880"/>
              <a:ext cx="7543800" cy="9716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háy nút Print Preview       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(Xem trước khi in) để kiểm tra trình bày của tran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_x0013__x000f_" descr=""/>
            <p:cNvPicPr/>
            <p:nvPr/>
          </p:nvPicPr>
          <p:blipFill>
            <a:blip r:embed="rId1"/>
            <a:stretch/>
          </p:blipFill>
          <p:spPr>
            <a:xfrm>
              <a:off x="4496040" y="2395800"/>
              <a:ext cx="444240" cy="41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"/>
          <p:cNvGrpSpPr/>
          <p:nvPr/>
        </p:nvGrpSpPr>
        <p:grpSpPr>
          <a:xfrm>
            <a:off x="914400" y="1506600"/>
            <a:ext cx="7543440" cy="5352480"/>
            <a:chOff x="914400" y="1506600"/>
            <a:chExt cx="7543440" cy="535248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914400" y="1506600"/>
              <a:ext cx="7543440" cy="50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914400" y="6490800"/>
              <a:ext cx="754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ửa sổ xem trước khi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558840" y="4419720"/>
            <a:ext cx="1597320" cy="1295280"/>
            <a:chOff x="6558840" y="4419720"/>
            <a:chExt cx="1597320" cy="1295280"/>
          </a:xfrm>
        </p:grpSpPr>
        <p:sp>
          <p:nvSpPr>
            <p:cNvPr id="186" name=""/>
            <p:cNvSpPr/>
            <p:nvPr/>
          </p:nvSpPr>
          <p:spPr>
            <a:xfrm flipH="1" flipV="1">
              <a:off x="7410960" y="4800600"/>
              <a:ext cx="652320" cy="457200"/>
            </a:xfrm>
            <a:prstGeom prst="line">
              <a:avLst/>
            </a:prstGeom>
            <a:ln w="3816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7410960" y="4800600"/>
              <a:ext cx="745200" cy="914400"/>
            </a:xfrm>
            <a:prstGeom prst="line">
              <a:avLst/>
            </a:prstGeom>
            <a:ln w="3816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58840" y="4419720"/>
              <a:ext cx="152784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út lật tra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105520" y="838080"/>
            <a:ext cx="3725640" cy="642600"/>
          </a:xfrm>
          <a:prstGeom prst="wedgeRectCallout">
            <a:avLst>
              <a:gd name="adj1" fmla="val -32495"/>
              <a:gd name="adj2" fmla="val 18101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Đóng cửa sổ, về chế độ xem bình thườ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19320" y="244080"/>
            <a:ext cx="552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2400" y="68472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3. In văn bả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295280" y="1123920"/>
            <a:ext cx="6934320" cy="520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2820240" y="6433560"/>
            <a:ext cx="41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ác em nhận xét gì về văn bản trê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09680" y="5334120"/>
            <a:ext cx="2362320" cy="228600"/>
          </a:xfrm>
          <a:prstGeom prst="rect">
            <a:avLst/>
          </a:prstGeom>
          <a:solidFill>
            <a:srgbClr val="ff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4800600"/>
            <a:ext cx="1828800" cy="380880"/>
          </a:xfrm>
          <a:prstGeom prst="wedgeRectCallout">
            <a:avLst>
              <a:gd name="adj1" fmla="val -57550"/>
              <a:gd name="adj2" fmla="val 10833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òng “mồ cô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19320" y="244080"/>
            <a:ext cx="552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Verdana"/>
              </a:rPr>
              <a:t>Bài 18. TRÌNH BÀY TRANG VĂN BẢN VÀ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2400" y="684720"/>
            <a:ext cx="16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3. In văn bả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20240" y="6433560"/>
            <a:ext cx="41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ác em nhận xét gì về văn bản trê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7010280" cy="5257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876920" y="2895480"/>
            <a:ext cx="3429000" cy="762120"/>
          </a:xfrm>
          <a:prstGeom prst="wedgeRectCallout">
            <a:avLst>
              <a:gd name="adj1" fmla="val -24398"/>
              <a:gd name="adj2" fmla="val -86666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ột phần nhỏ của bảng bị nhảy sang trang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938840" y="2747880"/>
            <a:ext cx="59040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uy</cp:lastModifiedBy>
  <dcterms:modified xsi:type="dcterms:W3CDTF">2007-07-04T09:11:10Z</dcterms:modified>
  <cp:revision>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