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5.gif" ContentType="image/gif"/>
  <Override PartName="/ppt/media/image12.wmf" ContentType="image/x-wmf"/>
  <Override PartName="/ppt/media/image27.png" ContentType="image/png"/>
  <Override PartName="/ppt/media/image4.gif" ContentType="image/gif"/>
  <Override PartName="/ppt/media/image1.jpeg" ContentType="image/jpeg"/>
  <Override PartName="/ppt/media/image25.gif" ContentType="image/gif"/>
  <Override PartName="/ppt/media/image24.png" ContentType="image/png"/>
  <Override PartName="/ppt/media/image22.gif" ContentType="image/gif"/>
  <Override PartName="/ppt/media/image21.png" ContentType="image/png"/>
  <Override PartName="/ppt/media/image19.png" ContentType="image/png"/>
  <Override PartName="/ppt/media/image17.gif" ContentType="image/gif"/>
  <Override PartName="/ppt/media/image2.jpeg" ContentType="image/jpeg"/>
  <Override PartName="/ppt/media/image20.png" ContentType="image/png"/>
  <Override PartName="/ppt/media/image18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23.gif" ContentType="image/gi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869-FAC9-4C80-AA39-B18A0A9C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A7E-3034-4E49-86DC-69DBE442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420-EE31-4FD3-84C5-5F32A735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D50B-D77E-435C-808B-6ADD08DC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A640-7EE5-432C-B9FE-AB26256D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BC41-7D78-4B0D-8E6E-E2BE8BEB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EE76-F8B5-473C-8D2F-47467DE0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13D9-5376-4C07-A0DB-8B681AE8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23AA-5648-4F44-9CAA-4062D143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6D9D-A37C-41C4-9564-A718B359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9BE6-5110-4B07-A477-33006EFE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0EF-DE69-4A7D-83C8-506FD7C2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BD12-8B29-47CE-B373-28D078DA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EC6D-B51D-4A0C-80DE-58683873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6049-FB5E-4C7B-AD80-E994DAD2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2902-3167-4099-8E2B-A52E02DA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1111-4CCD-4A5D-95A0-CEDA8503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F04-1E9B-41D4-9A1C-6B2D8466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092-72FE-40AD-A7C4-D31CD371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91E-07D6-4E28-8D13-00FFA8CE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00C1-9813-4F8D-88A8-26D660DF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DBB-C1C6-456D-A47B-512CEA81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E63-E027-496B-85EC-A33FB160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B2D-C5B1-4707-B47A-B5F0C22A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A493-EFDA-49F3-87A9-ABF9EB422D1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B5AD-3070-4A2C-86A0-61CD3630C06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Palatino Linotyp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Palatino Linotyp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Palatino Linotyp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:\STK\Phothong\GADT6_14_04\CDROM\Chuong1\Bai3\Trochoi_Bai3.xls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wm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png"/><Relationship Id="rId11" Type="http://schemas.openxmlformats.org/officeDocument/2006/relationships/image" Target="../media/image25.gif"/><Relationship Id="rId1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67080" y="457200"/>
            <a:ext cx="1000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ài 3 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4400" y="1676520"/>
            <a:ext cx="74674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Em có thể làm được những gì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nhờ máy tính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676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ahoma"/>
              </a:rPr>
              <a:t>Kết thúc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505320" y="2819520"/>
            <a:ext cx="19047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2160" y="114300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ột số khả năng của máy tí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15680" y="350676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hó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52920" y="351144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hóm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9480" y="414180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9480" y="57913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36880" y="495288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7800" y="406548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7800" y="571500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84840" y="48769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37339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Bài 3. EM CÓ THỂ LÀM ĐƯỢC NHỮNG GÌ NHỜ MÁY TÍN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6" name=""/>
          <p:cNvSpPr txBox="1"/>
          <p:nvPr/>
        </p:nvSpPr>
        <p:spPr>
          <a:xfrm rot="412800">
            <a:off x="4114800" y="838080"/>
            <a:ext cx="449568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7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Khám phá số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75248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Trò chơ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92960" y="2209680"/>
            <a:ext cx="555480" cy="609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892760" y="2438280"/>
            <a:ext cx="563400" cy="609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959440" y="2286000"/>
            <a:ext cx="59364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5349960" y="2362320"/>
            <a:ext cx="58716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026120" y="2133720"/>
            <a:ext cx="57168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7483320" y="2057400"/>
            <a:ext cx="59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2160" y="114300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ột số khả năng của máy tí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2480" y="175248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Kết quả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Bài 3. EM CÓ THỂ LÀM ĐƯỢC NHỮNG GÌ NHỜ MÁY TÍN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"/>
          <p:cNvSpPr/>
          <p:nvPr/>
        </p:nvSpPr>
        <p:spPr>
          <a:xfrm>
            <a:off x="1298160" y="256536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hó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35400" y="2570040"/>
            <a:ext cx="14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hóm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2880" y="3200400"/>
            <a:ext cx="198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920" y="4849920"/>
            <a:ext cx="20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5320" y="4011480"/>
            <a:ext cx="20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466240" y="3124080"/>
            <a:ext cx="20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66240" y="4773600"/>
            <a:ext cx="20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53280" y="3935520"/>
            <a:ext cx="20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42857 x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27925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33000" y="32004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2857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33000" y="40384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5714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09320" y="48006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8571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81320" y="312408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4285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81320" y="38862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7142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81320" y="480060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99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"/>
          </p:cNvPr>
          <p:cNvSpPr/>
          <p:nvPr/>
        </p:nvSpPr>
        <p:spPr>
          <a:xfrm>
            <a:off x="2520720" y="350532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ính toán bằng máy tí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2160" y="1143000"/>
            <a:ext cx="48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ột số khả năng của máy tí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6720" y="2065320"/>
            <a:ext cx="25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Tính toán nha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743200"/>
            <a:ext cx="48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Tính toán với độ chính xác 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429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Lưu trữ lớ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4067280"/>
            <a:ext cx="38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Làm việc không mệt mỏ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Bài 3. EM CÓ THỂ LÀM ĐƯỢC NHỮNG GÌ NHỜ MÁY TÍN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486400" y="1752480"/>
            <a:ext cx="3714840" cy="2895840"/>
            <a:chOff x="5486400" y="1752480"/>
            <a:chExt cx="3714840" cy="289584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5486400" y="1752480"/>
              <a:ext cx="371484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6077160" y="2666880"/>
              <a:ext cx="838080" cy="2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 rot="21428400">
              <a:off x="6077160" y="2895120"/>
              <a:ext cx="836640" cy="25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800600" y="1676520"/>
            <a:ext cx="4191120" cy="3213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095880" y="2362320"/>
            <a:ext cx="1752840" cy="175248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590920" y="2228760"/>
            <a:ext cx="5867280" cy="4629240"/>
            <a:chOff x="2590920" y="2228760"/>
            <a:chExt cx="5867280" cy="4629240"/>
          </a:xfrm>
        </p:grpSpPr>
        <p:sp>
          <p:nvSpPr>
            <p:cNvPr id="136" name=""/>
            <p:cNvSpPr/>
            <p:nvPr/>
          </p:nvSpPr>
          <p:spPr>
            <a:xfrm>
              <a:off x="3733920" y="2228760"/>
              <a:ext cx="4724280" cy="2362320"/>
            </a:xfrm>
            <a:prstGeom prst="cloudCallout">
              <a:avLst>
                <a:gd name="adj1" fmla="val -54870"/>
                <a:gd name="adj2" fmla="val 75805"/>
              </a:avLst>
            </a:prstGeom>
            <a:gradFill rotWithShape="0">
              <a:gsLst>
                <a:gs pos="0">
                  <a:srgbClr val="e9dcb9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Verdana"/>
                </a:rPr>
                <a:t>Máy tính có những khả năng gì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>
              <a:off x="2590920" y="4952880"/>
              <a:ext cx="1905120" cy="190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4320" y="114300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Có thể dùng máy tính vào những việc gì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Bài 3. EM CÓ THỂ LÀM ĐƯỢC NHỮNG GÌ NHỜ MÁY TÍN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1752480"/>
            <a:ext cx="6553080" cy="5105520"/>
            <a:chOff x="0" y="1752480"/>
            <a:chExt cx="6553080" cy="5105520"/>
          </a:xfrm>
        </p:grpSpPr>
        <p:sp>
          <p:nvSpPr>
            <p:cNvPr id="142" name=""/>
            <p:cNvSpPr/>
            <p:nvPr/>
          </p:nvSpPr>
          <p:spPr>
            <a:xfrm>
              <a:off x="1828800" y="1752480"/>
              <a:ext cx="4724280" cy="2667240"/>
            </a:xfrm>
            <a:prstGeom prst="cloudCallout">
              <a:avLst>
                <a:gd name="adj1" fmla="val -62870"/>
                <a:gd name="adj2" fmla="val 61962"/>
              </a:avLst>
            </a:prstGeom>
            <a:gradFill rotWithShape="0">
              <a:gsLst>
                <a:gs pos="0">
                  <a:srgbClr val="e9dcb9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00"/>
                  </a:solidFill>
                  <a:latin typeface="Tahoma"/>
                </a:rPr>
                <a:t>Liệt kê những công việc được thực hiện nhờ máy tính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0" y="3429000"/>
              <a:ext cx="1457280" cy="3429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600200" y="2057400"/>
            <a:ext cx="6172200" cy="4574520"/>
            <a:chOff x="1600200" y="2057400"/>
            <a:chExt cx="6172200" cy="4574520"/>
          </a:xfrm>
        </p:grpSpPr>
        <p:sp>
          <p:nvSpPr>
            <p:cNvPr id="145" name=""/>
            <p:cNvSpPr/>
            <p:nvPr/>
          </p:nvSpPr>
          <p:spPr>
            <a:xfrm>
              <a:off x="2742120" y="6172200"/>
              <a:ext cx="362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Thực hiện các tính toá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1600200" y="2057400"/>
              <a:ext cx="6172200" cy="35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4422600" y="2514600"/>
              <a:ext cx="15973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1137600" y="2295360"/>
            <a:ext cx="7495920" cy="4193640"/>
            <a:chOff x="1137600" y="2295360"/>
            <a:chExt cx="7495920" cy="4193640"/>
          </a:xfrm>
        </p:grpSpPr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1299960" y="2295360"/>
              <a:ext cx="3353040" cy="274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4576680" y="2381040"/>
              <a:ext cx="3867120" cy="25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137600" y="5052960"/>
              <a:ext cx="7495920" cy="368280"/>
            </a:xfrm>
            <a:prstGeom prst="rect">
              <a:avLst/>
            </a:prstGeom>
            <a:solidFill>
              <a:srgbClr val="2b5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Quản l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í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những công việc lớn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không thể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chỉ dùng giấy tờ, sổ sá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9080" y="6029280"/>
              <a:ext cx="351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Hỗ trợ công tác quản l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588760" y="1996920"/>
            <a:ext cx="4726440" cy="4558680"/>
            <a:chOff x="2588760" y="1996920"/>
            <a:chExt cx="4726440" cy="4558680"/>
          </a:xfrm>
        </p:grpSpPr>
        <p:pic>
          <p:nvPicPr>
            <p:cNvPr id="154" name="" descr=""/>
            <p:cNvPicPr/>
            <p:nvPr/>
          </p:nvPicPr>
          <p:blipFill>
            <a:blip r:embed="rId6"/>
            <a:stretch/>
          </p:blipFill>
          <p:spPr>
            <a:xfrm>
              <a:off x="2590920" y="1996920"/>
              <a:ext cx="4724280" cy="35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588760" y="6095880"/>
              <a:ext cx="39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Công cụ học tập và giải tr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512800" y="1752480"/>
            <a:ext cx="4246920" cy="4879080"/>
            <a:chOff x="2512800" y="1752480"/>
            <a:chExt cx="4246920" cy="4879080"/>
          </a:xfrm>
        </p:grpSpPr>
        <p:pic>
          <p:nvPicPr>
            <p:cNvPr id="157" name="" descr=""/>
            <p:cNvPicPr/>
            <p:nvPr/>
          </p:nvPicPr>
          <p:blipFill>
            <a:blip r:embed="rId7"/>
            <a:stretch/>
          </p:blipFill>
          <p:spPr>
            <a:xfrm>
              <a:off x="3117960" y="1752480"/>
              <a:ext cx="329544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512800" y="6171840"/>
              <a:ext cx="424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Điều khiển tự động và robo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1523880" y="1523880"/>
            <a:ext cx="6662880" cy="5031720"/>
            <a:chOff x="1523880" y="1523880"/>
            <a:chExt cx="6662880" cy="5031720"/>
          </a:xfrm>
        </p:grpSpPr>
        <p:sp>
          <p:nvSpPr>
            <p:cNvPr id="160" name=""/>
            <p:cNvSpPr/>
            <p:nvPr/>
          </p:nvSpPr>
          <p:spPr>
            <a:xfrm>
              <a:off x="2164680" y="6095880"/>
              <a:ext cx="58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Liên lạc, tra cứu và mua bán trực tuyế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8"/>
            <a:stretch/>
          </p:blipFill>
          <p:spPr>
            <a:xfrm>
              <a:off x="4376520" y="4190760"/>
              <a:ext cx="3810240" cy="87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9"/>
            <a:stretch/>
          </p:blipFill>
          <p:spPr>
            <a:xfrm>
              <a:off x="1523880" y="1523880"/>
              <a:ext cx="1244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927880" y="2895480"/>
              <a:ext cx="2483640" cy="398880"/>
            </a:xfrm>
            <a:prstGeom prst="rect">
              <a:avLst/>
            </a:prstGeom>
            <a:solidFill>
              <a:srgbClr val="2b5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 cứu, tải dữ liệ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60880" y="5333760"/>
              <a:ext cx="2809800" cy="398880"/>
            </a:xfrm>
            <a:prstGeom prst="rect">
              <a:avLst/>
            </a:prstGeom>
            <a:solidFill>
              <a:srgbClr val="2b5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ửi, nhận thư điện t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332000" y="1981080"/>
            <a:ext cx="6521040" cy="4498200"/>
            <a:chOff x="1332000" y="1981080"/>
            <a:chExt cx="6521040" cy="4498200"/>
          </a:xfrm>
        </p:grpSpPr>
        <p:sp>
          <p:nvSpPr>
            <p:cNvPr id="166" name=""/>
            <p:cNvSpPr/>
            <p:nvPr/>
          </p:nvSpPr>
          <p:spPr>
            <a:xfrm>
              <a:off x="2102040" y="6019560"/>
              <a:ext cx="575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Tự động hoá các công việc văn phò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0"/>
            <a:stretch/>
          </p:blipFill>
          <p:spPr>
            <a:xfrm>
              <a:off x="1676160" y="1981080"/>
              <a:ext cx="6095880" cy="32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1"/>
            <a:stretch/>
          </p:blipFill>
          <p:spPr>
            <a:xfrm flipH="1" rot="21024000">
              <a:off x="1447200" y="3725640"/>
              <a:ext cx="160308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3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-4320" y="1143000"/>
            <a:ext cx="65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Có thể dùng máy tính vào những việc gì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7720" y="213372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ực hiện các tính to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7720" y="2819520"/>
            <a:ext cx="57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ự động hoá các công việc văn phò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80280" y="3429000"/>
            <a:ext cx="35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ỗ trợ công tác quản 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60120" y="403848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ông cụ học tập và giải tr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60480" y="4724280"/>
            <a:ext cx="42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Điều khiển tự động và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60120" y="5334120"/>
            <a:ext cx="58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Liên lạc, tra cứu và mua bán trực tuyế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1981080"/>
            <a:ext cx="381240" cy="381240"/>
          </a:xfrm>
          <a:prstGeom prst="sun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2286000"/>
            <a:ext cx="60948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22860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2286000"/>
            <a:ext cx="6858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2286000"/>
            <a:ext cx="6858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2286000"/>
            <a:ext cx="68580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Bài 3. EM CÓ THỂ LÀM ĐƯỢC NHỮNG GÌ NHỜ MÁY TÍN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-2880" y="10666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Máy tính và những điều chưa th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Bài 3. EM CÓ THỂ LÀM ĐƯỢC NHỮNG GÌ NHỜ MÁY TÍN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8853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2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-2880" y="121932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Máy tính và những điều chưa th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Bài 3. EM CÓ THỂ LÀM ĐƯỢC NHỮNG GÌ NHỜ MÁY TÍN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905120"/>
            <a:ext cx="8153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áy tính chưa thể có khả năng tư duy và cảm giác (phân biệt mùi vị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507960"/>
                <a:tab algn="l" pos="1015920"/>
                <a:tab algn="l" pos="1523880"/>
                <a:tab algn="l" pos="2031840"/>
                <a:tab algn="l" pos="2540160"/>
                <a:tab algn="l" pos="3048120"/>
                <a:tab algn="l" pos="3556080"/>
                <a:tab algn="l" pos="4064040"/>
                <a:tab algn="l" pos="4572000"/>
                <a:tab algn="l" pos="5079960"/>
                <a:tab algn="l" pos="5587920"/>
                <a:tab algn="l" pos="6095880"/>
                <a:tab algn="l" pos="6603840"/>
                <a:tab algn="l" pos="7112160"/>
                <a:tab algn="l" pos="7620120"/>
                <a:tab algn="l" pos="8128080"/>
                <a:tab algn="l" pos="8636040"/>
                <a:tab algn="l" pos="9144000"/>
                <a:tab algn="l" pos="9651960"/>
                <a:tab algn="l" pos="1015992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áy tính chưa thể thay thế hoàn toàn con ngườ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4191120"/>
            <a:ext cx="8229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07960" indent="406440" algn="just">
              <a:lnSpc>
                <a:spcPct val="12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n người làm ra máy tín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 người quyết định sức mạnh của máy tín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1752480"/>
            <a:ext cx="8686800" cy="4572000"/>
          </a:xfrm>
          <a:prstGeom prst="bevel">
            <a:avLst>
              <a:gd name="adj" fmla="val 1792"/>
            </a:avLst>
          </a:prstGeom>
          <a:gradFill rotWithShape="0">
            <a:gsLst>
              <a:gs pos="0">
                <a:srgbClr val="006600"/>
              </a:gs>
              <a:gs pos="50000">
                <a:srgbClr val="339966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990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Bài tập củng c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Bài 3. EM CÓ THỂ LÀM ĐƯỢC NHỮNG GÌ NHỜ MÁY TÍNH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980360"/>
            <a:ext cx="84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ác phát biểu sau đây là đúng hay sa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80880" y="2666880"/>
          <a:ext cx="8305920" cy="2828880"/>
        </p:xfrm>
        <a:graphic>
          <a:graphicData uri="http://schemas.openxmlformats.org/drawingml/2006/table">
            <a:tbl>
              <a:tblPr/>
              <a:tblGrid>
                <a:gridCol w="6705720"/>
                <a:gridCol w="838080"/>
                <a:gridCol w="7621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ú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áy tính là công cụ đa dụng và có những khả năng to lớ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áy tính có thể làm được tất cả mọi việc, có thể thay thế hoàn toàn con người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áy tính chỉ làm được những gì mà con người chỉ dẫn thông qua câu lệnh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ức mạnh của máy tính không phụ thuộc vào con người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7240320" y="304956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002440" y="365760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40320" y="441972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02440" y="499572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6:37:45Z</dcterms:created>
  <dc:creator>Ngoc Thong</dc:creator>
  <dc:description/>
  <dc:language>en-US</dc:language>
  <cp:lastModifiedBy>thuy</cp:lastModifiedBy>
  <dcterms:modified xsi:type="dcterms:W3CDTF">2007-07-03T01:47:10Z</dcterms:modified>
  <cp:revision>358</cp:revision>
  <dc:subject/>
  <dc:title>Bài 1 _ THÔNG TIN VÀ TIN HỌC</dc:title>
</cp:coreProperties>
</file>