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C02-D7E1-4279-B383-26CC4D80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FBA-6FC7-4087-9B10-212FA2AB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990-54C6-4DF9-9174-F869EC75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00E8-570A-45D1-A01F-55DA78A2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1E12-8542-459D-AF57-C1C618B9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8E53E-8C8F-4CF4-9B54-3B9FD2DC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90CF-28D2-4724-B0F7-B92BC207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FD0-58A2-4E5B-AADF-D9FBB479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86B8-E507-4290-906F-AB83DB64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EBAE-6D18-498D-8972-23351152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91D7-DEF2-4956-B64E-E6816A7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13F-F8C3-4237-A417-38C46016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349D-9BFB-4169-8FE0-AD913D1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CCD3-94B2-4A59-8EFB-0861E8B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1141-6425-4564-99D9-1EC73778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6411-67A1-44F8-AB2A-56B46112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87E9-36F5-4AFB-966E-51BF1D2A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681-76F5-44AA-B669-CB2152B6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0DA-EADA-45F5-9777-D41530C6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06D-198D-4354-A601-7F905B1F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893-F138-494D-AEA0-585DCF3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B99-216D-40ED-BFE2-AE3F5EFA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7296-AB42-4CBE-96F9-7FAAE32A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CF9-0A57-41DE-AD88-48C2A35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036D-1A60-4CA9-8225-D67682A197A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1BE-0159-4F3A-9677-F6CF9BA9AA6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039920" y="1721880"/>
            <a:ext cx="11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Arial"/>
              </a:rPr>
              <a:t>Bài 5</a:t>
            </a:r>
            <a:r>
              <a:rPr b="1" i="1" lang="en-US" sz="2400" spc="-1" strike="noStrike">
                <a:solidFill>
                  <a:srgbClr val="00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4267080"/>
            <a:ext cx="2286000" cy="2241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438280" y="2362320"/>
            <a:ext cx="3962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Luyện tập chuột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4280" y="197640"/>
            <a:ext cx="142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66"/>
                </a:solidFill>
                <a:latin typeface="Times New Roman"/>
              </a:rPr>
              <a:t>Chươ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33720" y="304920"/>
            <a:ext cx="742680" cy="761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29840" y="455760"/>
            <a:ext cx="467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Arial"/>
              </a:rPr>
              <a:t>--- PHẦN MỀM HỌC TẬP 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1295280"/>
            <a:ext cx="5562720" cy="0"/>
          </a:xfrm>
          <a:prstGeom prst="line">
            <a:avLst/>
          </a:prstGeom>
          <a:ln w="9360">
            <a:solidFill>
              <a:srgbClr val="b9e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7640" y="1051560"/>
            <a:ext cx="40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1. Các thao tác chính với chuột</a:t>
            </a:r>
            <a:r>
              <a:rPr b="0" lang="en-US" sz="1800" spc="-1" strike="noStrike">
                <a:solidFill>
                  <a:srgbClr val="b9ef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7400" y="2743200"/>
            <a:ext cx="5562360" cy="2971440"/>
            <a:chOff x="2057400" y="2743200"/>
            <a:chExt cx="5562360" cy="2971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057400" y="2743200"/>
              <a:ext cx="5562360" cy="29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53040" y="3058560"/>
              <a:ext cx="148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út phả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53040" y="4001400"/>
              <a:ext cx="14886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út giữ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400" y="2887560"/>
              <a:ext cx="1488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út trá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1760" y="167580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Quy ước đặt tên cho các nút của chuộ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7640" y="1051560"/>
            <a:ext cx="40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1. Các thao tác chính với chuột</a:t>
            </a:r>
            <a:r>
              <a:rPr b="0" lang="en-US" sz="2000" spc="-1" strike="noStrike">
                <a:solidFill>
                  <a:srgbClr val="b9efe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8960" y="14961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ách cầm chuộ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828320"/>
            <a:ext cx="8470800" cy="1456560"/>
          </a:xfrm>
          <a:prstGeom prst="upArrowCallout">
            <a:avLst>
              <a:gd name="adj1" fmla="val -120004"/>
              <a:gd name="adj2" fmla="val 145391"/>
              <a:gd name="adj3" fmla="val 16667"/>
              <a:gd name="adj4" fmla="val 66660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ùng tay phải để giữ chuột, ngón trỏ đặt lên nút trá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gón giữa đặt lên nút phải chuộ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2360" y="2286000"/>
            <a:ext cx="3845880" cy="2440800"/>
            <a:chOff x="972360" y="2286000"/>
            <a:chExt cx="3845880" cy="244080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 rot="21154800">
              <a:off x="1066320" y="2801880"/>
              <a:ext cx="36576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30040" y="2286000"/>
              <a:ext cx="3657600" cy="23623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62720" y="1589400"/>
            <a:ext cx="2851920" cy="3310560"/>
            <a:chOff x="5562720" y="1589400"/>
            <a:chExt cx="2851920" cy="3310560"/>
          </a:xfrm>
        </p:grpSpPr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 rot="249600">
              <a:off x="5790960" y="1676160"/>
              <a:ext cx="2512800" cy="31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562720" y="1600200"/>
              <a:ext cx="2590560" cy="320040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86200" y="5105520"/>
            <a:ext cx="1525680" cy="1752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4482600">
            <a:off x="7366320" y="2386800"/>
            <a:ext cx="519120" cy="927000"/>
          </a:xfrm>
          <a:prstGeom prst="irregularSeal1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5720" y="989640"/>
            <a:ext cx="40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1. Các thao tác chính với chuộ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7760" y="152316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Các thao tác chính với chuột bao gồm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2057400"/>
            <a:ext cx="5562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Di chuyển chuột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Giữ và di chuyển chuột trên mặt phẳn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514600"/>
            <a:ext cx="48006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háy chuột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ấn nhanh nút trái chuột và thả ta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048120"/>
            <a:ext cx="5333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háy chuột phải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ấn nhanh nút phải chuột và thả ta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94600">
            <a:off x="6059520" y="3139560"/>
            <a:ext cx="519120" cy="927360"/>
          </a:xfrm>
          <a:prstGeom prst="irregularSeal1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00800" y="2743200"/>
            <a:ext cx="2254320" cy="259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386400" y="3067200"/>
            <a:ext cx="1357560" cy="981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7034040" y="2762280"/>
            <a:ext cx="978120" cy="954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629400" y="2438280"/>
            <a:ext cx="0" cy="76212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819520"/>
            <a:ext cx="0" cy="60948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2209680" y="4191120"/>
            <a:ext cx="1525680" cy="1752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543800" y="2133720"/>
            <a:ext cx="0" cy="7617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2209680"/>
            <a:ext cx="0" cy="76212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3505320"/>
            <a:ext cx="64008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1448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háy đúp chuột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áy nhanh hai lần liên tiếp nút trái chuộ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1440" y="3963240"/>
            <a:ext cx="5214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Kéo thả chuột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Nhấn và giữ nút trái chuột, di chuyển chuột đến vị trí đích và thả tay để kết thúc thao tá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3905280" y="5334120"/>
            <a:ext cx="895320" cy="644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43400" y="4876920"/>
            <a:ext cx="0" cy="761760"/>
          </a:xfrm>
          <a:prstGeom prst="line">
            <a:avLst/>
          </a:prstGeom>
          <a:ln cap="sq" w="28440">
            <a:solidFill>
              <a:srgbClr val="0000ff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4876920"/>
            <a:ext cx="0" cy="76176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2384280" y="259092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648400" y="4191120"/>
            <a:ext cx="3934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118 -0.05162 -0.04236 -0.10324 -0.08107 -0.11042 C -0.11979 -0.11759 -0.21909 -0.09236 -0.23263 -0.04375 C -0.24618 0.00486 -0.21024 0.1456 -0.16232 0.18125 C -0.11458 0.2169 0.02605 0.20023 0.05487 0.17083 C 0.08351 0.14144 0.04792 0.04051 0.00955 0.00417 C -0.02916 -0.03218 -0.1493 -0.0662 -0.17638 -0.04792 C -0.20347 -0.02963 -0.17916 0.08102 -0.15295 0.11458 C -0.12673 0.14815 -0.04132 0.14861 -0.01857 0.15417 E">
                                      <p:cBhvr>
                                        <p:cTn id="4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-0.08796 C -0.03333 -0.13958 -0.05451 -0.1912 -0.09323 -0.19838 C -0.13194 -0.20556 -0.23125 -0.18033 -0.24479 -0.13171 C -0.25833 -0.0831 -0.2224 0.05764 -0.17448 0.09329 C -0.12674 0.12893 0.01372 0.11227 0.04271 0.08287 C 0.07135 0.05347 0.03576 -0.04745 -0.0026 -0.0838 C -0.04149 -0.12014 -0.16146 -0.15417 -0.18854 -0.13588 C -0.21562 -0.11759 -0.19132 -0.00695 -0.1651 0.02662 C -0.13889 0.06018 -0.05347 0.06065 -0.03073 0.0662 E">
                                      <p:cBhvr>
                                        <p:cTn id="5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3.33333E-006 0.05556 E">
                                      <p:cBhvr>
                                        <p:cTn id="76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1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6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100"/>
                            </p:stCondLst>
                            <p:childTnLst>
                              <p:par>
                                <p:cTn id="9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5555 E">
                                      <p:cBhvr>
                                        <p:cTn id="100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600"/>
                            </p:stCondLst>
                            <p:childTnLst>
                              <p:par>
                                <p:cTn id="10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1111 L 3.33333E-006 0.04444 E">
                                      <p:cBhvr>
                                        <p:cTn id="11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xit" presetID="53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100"/>
                            </p:stCondLst>
                            <p:childTnLst>
                              <p:par>
                                <p:cTn id="1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6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 -0.08888 E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100"/>
                            </p:stCondLst>
                            <p:childTnLst>
                              <p:par>
                                <p:cTn id="142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3.33333E-006 0.05555 E">
                                      <p:cBhvr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xit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5555 E">
                                      <p:cBhvr>
                                        <p:cTn id="176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3.33333E-006 0.05555 E">
                                      <p:cBhvr>
                                        <p:cTn id="188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5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0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3.33333E-006 -0.05555 E">
                                      <p:cBhvr>
                                        <p:cTn id="20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5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3600" y="1141920"/>
            <a:ext cx="70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efee"/>
                </a:solidFill>
                <a:latin typeface="Arial"/>
              </a:rPr>
              <a:t>2. Luyện tập sử dụng chuột với phần mềm Mouse Skil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9051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Khởi động  phần mềm và theo dõi các thao tá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01960" y="227880"/>
            <a:ext cx="45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Arial"/>
              </a:rPr>
              <a:t>Bài 5. LUYỆN TẬP CHU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7-03T02:54:4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