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635-7CEA-46DD-AC11-ED0F26AE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AFE-E060-4A92-8F69-7B184F92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D3B-07E1-4ED3-8490-5DEB7A65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D43-263B-4414-8995-DEA9D6CC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4C3-B442-45E4-B5D3-7EF1135A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8E3-FE3F-49C8-AEA2-588652E7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528-1AFB-49ED-B4BB-58CFED22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090-93CD-4773-8FA5-BF34A6A4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5F1-6E04-4F61-A9A8-BD3F2FA7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564-E34E-4259-9A30-9505EF8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267-D160-4D47-A814-B55FD73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02E-C11F-4127-976E-D26948DA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859C-0EC3-42B6-AB7C-2B337096D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ÀI TẬP CUỐI CHƯƠNG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240" y="38052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a có OA = OC và AE = CF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OE = 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lại có DM // NB và DM = NB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tứ giác DMBN là hình bình hàn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O là trung điểm của M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ứ giác EMFN có hai đường chéo cắt nhau tại trung điểm 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tứ giác EMFN là hình bình hàn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656240" y="179280"/>
            <a:ext cx="44114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9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tam giác ABC cân tại A. Gọi H, D lần lượt là trung điểm của các cạnh BC và A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Chứng minh rằng tứ giác ADHC là hình tha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Gọi E là điểm đối xứng với H qua D. Chứng minh rằng tứ giác AHBE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Tia CD cắt AH tại M và cắt BE tại N. Chứng minh rằng tứ giác AMBN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157800" y="3581280"/>
            <a:ext cx="2602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Xét ∆AHB vuông tại H c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D là đường trung tuyến ứng với cạnh huyền AB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HD = BD = AB/ 2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hi đó ∆DHB cân tại D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 góc DBH = góc DHB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 giác ABC cân tại 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góc  ACB = góc DB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 góc ACB =góc  DHB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góc ACB = góc DH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ai góc ở vị trí đồng vị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đó DH // A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tứ giác ADHC là hình tha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Gọi E là điểm đối xứng với H qua D. Chứng minh rằng tứ giác AHBE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 giác ABC cân tại 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ó đường trung tuyến A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AH cũng là đường ca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AH ⊥ B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ét tứ giác AHBE, ta có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= DB và DH =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 AHBE là hình bình hàn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ặt khác,  góc AHB =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hình bình hành AHBE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Tia CD cắt AH tại M và cắt BE tại N. Chứng minh rằng tứ giác AMBN là hình bình hàn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ét ∆ADM và ∆BDN, ta c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óc ADM= BDN (đối đỉnh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óc DAM = góc DBN(soletrong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= DB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y ra ∆ADM = ∆BDN (g.c.g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ên DM = D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ứ giác AMBN có hai đường chéo cắt nhau tại trung điểm của mỗi đường nên AMBN là hình bình hàn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486400" y="83808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1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tam giác ABC vuông tại A (AB &lt; AC). Gọi M, N, E lần lượt là trung điểm của AB, AC, B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Chứng minh rằng tứ giác ANEB là hình thang vuô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Chứng minh rằng tứ giác ANEM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Qua M kẻ đường thẳng song song với BN cắt tia EN tại F. Chứng minh rằng tứ giác AFCE là hình tho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/ Gọi D là điểm đối xứng của E qua M. Chứng minh rằng A là trung điểm của D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543480" y="4057560"/>
            <a:ext cx="48384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ọi Q là điểm đối xứng của N qua 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tứ giác BNCQ là hình bình hàn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BQ // CN và BQ = C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đó, BQ // AN và BQ = 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tứ giác ANQB là hình bình hàn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NQ // AB hay NE // A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lại có AB ⊥ AC, suy ra NE ⊥ AN. Vậy tứ giác ANEB là hình thang vuô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695760" y="3886200"/>
            <a:ext cx="48387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hứng minh tương tự câu a) ta có ME ⊥ A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ứ giác ANEM có ba góc vuông nên ANEM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Tứ giác BMFN có BN // MF và BM // NF nên BMFN là hình bình hàn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NF = BM = AM = 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ứ giác AFCE có hai đường chéo vuông góc tại trung điểm mỗi đường nên AFCE là hình tho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124080" y="-122400"/>
            <a:ext cx="48387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Tứ giác AEBD có MA = MB và ME = MD nên AEBD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AD // EB và AD = E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AFCE là hình thoi nên AF // CE và AF = 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à EB = EC, suy ra AF = 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ặt khác, AD // BC // AF nên A, D, F thẳng hà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ậy A là trung điểm của D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971800" y="0"/>
            <a:ext cx="48387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1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hình bình hành ABCD có AB = 2AD. Gọi E và F lần lượt là trung điểm của AB và CD, I là giao điểm của AF và DE, K là giao điểm của BF và 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Chứng minh rằng tứ giác AECF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Tứ giác AEFD là hình gì? Vì sa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Chứng minh rằng tứ giác EIFK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/ Tìm điều kiện của hình bình hành ABCD để tứ giác EIFK là hình vuô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809880" y="3733920"/>
            <a:ext cx="48355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Ta có ABCD là hình bình hàn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AB // CD và AB = C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AE // CF và AE = CF, suy ra tứ giác AECF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Ta có AE // DF và AE = DF, suy ra tứ giác AEFD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ặt khác AD = AE (AB = 2AD) nên hình bình hành AEFD là hình tho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809880" y="0"/>
            <a:ext cx="4835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Tứ giác EBFD có EB // DF và EB = D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ên EBFD là hình bình hành. Suy ra EI // F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g hình thoi AEFD, ta có ED ⊥ A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EK // IF, EI // FK và IE ⊥ I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tứ giác EIFK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Tứ giác EIFK là hình vuông khi IF = I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AF = 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hình thoi AEFD là hình vuô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góc DAE =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ABCD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537080" y="4114800"/>
            <a:ext cx="4835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ho hình bình hành ABCD có AD = 2AB. Từ C vẽ CE vuông góc với AB tại E. Nối E với trung điểm M của AD. Từ M vẽ MF vuông góc với CE tại F, MF cắt BC tại 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Tứ giác MNCD là hình gì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Chứng minh tam giác EMC cân tại 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Chứng minh rằng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350532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"/>
          <p:cNvGraphicFramePr/>
          <p:nvPr/>
        </p:nvGraphicFramePr>
        <p:xfrm>
          <a:off x="3657600" y="3124080"/>
          <a:ext cx="1689120" cy="36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3124080"/>
                    <a:ext cx="16891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Tứ giác MNCD là hình gì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MN // AB (vì cùng vuông góc với CE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MN // CD (vì AB // C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ét tứ giác MNCD có MN // CD và NC // MD  nên MNCD là hình bình hàn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ặt khác, CD = MD (vì CD = 1 /2 A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hình bình hành MNCD là hình tho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870440" y="0"/>
            <a:ext cx="350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Chứng minh tam giác EMC cân tại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có ∆EBC vuông tại E và NC = NB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EN = 1/ 2 BC = N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∆ENC cân tại 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à NF là đường cao nên NF cũng là đường trung trực của ∆EN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y ra ME = MC hay ∆MEC cân tại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870440" y="76320"/>
            <a:ext cx="3505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Chứng minh rằng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góc AEM = góc EMN (góc so le trong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c  EMN = gócNMC (∆EMC cân tại M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c NMC= gócMCD (góc so le trong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 góc AEM = góc MC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lại có MDCN là hình tho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g hình bình hành ABCD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        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      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4495680" y="304920"/>
          <a:ext cx="168912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04920"/>
                    <a:ext cx="16891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5334120" y="2362320"/>
            <a:ext cx="3504960" cy="213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Object 5"/>
          <p:cNvGraphicFramePr/>
          <p:nvPr/>
        </p:nvGraphicFramePr>
        <p:xfrm>
          <a:off x="1523880" y="3343320"/>
          <a:ext cx="3468960" cy="46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343320"/>
                    <a:ext cx="3468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1600200" y="4343400"/>
          <a:ext cx="191628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4343400"/>
                    <a:ext cx="191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1700280" y="4800600"/>
          <a:ext cx="218592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00280" y="4800600"/>
                    <a:ext cx="21859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4"/>
          <p:cNvSpPr/>
          <p:nvPr/>
        </p:nvSpPr>
        <p:spPr>
          <a:xfrm>
            <a:off x="5943600" y="3962520"/>
            <a:ext cx="45720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âu hỏi trắc nghiệ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ạn Nam dùng 6 đoạn tre vót thẳng để làm khung diều hình thoi. Trong đó có 2 đoạn tre dài 60 cm và 80 cm để làm hai đường chéo của cái diều, 4 đoạn tre còn lại là 4 cạnh của cái diều. Khi đó tổng độ dài 4 đoạn tre dùng làm cạnh của cái diều hình thoi l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m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m.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,5 m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6"/>
          <p:cNvSpPr/>
          <p:nvPr/>
        </p:nvSpPr>
        <p:spPr>
          <a:xfrm>
            <a:off x="457200" y="1371600"/>
            <a:ext cx="45720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7"/>
          <p:cNvSpPr/>
          <p:nvPr/>
        </p:nvSpPr>
        <p:spPr>
          <a:xfrm>
            <a:off x="457200" y="3886200"/>
            <a:ext cx="45720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hình thang cân ABCD (AB // CD) có                     Số đo góc C l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5</a:t>
            </a:r>
            <a:r>
              <a:rPr b="0" lang="de-D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5</a:t>
            </a:r>
            <a:r>
              <a:rPr b="0" lang="de-DE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g các khẳng định sau, khẳng định nào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ứ giác có ba góc vuông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bình hành có một góc vuông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bình hành có hai đường chéo cắt nhau tại trung điểm của mỗi đường là hình chữ nhậ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ứ giác có các cạnh đối bằng nhau là hình bình hàn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7772400" y="349200"/>
          <a:ext cx="98424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49200"/>
                    <a:ext cx="9842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4"/>
          <p:cNvSpPr/>
          <p:nvPr/>
        </p:nvSpPr>
        <p:spPr>
          <a:xfrm>
            <a:off x="380880" y="2133720"/>
            <a:ext cx="60984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380880" y="4800600"/>
            <a:ext cx="60984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tam giác ABC vuông tại A, đường trung tuyến AM. Biết AB = 8 cm; AC = 15 cm. Độ dài đoạn AM l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5 cm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cm.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cm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,5 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hình thoi ABCD có cạnh bằng 13 cm, độ dài đường chéo AC là 10 cm. Độ dài đường chéo BD l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 cm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 cm.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 cm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3"/>
          <p:cNvSpPr/>
          <p:nvPr/>
        </p:nvSpPr>
        <p:spPr>
          <a:xfrm>
            <a:off x="838080" y="3581280"/>
            <a:ext cx="533520" cy="381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g các khẳng định sau, khẳng định nào đú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chữ nhật có hai đường chéo bằng nhau là hình vuô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thoi có hai đường chéo vuông góc là hình vuô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thoi có một góc vuông là hình vuô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ình chữ nhật có một góc vuông là hình vuô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4"/>
          <p:cNvSpPr/>
          <p:nvPr/>
        </p:nvSpPr>
        <p:spPr>
          <a:xfrm>
            <a:off x="762120" y="1905120"/>
            <a:ext cx="53316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838080" y="838080"/>
          <a:ext cx="386712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3867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u 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tứ giác ABCD, biết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hi đó số đo góc C l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3914640" y="1905120"/>
            <a:ext cx="309564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ài tập tự luậ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8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hình bình hành ABCD. Các điểm E, F thuộc đường chéo AC sao cho AE = EF = FC. Gọi M là giao điểm của BF và CD, N là giao điểm của DE và AB. Chứng minh rằ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 M, N theo thứ tự là trung điểm của CD, AB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EMFN là hình bình hàn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400640" y="3581280"/>
            <a:ext cx="405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Ta có ABCD là hình bình hàn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O là trung điểm của hai đường chéo AC và B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 CF = 1/3 CA = 2/3 C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 ra F là trọng tâm của tam giác BC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đó BM là đường trung tuyến của tam giác BCD hay M là trung điểm của C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ứng minh tương tự, N là trung điểm của A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960800" y="27000"/>
            <a:ext cx="4411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04T09:18:41Z</dcterms:created>
  <dc:creator>Admin</dc:creator>
  <dc:description/>
  <dc:language>en-US</dc:language>
  <cp:lastModifiedBy>Admin</cp:lastModifiedBy>
  <dcterms:modified xsi:type="dcterms:W3CDTF">2023-08-04T12:07:28Z</dcterms:modified>
  <cp:revision>28</cp:revision>
  <dc:subject/>
  <dc:title>BÀI TẬP CUỐI CHƯƠNG 3</dc:title>
</cp:coreProperties>
</file>