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2477-61DF-4E0C-8A0B-91F30FDAD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8281-A121-42D2-98CD-D457FC70E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1A9B-8C91-4574-913F-B8B1891F1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B95F-1FB0-4C45-9312-06C2268C1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7A1C0-A1B1-44D1-A3C4-5364255A9F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6C5F-6271-4F6B-BF57-A21D1B2EA0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95A1-0D13-4965-8E69-5BE2A72757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6C52-2BBB-4569-A6FC-19BC17EA6B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8854-A53C-476A-AA20-BCA6F7AAE8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C61D-EF29-4B5B-98D9-C4CE3D519C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4672-A2E1-4D1E-85CA-EF3582DC9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5850-F4C5-4EB3-9B66-44BC555B1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ED7F-4DCF-48BD-AACE-4CBCA369FB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FACD-EC7B-4183-A477-B0040AE66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C38C-D804-41E0-887F-4AE7255064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0FC2-E49C-4B7E-BFCD-2178977348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31CD-C28C-4960-816D-EBB21F92F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232B-D6AE-4F26-974C-DFB7A8A5B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D799-DBC0-431D-818C-783E26136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1E74-B7AD-4B7B-8A97-AA7029216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28D5-E000-4984-82E9-69331AA3B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093E-866D-4075-B0F1-76781BE9E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C748-5193-4B1D-AAF8-B9C65B630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2B0D-7629-4C0F-B5A2-D9BB76D44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3910-5135-487A-A2E2-555550BC43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thực hành 4: Bảng điểm của lớp 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A9E4-7876-4B11-B53F-71013749FBA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2286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ảng điểm của lớp e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Bài thực hành 4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800B-C2BB-44A7-9AC4-C12D909D5E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76212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4: Sử dụng hàm SU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iả sử chúng ta có các số liệu thống kế sa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8001000" cy="37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5D0E-72DC-4E1C-9861-7ED928477B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9680" y="68580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4: Sử dụng hàm S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hàm thích hợp tính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9051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ổng giá trị sản xuất của vùng đó theo từng năm vào cột bên phả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ính giá trị sản xuất trung bình trong sáu năm theo từng ngành sản xuấ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bảng tính với tên “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Gia tri san xua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CC97-177B-4F8C-8974-30CF22A212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9680" y="68580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4: Sử dụng hàm S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295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ổng giá trị sản xuất của vùng đó theo từng năm vào cột bên phả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77320" cy="368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60680" y="2003400"/>
            <a:ext cx="2416320" cy="38088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2209680"/>
            <a:ext cx="1752480" cy="1447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4D7A-6531-4CF2-80B6-CC54728750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68580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4: Sử dụng hàm S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295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Tính giá trị sản xuất trung bình trong sáu năm theo từng ngành sản xuấ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2013120"/>
            <a:ext cx="8153640" cy="3728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81480" y="1981080"/>
            <a:ext cx="2654280" cy="4129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022200" y="2416320"/>
            <a:ext cx="1066680" cy="3124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4A0D-30CB-485A-AA3B-ACC7D73E9B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7CAE-6F6D-4A6B-A5D4-FB6C98CEFF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1: Mở bảng tính “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Bang diem lop e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 (Bài thực hành 1) rồi làm theo yêu cầu sau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9056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Nhập điểm thi các môn như hình bê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6110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Ghi bảng tính với tên: “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Bang diem lop e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1477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ính điểm trung bình của  từng bạn trong lớp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476760" cy="336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4AD3-5887-4B6B-9EDD-4879B95CDD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828440" y="9903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G3 (điểm trung bình của bạn Đinh Vạn Hoàng An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ập công thức =(C3+D3+E3)/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ấ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kết quả là 7.6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iểm trung bình của các bạn khác làm tương tự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77240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FEA6-3779-4E4A-BC5E-F23DBE6D43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914400"/>
            <a:ext cx="831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2: Mở bảng tính “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o theo doi the lu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 đã được lưu trong bài tập 4, bài thực hành 2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320" y="550548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ính chiều cao trung bì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ính cân nặng trung bì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trang tí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29400" cy="35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B042-BBCF-4AA5-BB92-8AD285E836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924680" cy="4259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để ghi chiều cao trung bình (E1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ập công thức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6095880"/>
            <a:ext cx="7162560" cy="457200"/>
          </a:xfrm>
          <a:prstGeom prst="wedgeRectCallout">
            <a:avLst>
              <a:gd name="adj1" fmla="val 41069"/>
              <a:gd name="adj2" fmla="val -134375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(E3+E4+E5+E6+E7+E8+E9+E10+E11+E12+E13+E14)/12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BD01-20C5-46E2-A1B5-869A9B3F46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839080" cy="370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914400"/>
            <a:ext cx="8318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3: Sử dụng hàm AVERAGE, MIN, M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 Sử dụng hàm tính lại điểm trung bình đã tính trong bài tập 1. So sánh với cách tính bằng công thứ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666880"/>
            <a:ext cx="2209680" cy="38124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2895480"/>
            <a:ext cx="2514600" cy="1219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DEB8-5321-480D-95F8-FB547CC705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2520" y="1623960"/>
            <a:ext cx="6400800" cy="2698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6476760" cy="271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6553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 sánh với cách tính bằng công thứ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9680" y="60948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3: Sử dụng hàm AVERAGE, MIN, M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06480" y="1568520"/>
            <a:ext cx="2210040" cy="38088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3581280"/>
            <a:ext cx="2209680" cy="38124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FB9C-01CE-4F6D-97BA-5D242A8A3D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6934320" cy="4113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9680" y="60948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3: Sử dụng hàm AVERAGE, MIN, M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hàm AVERAGE để tính điểm trung bình từng môn của cả lớp trong dòng “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Điểm trung bình các mô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22440" y="1828800"/>
            <a:ext cx="5121360" cy="38088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6320" y="5638680"/>
            <a:ext cx="1371600" cy="3049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9F9E-1CA0-4A5B-9097-1D6A65B428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34320" cy="452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9680" y="60948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3: Sử dụng hàm AVERAGE, MIN, M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hàm MAX, MIN để xác định môn học có điểm trung bình cao nhất, thấp nhấ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81360" y="1719360"/>
            <a:ext cx="2209680" cy="38088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57760" y="5762520"/>
            <a:ext cx="1218960" cy="3049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E71F-D32C-4E4D-AD33-E7B3EC0C05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05:08:46Z</dcterms:created>
  <dc:creator>thapnv</dc:creator>
  <dc:description/>
  <dc:language>en-US</dc:language>
  <cp:lastModifiedBy>pham thanh nam</cp:lastModifiedBy>
  <dcterms:modified xsi:type="dcterms:W3CDTF">2007-08-20T07:40:18Z</dcterms:modified>
  <cp:revision>345</cp:revision>
  <dc:subject/>
  <dc:title>Các giao thức khoá cho hệ quản trị cơ sở dữ liệu phân tán</dc:title>
</cp:coreProperties>
</file>