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93BB-E02F-4E9E-AC88-BF512674A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78BC-3A51-4A3E-B6BB-7A8A48155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E63A-F25F-4F72-9FFC-647A228AF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1F93-8408-4298-A427-47ED1059E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1D00-BD0C-4EE5-A84D-8A54AF2A43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B214-D787-405C-BB2C-AF145554CB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48C7-8A3A-497E-B031-A9DA18883E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F277-8423-45D0-846A-6148F41994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FE37-C28B-4B9C-B105-85FF039BBD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FF0E-3A82-4D9C-A867-3A75E4E7E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137A-C7DC-45D7-B171-0C39D9ED2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5F00-18AD-42DD-B154-CC47D9ABD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F8A1-658A-46DA-B3A7-BC6D7B31A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8CB2-02C8-4EE9-927E-AE8FAE1FF2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461A-14EE-4715-BB0C-4B137BAC9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ED6B-4E1F-4392-A1BD-8FDB3D77E1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34DA-3D2B-4FCA-8360-7312F500D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8188-D1C5-4067-A20C-0ABA737E2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4BDF-289B-4B9B-AEC1-DB47EB844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448F-9431-4302-B43E-2D0646D5A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B28E-E58F-413C-AA93-E0F9CFF1B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4BE0-1E28-47DB-A674-C15B0E6C3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F639-1980-49A4-A31A-0F8E5E3B4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3462-CB0D-45F8-8CE8-4028F35D0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512-2367-43A1-989F-BFD7AB36A3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9: Tạo biểu đồ để minh ho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A68-28BF-406C-8CC3-F4BAFABFDF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Arial"/>
              </a:rPr>
              <a:t>Bài thực hành 9</a:t>
            </a:r>
            <a:br>
              <a:rPr sz="3200"/>
            </a:br>
            <a:br>
              <a:rPr sz="2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ạo biểu đồ để minh hoạ</a:t>
            </a:r>
            <a:br>
              <a:rPr sz="4000"/>
            </a:br>
            <a:endParaRPr b="1" lang="en-US" sz="4000" spc="-1" strike="noStrike">
              <a:solidFill>
                <a:srgbClr val="ff69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1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Ôn tập kiến thức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ững loại biểu đồ nào hay được sử dụng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êu các bước để tạo một biểu đồ trong Excel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thanh công cụ nào để thay đổi dạng biểu đồ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êu thao tác đưa một biểu đồ từ bảng tính Excel vào Wor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067600" y="3429000"/>
            <a:ext cx="1076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2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Yêu cầu thực hiện trên máy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hiếu bài tập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hởi động bảng tính Excel, nhập dữ liệu vào trang tính (h. 113,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GK),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ó thể nhập theo số liệu khác và thêm lớp ở cột A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ạo biểu đồ trên cơ sở dữ liệu của khối A4:D9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ực hiện thao tác cần thiết để có trang tính như hình 11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SGK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ạo biểu đồ cột trên cơ sở dữ liệu của khối A4:C9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3835440"/>
            <a:ext cx="3505320" cy="214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81080" y="604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ình 1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352680" cy="220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67280" y="604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ình 11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3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hiếu bài tập 2. Học sinh phải sử dụng lại các kết quả của bài tập 1 và thực hành trên máy các yêu cầu sau:</a:t>
            </a:r>
            <a:endParaRPr b="1" lang="en-US" sz="18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3047760" cy="17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ình 1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828800"/>
            <a:ext cx="8477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ạo mới một biểu đồ đường thẳng trên cơ sở dữ liệu của khối A4:C9  (h. 114, SGK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lại biểu đồ cột đã tạo trong mục d) của Bài tập 1 và đổi dạng biểu đồ thành biểu đồ đường thẳng. So sánh với kết quả nhận được ở mục a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ổi dạng biểu đồ vừa nhận được ở mục b) thành biểu đồ hình tròn bằng cách nháy nút      trên thanh công cụ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ar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chọn biểu tượng             (h.115, SGK). Nhận xét về dữ liệu xử lí của biểu đồ đã tạo ở mục b) và biểu đồ vừa tạo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ực hiện thao tác xoá cột để có trang tính như hình 117, SGK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ạo biểu đồ hình tròn trên cơ sở dữ liệu của khối A4:B9. Kết quả của em sẽ tương tự như hình 118, SGK. Đổi biểu đồ nhận được thành biểu đồ đường thẳng và sau đó thành biểu đồ cộ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oc sinh gioi khoi 7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38280" y="3301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391520" y="329076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4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hiếu bài tập 3. Mở bảng tính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Bang diem lop em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lưu trong bài thực hành 7</a:t>
            </a:r>
            <a:endParaRPr b="1" lang="en-US" sz="18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17880" cy="4514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24480" y="6019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Bảng điểm lớp 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thích hợp, hãy tính điểm trung bình theo từng môn học của cả lớp vào hàng dưới cùng của danh sách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ạo biểu đồ cột để minh hoạ điểm trung bình các môn học của cả lớ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ực hiện thao tác sao và dán, hãy sao chép biểu đồ tạo được trên trang tính vào văn bản Wor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22:10:09Z</dcterms:created>
  <dc:creator>Ngoc Trang</dc:creator>
  <dc:description/>
  <dc:language>en-US</dc:language>
  <cp:lastModifiedBy>pham thanh nam</cp:lastModifiedBy>
  <dcterms:modified xsi:type="dcterms:W3CDTF">2007-08-23T03:57:45Z</dcterms:modified>
  <cp:revision>22</cp:revision>
  <dc:subject/>
  <dc:title>Bài thực hành 9</dc:title>
</cp:coreProperties>
</file>