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4FCE-2745-48D4-B728-FA5C70720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18D5-1E70-4CBB-88EF-ED9D5004C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D0FA-86B7-43EE-A121-F7F221C34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6536-DB81-4974-8DE7-7D1A95C07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F8DB-E403-46FF-825C-04C55F1438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A666-D0EA-495C-BA7F-DAA187EE4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EB36-3FE2-4518-B3C5-707E431F60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CD16-836B-4F67-88BE-23A2336E5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B3DA-4139-43A0-BB6B-6C5B2E03A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18FE-58AD-4DA9-8419-A69D998FF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E7A1-A8A6-4EEC-9829-1515F5E2C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B94-62FE-4D2B-AB7E-BE23B5DF0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ABC1-755B-4ED0-98D9-708E846BAF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FD5E-F654-4089-8EE2-BEAE9DB246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F5B6-0EDC-4385-944A-B20F62DA2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1F8A-19DF-4736-AE7D-1F7246A8A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FE78-FFC3-4499-AB17-98297749E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956E-FF14-4536-877C-C8291D5A2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51CD-ACF7-4373-ACB8-AB3024C3E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5E4E-A998-4CF8-849E-3872E2E3A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A0D6-F51B-4010-B6F8-41600C2FF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5691-5A31-414B-88B7-C6F803608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1960-36B2-4878-8527-CB6D5651F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F4EA-ABAF-4D5B-B0AB-094B20160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ài 7.Trình bày và in trang tín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440" y="6553080"/>
            <a:ext cx="8458200" cy="304920"/>
            <a:chOff x="685440" y="6553080"/>
            <a:chExt cx="8458200" cy="304920"/>
          </a:xfrm>
        </p:grpSpPr>
        <p:sp>
          <p:nvSpPr>
            <p:cNvPr id="2" name=""/>
            <p:cNvSpPr/>
            <p:nvPr/>
          </p:nvSpPr>
          <p:spPr>
            <a:xfrm>
              <a:off x="1121400" y="6553080"/>
              <a:ext cx="802224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85080" y="6553080"/>
              <a:ext cx="45036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34A9-6530-429D-86B8-8E772188B3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C598-2E89-4755-954F-E29E2D9060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9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ình bày và in tra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E613-5953-4BBE-AB14-BA858A2F71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. Thiết đặt lề trang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ước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1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 Setu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ẽ xuất hiện hộp thoạ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ước 2: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trang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rgi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Thay đổi thông số trong các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gh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ước 3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háy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457520" cy="3495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924680" y="1523880"/>
            <a:ext cx="1219320" cy="3430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Lề tr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50200" y="1371600"/>
            <a:ext cx="854280" cy="2133360"/>
            <a:chOff x="4750200" y="1371600"/>
            <a:chExt cx="854280" cy="2133360"/>
          </a:xfrm>
        </p:grpSpPr>
        <p:sp>
          <p:nvSpPr>
            <p:cNvPr id="181" name=""/>
            <p:cNvSpPr/>
            <p:nvPr/>
          </p:nvSpPr>
          <p:spPr>
            <a:xfrm flipV="1">
              <a:off x="5181480" y="1752120"/>
              <a:ext cx="0" cy="175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0200" y="137160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Lề trá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507280" y="4495680"/>
            <a:ext cx="983880" cy="1739880"/>
            <a:chOff x="5507280" y="4495680"/>
            <a:chExt cx="983880" cy="1739880"/>
          </a:xfrm>
        </p:grpSpPr>
        <p:sp>
          <p:nvSpPr>
            <p:cNvPr id="184" name=""/>
            <p:cNvSpPr/>
            <p:nvPr/>
          </p:nvSpPr>
          <p:spPr>
            <a:xfrm>
              <a:off x="5943600" y="4495680"/>
              <a:ext cx="0" cy="137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7280" y="586728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Lề dướ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43800" y="5981760"/>
            <a:ext cx="1066680" cy="34272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2209680"/>
            <a:ext cx="60984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EE1F-48C8-4590-933E-5F481703D6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. Thiết đặt hướng trang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114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ay đổi hướng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ước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1: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tu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ẽ xuất hiện hộp tho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6600"/>
                </a:solidFill>
                <a:latin typeface="Arial"/>
              </a:rPr>
              <a:t>Bước 2: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Mở trang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ag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chọ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ortrait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hướng giấy đứ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andscap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hướng giấy nằ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6600"/>
                </a:solidFill>
                <a:latin typeface="Arial"/>
              </a:rPr>
              <a:t>Bước 3: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Nháy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91080" y="2143080"/>
            <a:ext cx="4476600" cy="3495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305240" y="1371600"/>
            <a:ext cx="2158200" cy="1675800"/>
            <a:chOff x="4305240" y="1371600"/>
            <a:chExt cx="2158200" cy="1675800"/>
          </a:xfrm>
        </p:grpSpPr>
        <p:sp>
          <p:nvSpPr>
            <p:cNvPr id="192" name=""/>
            <p:cNvSpPr/>
            <p:nvPr/>
          </p:nvSpPr>
          <p:spPr>
            <a:xfrm flipV="1">
              <a:off x="5393880" y="1670400"/>
              <a:ext cx="0" cy="13770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5240" y="1371600"/>
              <a:ext cx="21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Hướng giấy đứ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79640" y="3162240"/>
            <a:ext cx="2724120" cy="2988360"/>
            <a:chOff x="5579640" y="3162240"/>
            <a:chExt cx="2724120" cy="2988360"/>
          </a:xfrm>
        </p:grpSpPr>
        <p:sp>
          <p:nvSpPr>
            <p:cNvPr id="195" name=""/>
            <p:cNvSpPr/>
            <p:nvPr/>
          </p:nvSpPr>
          <p:spPr>
            <a:xfrm>
              <a:off x="6700320" y="3162240"/>
              <a:ext cx="0" cy="2620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79640" y="5782320"/>
              <a:ext cx="27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Hướng giấy nằm nga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648320" y="2438280"/>
            <a:ext cx="609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89AA-DAD8-4A3A-AABD-B5CB1C5ED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1981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In trang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6705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u khi thiết đặt và kiểm tra các trang in, nếu thấ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trang đã được ngắt một cách hợp lí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h trình bày trên từng trang đã phù hợp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ệc in trang tính chỉ còn là thao tác đơn giả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228600" y="4076640"/>
            <a:ext cx="2286000" cy="278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2895480"/>
            <a:ext cx="4572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E8BF-F7A9-442B-8A76-D2A1A1B78C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RẮC NGHIỆM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2C3B-DA83-47E5-BD28-8BA7EFDDB3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1: Trong các thao tác sau, đâu là thao tác mở hộp thoại để chọn hướng giấy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6880" y="2361960"/>
            <a:ext cx="56390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ew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Break  Pre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setup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setup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Margi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cách trên đều sa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E41B-084D-4329-A2ED-CBF5AE30E6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Hãy quan sát các hình dưới đây, cho biết cô giáo đã dùng thao tác gì để chỉnh lại trang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971800" y="38862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ỉnh hướng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ắt tra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ặt lại lề cho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h 1 và cách 2  đều đú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523880" y="1600200"/>
            <a:ext cx="3092040" cy="2208240"/>
            <a:chOff x="1523880" y="1600200"/>
            <a:chExt cx="3092040" cy="220824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15462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070080" y="1600200"/>
              <a:ext cx="1545840" cy="220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2590920" cy="1656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rướ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61F3-3479-4546-9DFA-09749D5A4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Làm thế nào để điều chỉnh được các trang in sao cho hợp lí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8280" y="2209680"/>
            <a:ext cx="4267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em trước khi in, ngắt trang hợp l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hướng giấy i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ặt lề cho giấy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cách đều đú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8DFF-9CEF-45A1-B56D-2453F82EA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Lợi ích của việc xem trước khi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phép kiểm tra trước những gì sẽ được in 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ểm tra xem dấu ngắt trang đang nằm ở vị trí nà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ểm tra lỗi chính tả trước khi i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phương án trên đều s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FB48-F35A-49DD-B332-659773952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0D71-4DDA-435E-BBF5-15092CEBF4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119240" y="776160"/>
            <a:ext cx="7719840" cy="5548320"/>
            <a:chOff x="1119240" y="776160"/>
            <a:chExt cx="7719840" cy="55483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119240" y="1371240"/>
              <a:ext cx="384660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005440" y="1371240"/>
              <a:ext cx="383364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2033640" y="776160"/>
              <a:ext cx="5715000" cy="368280"/>
              <a:chOff x="2033640" y="776160"/>
              <a:chExt cx="5715000" cy="368280"/>
            </a:xfrm>
          </p:grpSpPr>
          <p:sp>
            <p:nvSpPr>
              <p:cNvPr id="94" name=""/>
              <p:cNvSpPr/>
              <p:nvPr/>
            </p:nvSpPr>
            <p:spPr>
              <a:xfrm>
                <a:off x="2033640" y="77616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Trang 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77040" y="776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Trang 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 rot="19286400">
            <a:off x="1495800" y="252360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1c1c"/>
                </a:solidFill>
                <a:latin typeface="Arial"/>
              </a:rPr>
              <a:t>Không hợp lí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971800"/>
            <a:ext cx="4952880" cy="3149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ần xem bảng tín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ước khi được in 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0C53-2AFB-4096-B5CB-014BDDCF0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219320"/>
            <a:ext cx="8458200" cy="5595480"/>
            <a:chOff x="685800" y="1219320"/>
            <a:chExt cx="8458200" cy="5595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278240" cy="48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105160" y="1219320"/>
              <a:ext cx="4038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71600" y="61722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.VnTime"/>
                </a:rPr>
                <a:t>Vïng lµm viÖc cña Wor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0960" y="61722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.VnTime"/>
                </a:rPr>
                <a:t>Vïng lµm viÖc cña Exc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621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So sánh hai vùng làm việc của Excel, vùng nào thuận tiện cho việc in ấ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76520"/>
            <a:ext cx="7391520" cy="350496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Vùng làm việc củ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word thuận tiện hơn?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75A8-BD94-48F1-8AB6-AE19DB46E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24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Đâu là biểu tượng dùng để xem bảng tính trước khi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14479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95280" y="1905120"/>
            <a:ext cx="6172200" cy="3787560"/>
            <a:chOff x="1295280" y="1905120"/>
            <a:chExt cx="6172200" cy="3787560"/>
          </a:xfrm>
        </p:grpSpPr>
        <p:grpSp>
          <p:nvGrpSpPr>
            <p:cNvPr id="108" name=""/>
            <p:cNvGrpSpPr/>
            <p:nvPr/>
          </p:nvGrpSpPr>
          <p:grpSpPr>
            <a:xfrm>
              <a:off x="1295280" y="1905120"/>
              <a:ext cx="6172200" cy="3787560"/>
              <a:chOff x="1295280" y="1905120"/>
              <a:chExt cx="6172200" cy="37875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295280" y="1905120"/>
                <a:ext cx="800280" cy="3787560"/>
                <a:chOff x="1295280" y="1905120"/>
                <a:chExt cx="800280" cy="378756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1905120"/>
                  <a:ext cx="800280" cy="78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5280" y="2971800"/>
                  <a:ext cx="762120" cy="67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95280" y="3962520"/>
                  <a:ext cx="76212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95280" y="5029200"/>
                  <a:ext cx="685800" cy="66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" name=""/>
              <p:cNvSpPr/>
              <p:nvPr/>
            </p:nvSpPr>
            <p:spPr>
              <a:xfrm>
                <a:off x="2666880" y="213372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. 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Op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66880" y="304812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2. 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Save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66880" y="4038480"/>
                <a:ext cx="480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3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. 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Print Preview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666880" y="51055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</a:rPr>
                <a:t>4.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 Unicode MS"/>
                </a:rPr>
                <a:t>Biểu tượng</a:t>
              </a:r>
              <a:r>
                <a:rPr b="0" lang="en-US" sz="2000" spc="-1" strike="noStrike">
                  <a:solidFill>
                    <a:srgbClr val="003366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3366"/>
                  </a:solidFill>
                  <a:latin typeface="Verdana"/>
                </a:rPr>
                <a:t>Past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62120" y="3657600"/>
            <a:ext cx="6476760" cy="1295280"/>
          </a:xfrm>
          <a:prstGeom prst="ellipse">
            <a:avLst/>
          </a:prstGeom>
          <a:noFill/>
          <a:ln w="9360">
            <a:solidFill>
              <a:srgbClr val="f8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8475-A7DB-49DD-AA04-CAC2AE381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4038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Xem trước khi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320" y="586728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600200"/>
            <a:ext cx="4343400" cy="2133720"/>
          </a:xfrm>
          <a:prstGeom prst="cloudCallout">
            <a:avLst>
              <a:gd name="adj1" fmla="val -37351"/>
              <a:gd name="adj2" fmla="val 167708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trên thanh công cụ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43360" y="1066680"/>
            <a:ext cx="4172040" cy="508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0" y="4419720"/>
            <a:ext cx="19051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2333"/>
              <a:gd name="adj5" fmla="val -371250"/>
              <a:gd name="adj6" fmla="val 14133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xem trang tiếp the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4419720"/>
            <a:ext cx="21337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7828"/>
              <a:gd name="adj5" fmla="val -376666"/>
              <a:gd name="adj6" fmla="val -5290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viou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xem trang trướ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8305-BBEF-483C-9C42-9B5A2180B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gắt trang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257800" cy="4546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038480" y="1905120"/>
            <a:ext cx="4724280" cy="2133360"/>
            <a:chOff x="4038480" y="1905120"/>
            <a:chExt cx="4724280" cy="213336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4038480" y="1905120"/>
              <a:ext cx="1208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801400" y="2616120"/>
              <a:ext cx="2961360" cy="639720"/>
            </a:xfrm>
            <a:prstGeom prst="wedgeRectCallout">
              <a:avLst>
                <a:gd name="adj1" fmla="val -72717"/>
                <a:gd name="adj2" fmla="val -91203"/>
              </a:avLst>
            </a:prstGeom>
            <a:solidFill>
              <a:srgbClr val="ff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Chọn </a:t>
              </a: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Page </a:t>
              </a:r>
              <a:r>
                <a:rPr b="1" lang="en-US" sz="1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 Page Break Previe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86200" y="1752480"/>
            <a:ext cx="4800600" cy="4572000"/>
            <a:chOff x="3886200" y="1752480"/>
            <a:chExt cx="4800600" cy="457200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3886200" y="1752480"/>
              <a:ext cx="48006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879440" y="2544840"/>
              <a:ext cx="1986480" cy="396000"/>
            </a:xfrm>
            <a:solidFill>
              <a:srgbClr val="cc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1c1c"/>
                  </a:solidFill>
                  <a:latin typeface="Verdana"/>
                </a:rPr>
                <a:t>Dấu ngắt tran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73480" y="1752480"/>
            <a:ext cx="5334120" cy="4599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315200" y="3123720"/>
            <a:ext cx="228600" cy="3048120"/>
            <a:chOff x="7315200" y="3123720"/>
            <a:chExt cx="228600" cy="3048120"/>
          </a:xfrm>
        </p:grpSpPr>
        <p:sp>
          <p:nvSpPr>
            <p:cNvPr id="136" name=""/>
            <p:cNvSpPr/>
            <p:nvPr/>
          </p:nvSpPr>
          <p:spPr>
            <a:xfrm flipH="1" flipV="1">
              <a:off x="7390800" y="3123720"/>
              <a:ext cx="37800" cy="30481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4587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1752480"/>
            <a:ext cx="5333760" cy="459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0" y="592452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371600"/>
            <a:ext cx="3581280" cy="3809880"/>
          </a:xfrm>
          <a:prstGeom prst="cloudCallout">
            <a:avLst>
              <a:gd name="adj1" fmla="val -34796"/>
              <a:gd name="adj2" fmla="val 7416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1: 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ew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 Break Previe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Xuất hiện dấu ngắt tra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2: Đưa trỏ chuột vào dấu ngắt tra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3: Kéo thả đến vị trí cần thiế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5FE3-7417-4E9B-9E86-0943754FEB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2.22222E-006 L 0.08854 2.22222E-006 E">
                                      <p:cBhvr>
                                        <p:cTn id="16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Nhận xét về bố cục của bản in sau và sửa lại sao cho bản in hợp lí hơ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1819440" cy="2441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2320" y="3959280"/>
            <a:ext cx="1780920" cy="244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1800360" cy="2440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952880" y="3944880"/>
            <a:ext cx="1844640" cy="2452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205740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1055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190512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48769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FD11-6BAB-4CA0-8B57-DADC7E834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529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271600" cy="3047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4083120"/>
            <a:ext cx="3200400" cy="224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523880" y="2971800"/>
            <a:ext cx="2376720" cy="3352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4920" y="380880"/>
            <a:ext cx="4952880" cy="221004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n xét bố bố cục củ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 hình s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1708-5E69-49BC-B30A-AD24A7EC6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 Thiết đặt lề và hướng trang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ề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780000" cy="5334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3124080" y="1066680"/>
            <a:ext cx="381240" cy="5257440"/>
            <a:chOff x="3124080" y="1066680"/>
            <a:chExt cx="381240" cy="5257440"/>
          </a:xfrm>
        </p:grpSpPr>
        <p:sp>
          <p:nvSpPr>
            <p:cNvPr id="161" name=""/>
            <p:cNvSpPr/>
            <p:nvPr/>
          </p:nvSpPr>
          <p:spPr>
            <a:xfrm>
              <a:off x="3505320" y="1066680"/>
              <a:ext cx="0" cy="5257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124080" y="3180600"/>
              <a:ext cx="35568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24080" y="5943600"/>
            <a:ext cx="3733560" cy="380880"/>
            <a:chOff x="3124080" y="5943600"/>
            <a:chExt cx="3733560" cy="380880"/>
          </a:xfrm>
        </p:grpSpPr>
        <p:sp>
          <p:nvSpPr>
            <p:cNvPr id="164" name=""/>
            <p:cNvSpPr/>
            <p:nvPr/>
          </p:nvSpPr>
          <p:spPr>
            <a:xfrm>
              <a:off x="3124080" y="5943600"/>
              <a:ext cx="37335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2120" y="5943600"/>
              <a:ext cx="0" cy="3808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24080" y="1066680"/>
            <a:ext cx="3733560" cy="457200"/>
            <a:chOff x="3124080" y="1066680"/>
            <a:chExt cx="3733560" cy="457200"/>
          </a:xfrm>
        </p:grpSpPr>
        <p:sp>
          <p:nvSpPr>
            <p:cNvPr id="167" name=""/>
            <p:cNvSpPr/>
            <p:nvPr/>
          </p:nvSpPr>
          <p:spPr>
            <a:xfrm>
              <a:off x="3124080" y="1523880"/>
              <a:ext cx="37335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02120" y="1066680"/>
              <a:ext cx="0" cy="4572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75240" y="1066680"/>
            <a:ext cx="406080" cy="5257440"/>
            <a:chOff x="6375240" y="1066680"/>
            <a:chExt cx="406080" cy="5257440"/>
          </a:xfrm>
        </p:grpSpPr>
        <p:sp>
          <p:nvSpPr>
            <p:cNvPr id="170" name=""/>
            <p:cNvSpPr/>
            <p:nvPr/>
          </p:nvSpPr>
          <p:spPr>
            <a:xfrm>
              <a:off x="6375240" y="1066680"/>
              <a:ext cx="0" cy="5257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5240" y="3681360"/>
              <a:ext cx="40608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143000" y="2362320"/>
            <a:ext cx="1143000" cy="34272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tr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1981080"/>
            <a:ext cx="1143000" cy="3430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tr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3048120"/>
            <a:ext cx="1371600" cy="41904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562720"/>
            <a:ext cx="1143000" cy="3808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dướ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1699-E446-4718-8141-903A7F475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thuy</cp:lastModifiedBy>
  <dcterms:modified xsi:type="dcterms:W3CDTF">2007-08-24T03:23:48Z</dcterms:modified>
  <cp:revision>124</cp:revision>
  <dc:subject/>
  <dc:title>Bài 7. Trình bày và in trang tính</dc:title>
</cp:coreProperties>
</file>