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D7A21-F7D5-427F-AEAE-4DA7404AE5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513CA-4125-4D11-A984-9E0F3538E1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40B25-E21C-4D0B-A9B2-FD062713DC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C7C26-8129-47F4-B307-008D3DD8BF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02478-E11B-4AE6-827C-0C29374229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98E48-6AA5-418B-8836-C3F76438F6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B976E-B7D6-40EC-AF96-C89AFDAA3B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10DFD-C9C3-4EE7-BBB7-20CE43CA4D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E4FBD-801A-47EB-9343-4A02CB5247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696FF-CF0A-4137-BD76-349CA1E2CE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F9B24-699A-4E1C-B14D-6EFD5C8BBC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73148-330D-4E91-A973-17E67A03F6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CD851-4788-4C39-A45C-781104E6A2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9363F-D9E2-4610-886D-22C50186F7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75FEF-19CC-4B8F-BDC6-A0639AFAC3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2E330-DD89-48A9-868C-28E1181D33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B289A-BA46-4D76-82C6-840747F5CA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1A602-566C-4A58-8739-C0397AE5A9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94473-0512-420C-8E95-D21908EB02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82133-6D09-43B0-B176-2E2406C290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D3C59-919D-412A-AAC7-7C0FA2DF0A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B6C61-1129-4360-B753-F6C001E019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B8A1A-F5BF-470C-A6C3-718538F042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5A118-9624-4D83-85C9-18B8A0801B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37720" y="6539040"/>
            <a:ext cx="8305560" cy="318960"/>
            <a:chOff x="837720" y="6539040"/>
            <a:chExt cx="8305560" cy="318960"/>
          </a:xfrm>
        </p:grpSpPr>
        <p:sp>
          <p:nvSpPr>
            <p:cNvPr id="1" name=""/>
            <p:cNvSpPr/>
            <p:nvPr/>
          </p:nvSpPr>
          <p:spPr>
            <a:xfrm>
              <a:off x="1265760" y="6539040"/>
              <a:ext cx="787752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837360" y="6539040"/>
              <a:ext cx="4424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C200-E49A-4137-A8C9-6E6296B943B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285040" y="0"/>
            <a:ext cx="858960" cy="8002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903"/>
                </a:solidFill>
                <a:latin typeface="Arial"/>
              </a:rPr>
              <a:t>Bài thực hành 2: Làm quen với các kiểu dữ liệu trên trang tính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903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1752480" y="6539040"/>
            <a:ext cx="7391520" cy="318960"/>
            <a:chOff x="1752480" y="6539040"/>
            <a:chExt cx="7391520" cy="318960"/>
          </a:xfrm>
        </p:grpSpPr>
        <p:sp>
          <p:nvSpPr>
            <p:cNvPr id="46" name=""/>
            <p:cNvSpPr/>
            <p:nvPr/>
          </p:nvSpPr>
          <p:spPr>
            <a:xfrm>
              <a:off x="2133360" y="653904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752480" y="653904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2D91-457A-404F-A070-F3F3A6E44C5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527280"/>
            <a:ext cx="9144000" cy="335772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141720"/>
            <a:ext cx="914400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903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9810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àm quen với các kiểu dữ liệu trên trang tính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57400" y="990720"/>
            <a:ext cx="5130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ài thực hành 2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619440" y="2228760"/>
            <a:ext cx="1905120" cy="1943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581280" y="4191120"/>
            <a:ext cx="204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Kết thúc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6094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 M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ở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b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ảng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ín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2362320"/>
            <a:ext cx="289548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hi kh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ởi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động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h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ươ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g tr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ình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b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ảng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ính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m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ộ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b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ảng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ính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r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ống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s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ẽ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được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ự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động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m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ở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s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ẵ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ếu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mu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ố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m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ở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một b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ảng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ính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kh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ác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em h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ã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nh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á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v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ào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n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ú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l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ệnh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Ne</a:t>
            </a:r>
            <a:r>
              <a:rPr b="1" lang="vi-VN" sz="2000" spc="-1" strike="noStrike">
                <a:solidFill>
                  <a:srgbClr val="003366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352680" y="1214280"/>
            <a:ext cx="5029200" cy="4900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85800" y="1447920"/>
            <a:ext cx="190512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ú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l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ệ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Ne</a:t>
            </a:r>
            <a:r>
              <a:rPr b="1" lang="vi-VN" sz="2000" spc="-1" strike="noStrike">
                <a:solidFill>
                  <a:srgbClr val="003366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90920" y="1676520"/>
            <a:ext cx="1066680" cy="533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52480" y="1136520"/>
            <a:ext cx="5486400" cy="5346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6094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 M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ở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b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ảng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ín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33520" y="1200240"/>
            <a:ext cx="7924680" cy="5124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33520" y="1200240"/>
            <a:ext cx="7924680" cy="5124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609480" y="1200240"/>
            <a:ext cx="7925040" cy="5124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H="1" flipV="1">
            <a:off x="3048120" y="2057400"/>
            <a:ext cx="1952640" cy="790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5029200"/>
            <a:ext cx="990360" cy="762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127160"/>
            <a:ext cx="228600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ú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l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ệ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2666880"/>
            <a:ext cx="320040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họn bảng tính cần mở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95680" y="4632480"/>
            <a:ext cx="289584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háy vào nút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1981080"/>
            <a:ext cx="457200" cy="457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1523880"/>
            <a:ext cx="114300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6094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 Lưu b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ảng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ính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với tên khá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4664160" cy="5410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772240" y="2438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34280" y="2638440"/>
            <a:ext cx="7617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238880" y="2452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ave </a:t>
            </a:r>
            <a:r>
              <a:rPr b="1" lang="vi-VN" sz="1800" spc="-1" strike="noStrike">
                <a:solidFill>
                  <a:srgbClr val="003366"/>
                </a:solidFill>
                <a:latin typeface="Arial"/>
              </a:rPr>
              <a:t>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4120" y="1523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C</a:t>
            </a:r>
            <a:r>
              <a:rPr b="1" i="1" lang="vi-VN" sz="1800" spc="-1" strike="noStrike">
                <a:solidFill>
                  <a:srgbClr val="ff6600"/>
                </a:solidFill>
                <a:latin typeface="Arial"/>
              </a:rPr>
              <a:t>ách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 1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10080" y="35193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C</a:t>
            </a:r>
            <a:r>
              <a:rPr b="1" i="1" lang="vi-VN" sz="1800" spc="-1" strike="noStrike">
                <a:solidFill>
                  <a:srgbClr val="ff6600"/>
                </a:solidFill>
                <a:latin typeface="Arial"/>
              </a:rPr>
              <a:t>ách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 2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443376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hấ</a:t>
            </a:r>
            <a:r>
              <a:rPr b="1" lang="vi-VN" sz="18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F1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66840" y="1147680"/>
            <a:ext cx="8229600" cy="5253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581280" y="5029200"/>
            <a:ext cx="198144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1" lang="vi-VN" sz="1800" spc="-1" strike="noStrike">
                <a:solidFill>
                  <a:srgbClr val="003366"/>
                </a:solidFill>
                <a:latin typeface="Arial"/>
              </a:rPr>
              <a:t>ơ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 g</a:t>
            </a:r>
            <a:r>
              <a:rPr b="1" lang="vi-VN" sz="1800" spc="-1" strike="noStrike">
                <a:solidFill>
                  <a:srgbClr val="003366"/>
                </a:solidFill>
                <a:latin typeface="Arial"/>
              </a:rPr>
              <a:t>õ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t</a:t>
            </a:r>
            <a:r>
              <a:rPr b="1" lang="vi-VN" sz="1800" spc="-1" strike="noStrike">
                <a:solidFill>
                  <a:srgbClr val="003366"/>
                </a:solidFill>
                <a:latin typeface="Arial"/>
              </a:rPr>
              <a:t>ê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 m</a:t>
            </a:r>
            <a:r>
              <a:rPr b="1" lang="vi-VN" sz="1800" spc="-1" strike="noStrike">
                <a:solidFill>
                  <a:srgbClr val="003366"/>
                </a:solidFill>
                <a:latin typeface="Arial"/>
              </a:rPr>
              <a:t>ớ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360" y="5334120"/>
            <a:ext cx="685800" cy="533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1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43000" y="292428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TH</a:t>
            </a:r>
            <a:r>
              <a:rPr b="1" lang="vi-VN" sz="6000" spc="-1" strike="noStrike">
                <a:solidFill>
                  <a:srgbClr val="003366"/>
                </a:solidFill>
                <a:latin typeface="Arial"/>
              </a:rPr>
              <a:t>ỰC</a:t>
            </a: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 H</a:t>
            </a:r>
            <a:r>
              <a:rPr b="1" lang="vi-VN" sz="6000" spc="-1" strike="noStrike">
                <a:solidFill>
                  <a:srgbClr val="003366"/>
                </a:solidFill>
                <a:latin typeface="Arial"/>
              </a:rPr>
              <a:t>ÀNH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4920" y="8380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1" lang="vi-VN" sz="2000" spc="-1" strike="noStrike">
                <a:solidFill>
                  <a:srgbClr val="003366"/>
                </a:solidFill>
                <a:latin typeface="Arial"/>
              </a:rPr>
              <a:t>ài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1: T</a:t>
            </a:r>
            <a:r>
              <a:rPr b="1" lang="vi-VN" sz="2000" spc="-1" strike="noStrike">
                <a:solidFill>
                  <a:srgbClr val="003366"/>
                </a:solidFill>
                <a:latin typeface="Arial"/>
              </a:rPr>
              <a:t>ìm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hi</a:t>
            </a:r>
            <a:r>
              <a:rPr b="1" lang="vi-VN" sz="2000" spc="-1" strike="noStrike">
                <a:solidFill>
                  <a:srgbClr val="003366"/>
                </a:solidFill>
                <a:latin typeface="Arial"/>
              </a:rPr>
              <a:t>ểu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c</a:t>
            </a:r>
            <a:r>
              <a:rPr b="1" lang="vi-VN" sz="2000" spc="-1" strike="noStrike">
                <a:solidFill>
                  <a:srgbClr val="003366"/>
                </a:solidFill>
                <a:latin typeface="Arial"/>
              </a:rPr>
              <a:t>ác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th</a:t>
            </a:r>
            <a:r>
              <a:rPr b="1" lang="vi-VN" sz="2000" spc="-1" strike="noStrike">
                <a:solidFill>
                  <a:srgbClr val="003366"/>
                </a:solidFill>
                <a:latin typeface="Arial"/>
              </a:rPr>
              <a:t>ành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ph</a:t>
            </a:r>
            <a:r>
              <a:rPr b="1" lang="vi-VN" sz="2000" spc="-1" strike="noStrike">
                <a:solidFill>
                  <a:srgbClr val="003366"/>
                </a:solidFill>
                <a:latin typeface="Arial"/>
              </a:rPr>
              <a:t>ần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ch</a:t>
            </a:r>
            <a:r>
              <a:rPr b="1" lang="vi-VN" sz="2000" spc="-1" strike="noStrike">
                <a:solidFill>
                  <a:srgbClr val="003366"/>
                </a:solidFill>
                <a:latin typeface="Arial"/>
              </a:rPr>
              <a:t>ính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c</a:t>
            </a:r>
            <a:r>
              <a:rPr b="1" lang="vi-VN" sz="2000" spc="-1" strike="noStrike">
                <a:solidFill>
                  <a:srgbClr val="003366"/>
                </a:solidFill>
                <a:latin typeface="Arial"/>
              </a:rPr>
              <a:t>ủa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trang t</a:t>
            </a:r>
            <a:r>
              <a:rPr b="1" lang="vi-VN" sz="2000" spc="-1" strike="noStrike">
                <a:solidFill>
                  <a:srgbClr val="003366"/>
                </a:solidFill>
                <a:latin typeface="Arial"/>
              </a:rPr>
              <a:t>ính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1600200"/>
            <a:ext cx="784836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spcBef>
                <a:spcPts val="1250"/>
              </a:spcBef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hởi động Excel. Nhận biết các thành phần chính trên trang tính (ô, hàng, cột, hộp tên, thanh công thức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4520" indent="-344520">
              <a:spcBef>
                <a:spcPts val="1250"/>
              </a:spcBef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háy chuột để kích hoạt các ô khác nhau và quan sát sự thay đổi nội dung trong hộp tê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4520" indent="-344520">
              <a:spcBef>
                <a:spcPts val="1250"/>
              </a:spcBef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hập dữ liệu tùy ý vào các ô và quan sát sự thay đổi nội dung trong hộp tê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4520" indent="-344520">
              <a:spcBef>
                <a:spcPts val="1250"/>
              </a:spcBef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õ 5+7 vào 1 ô tùy ý và nhấn phím Enter. Chọn lại ô đó và so sánh nội dung dữ liệu trong ô và trên thanh công thứ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04920" y="6858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1" lang="vi-VN" sz="2000" spc="-1" strike="noStrike">
                <a:solidFill>
                  <a:srgbClr val="003366"/>
                </a:solidFill>
                <a:latin typeface="Arial"/>
              </a:rPr>
              <a:t>ài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2: Chọn các đối tượng trên trang tính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1143000"/>
            <a:ext cx="7848360" cy="48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spcBef>
                <a:spcPts val="1250"/>
              </a:spcBef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ực hiện các thao tác chọn một ô, một hàng, một cột và một khối trên trang tính. Quan sát sự thay đổi nội dung của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hộp tê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rong quá trình chọ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4520" indent="-344520">
              <a:spcBef>
                <a:spcPts val="1250"/>
              </a:spcBef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iả sử cần chọn cả ba cột A, B và C. Khi đó em cần thực hiện thao tác gì? Hãy thực hiện thao tác đó và nhận xé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4520" indent="-344520">
              <a:spcBef>
                <a:spcPts val="1250"/>
              </a:spcBef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họn một đối tượng (một ô, một hàng, một cột hoặc một khối) tuỳ ý. Nhấn giữ phím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trl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và chọn một đối tượng khác. Hãy cho nhận xét về kết quả nhận được (thao tác này được gọi là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họn đồng thời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ai đối tượng không liền kề nhau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4520" indent="-344520">
              <a:spcBef>
                <a:spcPts val="1250"/>
              </a:spcBef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háy chuột ở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hộp tê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và nhập dãy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B100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vào hộp tên, cuối cùng nhấn phím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nte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Cho nhận xét về kết quả nhận được. Tương tự, nhập các dãy sau đây vào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hộp tê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(nhấn phím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nte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sau mỗi lần nhập):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:A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:C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2:2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2:4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B2:D6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Quan sát các kết quả nhận được và cho nhận xé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1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9144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1" lang="vi-VN" sz="2000" spc="-1" strike="noStrike">
                <a:solidFill>
                  <a:srgbClr val="003366"/>
                </a:solidFill>
                <a:latin typeface="Arial"/>
              </a:rPr>
              <a:t>ài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3: Thực hành thao tác mở bảng tín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142640" y="1828800"/>
            <a:ext cx="746748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ở một bảng tính mới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ở bảng tính 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Danh sach lop em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đã được lưu trong Bài thực hành 1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920" y="6858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1" lang="vi-VN" sz="2000" spc="-1" strike="noStrike">
                <a:solidFill>
                  <a:srgbClr val="003366"/>
                </a:solidFill>
                <a:latin typeface="Arial"/>
              </a:rPr>
              <a:t>ài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4: Nhập dữ liệu vào trang tính như sa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543800" cy="43783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914400" y="601992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ưu bảng tính với tên 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So theo doi the lu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5T23:13:33Z</dcterms:created>
  <dc:creator>fantasy</dc:creator>
  <dc:description/>
  <dc:language>en-US</dc:language>
  <cp:lastModifiedBy>pham thanh nam</cp:lastModifiedBy>
  <dcterms:modified xsi:type="dcterms:W3CDTF">2007-08-20T07:39:48Z</dcterms:modified>
  <cp:revision>151</cp:revision>
  <dc:subject/>
  <dc:title>Slide 1</dc:title>
</cp:coreProperties>
</file>