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A5A9-E313-49B8-84CA-412D3B2CB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E099-4DBF-4A55-BC7E-484EF0CED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9F91-C782-42AE-841C-A566FF6B1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A307-5197-43A4-B57A-E08B6DF2B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2521-102F-40F3-8450-7EE0C67DC0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95B4-77C2-40A3-841C-F617A6945B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1759-F336-4A9B-A3A4-B7389FCBE2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2419-732A-4A4F-8F8C-4B4EFEE78D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8D83-D64A-4141-B1D9-408D3572C3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DBFB-0DCF-4611-A184-CC889BE6D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66B2-DE19-4FF5-A40C-CE72E6AA5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4BA5-1C06-4670-BA38-53B8C88FF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C515-30F8-478F-980D-990790F30F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02EA-064E-492A-B3A8-CE621D398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04EC-0BDF-4E39-86D2-8054C48DE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99AF-D3CE-4C68-B698-FCC7B95A00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3628-A696-43BB-85D0-006386334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873E-023D-4370-B14C-AEEA5631C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F62E-58A2-456E-8C63-18B3F76E3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E9C8-DF51-441B-A238-7C4BD5244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1DA8-8E36-434D-B835-E0680626C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6FBE-542E-4533-AA4C-BFA6BB3A7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36C7-4EF9-446E-B058-A2B1C0B20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A45E-B571-4982-A8BF-8378C493C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5E89-DA0C-45F6-987F-350A167A96D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3. Thực hiện tính toán trên trang tính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8F1E-5D6E-48DE-9964-239C5B90BD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4840" y="1042920"/>
            <a:ext cx="73184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Bài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ực hiện tính toán trên trang tín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A864-467E-4AD1-AAF4-A038DA0CB1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321080" cy="3252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719600" y="1600200"/>
            <a:ext cx="4424400" cy="3178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0" name=""/>
          <p:cNvSpPr/>
          <p:nvPr/>
        </p:nvSpPr>
        <p:spPr>
          <a:xfrm flipV="1">
            <a:off x="4343400" y="3425400"/>
            <a:ext cx="471600" cy="32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3480" y="3567240"/>
            <a:ext cx="655560" cy="183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43800" y="3567240"/>
            <a:ext cx="609480" cy="183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85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Sử dụng địa chỉ trong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C472-E31A-4A4D-A2BE-1D49F2C18D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35560" cy="3216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00600" y="2160720"/>
            <a:ext cx="3962520" cy="3265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2860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ử dụng công thức thông thường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29040" y="164448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ử dụng công thức chứa địa chỉ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42900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75080" y="394668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41972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34320" y="342900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78600" y="394668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62760" y="4433760"/>
            <a:ext cx="1081080" cy="2606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5683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công thức chứa địa chỉ thì nội dung các ô liên quan sẽ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ự động được cập nhậ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ếu nội dung các ô trong công thức bị thay đổ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85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Sử dụng địa chỉ trong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4A2C-CA1E-4436-A286-AED75D928A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903"/>
                </a:solidFill>
                <a:latin typeface="Arial"/>
              </a:rPr>
              <a:t>Trắc nghiệm </a:t>
            </a:r>
            <a:endParaRPr b="1" lang="en-US" sz="4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EC80-371B-4F6F-B729-DC032502A7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69880" y="2882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a, b, c, 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01920" y="3379680"/>
            <a:ext cx="43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c, b, d,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1920" y="3886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d, c, b,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848720" y="3200400"/>
            <a:ext cx="1076040" cy="2962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01920" y="438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, b,c,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212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1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: Giả sử có các thao tác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9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 Nhấn 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. Gõ dấu =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. Nhập công thức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. Chọn ô tín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âu là thứ tự đúng của các bước nhập công thức vào một ô tính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B46F-03CA-43EA-850E-2D16D3CE356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3314880" cy="1523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121932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9)/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2514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B1)/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B1)/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3733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7+9):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107200" y="3429000"/>
            <a:ext cx="1036800" cy="2962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14040" y="914400"/>
            <a:ext cx="83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2: Trong các công thức nhập vào ô D1, công thức nào sau đây sai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BE84-1F93-46A0-AA1D-81AF294F85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314880" cy="1523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219320" y="1843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A1+C1)*B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438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C1)B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3048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A1+C1*B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7480" y="3657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C1)*B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107200" y="3429000"/>
            <a:ext cx="1036800" cy="2962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-13320" y="762120"/>
            <a:ext cx="91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3: Giả sử cần tính tổng giá trị các ô A1 và C1, sau đó nhân với giá trị tr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ô B1. Công thức nào trong số các công thức sau đây là đúng?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22EC-EC44-4ED2-9953-60E58354EC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3314520" cy="1524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1295280" y="1981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B1)/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666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A1+B1/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3276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B1)/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33440" y="3886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7+9)/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107200" y="3429000"/>
            <a:ext cx="1036800" cy="2962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-15480" y="762120"/>
            <a:ext cx="88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4: Giả sử công thức ở ô D1 là = (7+9)/2.Muốn kết quả của ô D1 tự độ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ập nhật khi thay đổi các ô A1, B1, C1 thì công thức tại ô D1 như thế nào?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98D7-D5B6-46EB-B6BA-3BFCDA219E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1B5F-8A9E-4C20-8CFE-A72BEB1EB3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2971800"/>
            <a:ext cx="5029200" cy="1523880"/>
          </a:xfrm>
          <a:prstGeom prst="cloudCallout">
            <a:avLst>
              <a:gd name="adj1" fmla="val -72129"/>
              <a:gd name="adj2" fmla="val 69898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Chương trình bảng tính là gì?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flipH="1">
            <a:off x="228240" y="3657600"/>
            <a:ext cx="1143000" cy="2962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33680" y="2986200"/>
            <a:ext cx="5029200" cy="1523880"/>
          </a:xfrm>
          <a:prstGeom prst="cloudCallout">
            <a:avLst>
              <a:gd name="adj1" fmla="val -73388"/>
              <a:gd name="adj2" fmla="val 68750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Công dụng của chương trình bảng tính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19320"/>
            <a:ext cx="8001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ông dụng của chương trình bảng tính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Ghi lại và trình bày thông tinh dưới dạng bảng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hực hiện các tính toán các số liệu có trong bảng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Xây dựng các biểu đồ biểu diễn trực quan các số liệu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0A9D-40FC-4908-B1FF-BDAB53AAF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55200"/>
            <a:ext cx="464832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Sử dụng công thức để tính toán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1630440"/>
            <a:ext cx="6126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3320" y="1128600"/>
            <a:ext cx="187308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hép toá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ộ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hâ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ỹ thừ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ần tră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1165320"/>
            <a:ext cx="1737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án họ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Wingdings 2"/>
                <a:ea typeface="Wingdings 2"/>
              </a:rPr>
              <a:t>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68920" y="1247760"/>
            <a:ext cx="347508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hương trình bảng tín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^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066680"/>
          <a:ext cx="8305560" cy="4525920"/>
        </p:xfrm>
        <a:graphic>
          <a:graphicData uri="http://schemas.openxmlformats.org/drawingml/2006/table">
            <a:tbl>
              <a:tblPr/>
              <a:tblGrid>
                <a:gridCol w="2437920"/>
                <a:gridCol w="2438640"/>
                <a:gridCol w="3429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FA2D-4313-466A-8EA5-431A05966E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45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45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45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1295280"/>
            <a:ext cx="5518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Thực hiện các phép tính sau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3+4)/3-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-2^3+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0+5*3^2-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0-30/3)^2-8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7*7-9):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55560"/>
            <a:ext cx="464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Sử dụng công thức để tính toá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F7BC-1A69-4C51-AF38-7D1A40E87A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48080" y="3357720"/>
            <a:ext cx="4189320" cy="31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55720" y="1060560"/>
            <a:ext cx="2676600" cy="181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25840" y="1071720"/>
            <a:ext cx="2695680" cy="181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20760" y="3679920"/>
            <a:ext cx="2705040" cy="1838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261120" y="1060560"/>
            <a:ext cx="2657520" cy="183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51680" y="3670200"/>
            <a:ext cx="2104920" cy="172260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ông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ứ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i!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629400" y="3156120"/>
            <a:ext cx="1088640" cy="926640"/>
            <a:chOff x="6629400" y="3156120"/>
            <a:chExt cx="1088640" cy="926640"/>
          </a:xfrm>
        </p:grpSpPr>
        <p:sp>
          <p:nvSpPr>
            <p:cNvPr id="110" name=""/>
            <p:cNvSpPr/>
            <p:nvPr/>
          </p:nvSpPr>
          <p:spPr>
            <a:xfrm>
              <a:off x="6629400" y="3275280"/>
              <a:ext cx="262800" cy="272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640" y="3156120"/>
              <a:ext cx="869400" cy="926640"/>
            </a:xfrm>
            <a:custGeom>
              <a:avLst/>
              <a:gdLst/>
              <a:ahLst/>
              <a:rect l="l" t="t" r="r" b="b"/>
              <a:pathLst>
                <a:path w="523" h="560">
                  <a:moveTo>
                    <a:pt x="205" y="560"/>
                  </a:moveTo>
                  <a:cubicBezTo>
                    <a:pt x="364" y="359"/>
                    <a:pt x="523" y="158"/>
                    <a:pt x="489" y="79"/>
                  </a:cubicBezTo>
                  <a:cubicBezTo>
                    <a:pt x="455" y="0"/>
                    <a:pt x="80" y="83"/>
                    <a:pt x="0" y="8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655200"/>
            <a:ext cx="464832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Sử dụng công thức để tính toán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11CD-F3B3-4EC7-9CF1-469AF91D29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685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Nhập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6476760" cy="3389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94840" y="1676520"/>
            <a:ext cx="274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1. Chọn ô cần nhập công thức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1981080"/>
            <a:ext cx="0" cy="1447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1120" y="21337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2. Gõ dấu =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48160" y="2438280"/>
            <a:ext cx="990360" cy="99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5240" y="327672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55560" y="190512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0040" y="281952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3. Nhập công thức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400800" y="3048120"/>
            <a:ext cx="914400" cy="380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7960" y="192420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000*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6080" y="327672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000*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06120" y="335268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4. Nhấn Ent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360" y="3505320"/>
            <a:ext cx="6094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3160" y="3581280"/>
            <a:ext cx="14479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6429240" cy="33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EF26-FB17-4F59-BC77-6086345438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238880" cy="3765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114800" y="2743200"/>
            <a:ext cx="1523880" cy="4572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219320"/>
            <a:ext cx="1143000" cy="380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609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Nhập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0A43-0F4A-4339-93FF-B785E0D76B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94080" cy="4065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93696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244440" y="103680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ảng dữ liệu của bạn Hoà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60880" y="100476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ảng dữ liệu của bạn L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25720" y="3032280"/>
            <a:ext cx="974880" cy="473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5440" y="1355760"/>
            <a:ext cx="974880" cy="473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371600"/>
            <a:ext cx="974880" cy="473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93160" y="2971800"/>
            <a:ext cx="974520" cy="473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609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Nhập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2042-BD54-4392-9BAD-CCF6827698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8580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Sử dụng địa chỉ trong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7960" y="1341360"/>
            <a:ext cx="7545240" cy="3949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8680" y="762120"/>
            <a:ext cx="1616040" cy="1020600"/>
          </a:xfrm>
          <a:prstGeom prst="borderCallout2">
            <a:avLst>
              <a:gd name="adj1" fmla="val 18750"/>
              <a:gd name="adj2" fmla="val -8333"/>
              <a:gd name="adj3" fmla="val 11199"/>
              <a:gd name="adj4" fmla="val 115027"/>
              <a:gd name="adj5" fmla="val 224106"/>
              <a:gd name="adj6" fmla="val 125439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45000*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ặc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=C4*D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2916360"/>
            <a:ext cx="1965240" cy="242640"/>
          </a:xfrm>
          <a:prstGeom prst="rect">
            <a:avLst/>
          </a:prstGeom>
          <a:noFill/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0920" y="2886120"/>
            <a:ext cx="1036800" cy="268200"/>
          </a:xfrm>
          <a:prstGeom prst="rect">
            <a:avLst/>
          </a:prstGeom>
          <a:noFill/>
          <a:ln w="3492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5280" y="5396040"/>
            <a:ext cx="833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ách nhập công thức có chứa địa chỉ ô cũng tương tự như việc nhập các công thức thông thường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A6F9-D2B0-4902-BEF9-BEA9622D2C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5:08:46Z</dcterms:created>
  <dc:creator>thapnv</dc:creator>
  <dc:description/>
  <dc:language>en-US</dc:language>
  <cp:lastModifiedBy>pham thanh nam</cp:lastModifiedBy>
  <dcterms:modified xsi:type="dcterms:W3CDTF">2007-08-23T06:48:57Z</dcterms:modified>
  <cp:revision>342</cp:revision>
  <dc:subject/>
  <dc:title>Các giao thức khoá cho hệ quản trị cơ sở dữ liệu phân tán</dc:title>
</cp:coreProperties>
</file>