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7.gif" ContentType="image/gif"/>
  <Override PartName="/ppt/media/image37.gif" ContentType="image/gif"/>
  <Override PartName="/ppt/media/image42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4F24-8301-4829-841F-AC6D77BD8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16F3-23A9-4E1A-9FB4-E125E98A4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9A8E-90B8-4FF9-B958-82193DAB4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71F8-0D63-4E24-B7CE-9AC9DF916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49B0-258D-4AE0-918B-FC858047A3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DBA9-F509-406F-ACEC-53FF741EBB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7F25-9D2E-4ACC-9994-7CFD8AFEE6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0086-4DC7-4D64-8844-DE08760398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B2E9-D692-4171-9584-6109291F27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DD67-F29C-4045-8E31-8BEB1EDD5A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46B9-6BBB-4813-A6BC-2345441ED7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D5D7-FED7-4C4A-B130-48B777C4C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A3D4-68DA-405C-B272-82316E4BBE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8661-CD46-4118-A1AE-753FDFAB76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DA2F-59F2-4301-8529-AF883176B3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CD4D-4E93-4A59-B989-4D9BE5D400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25DD-5D2A-4FB4-803C-EB9F56E02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C361-FE65-43F1-AD09-3298AF9D2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8149-3B44-4718-855A-07E8E214C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40E2-C582-4641-9DC1-3D66F88BF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0C1D-80A9-4228-9E10-318007424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B8B8-FE3E-4A3D-838D-F555B9688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3BE9-2292-43AE-9F3A-8A9AB7B8B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8141-80E8-4ED4-A18A-B7632AB1F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ài 6. Định dạng trang tín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85440" y="6477120"/>
            <a:ext cx="8458200" cy="380520"/>
            <a:chOff x="685440" y="6477120"/>
            <a:chExt cx="8458200" cy="380520"/>
          </a:xfrm>
        </p:grpSpPr>
        <p:sp>
          <p:nvSpPr>
            <p:cNvPr id="2" name=""/>
            <p:cNvSpPr/>
            <p:nvPr/>
          </p:nvSpPr>
          <p:spPr>
            <a:xfrm>
              <a:off x="1121400" y="6477120"/>
              <a:ext cx="8022240" cy="3783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85080" y="6477120"/>
              <a:ext cx="450360" cy="380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2640-4170-433A-8709-BFA4ECEF38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6579-8F94-4629-8719-340F473B3D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7086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ài 6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Định dạng trang tín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4231-FA6F-4804-AC1C-200F57540C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2296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ăn chỉnh dữ liệu trong nhiều 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6480" indent="-37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2 có nội dung “Sổ điểm lớp 7A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6480" indent="-37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ốn căn chỉnh nội dung này vào giữa bảng điểm (từ cột A </a:t>
            </a:r>
            <a:r>
              <a:rPr b="0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H), có thể làm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3880" y="1562040"/>
            <a:ext cx="5639040" cy="3492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685800"/>
            <a:ext cx="2895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ăn lề trong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B3E4-DE27-4BB2-984B-230675E565C9}" type="slidenum">
              <a:t>10</a:t>
            </a:fld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4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2603520"/>
            <a:ext cx="5638680" cy="3492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663560" y="3390840"/>
            <a:ext cx="5194440" cy="30492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99080" y="2565360"/>
            <a:ext cx="279360" cy="27936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752480"/>
            <a:ext cx="2819160" cy="609840"/>
          </a:xfrm>
          <a:prstGeom prst="wedgeRectCallout">
            <a:avLst>
              <a:gd name="adj1" fmla="val -3263"/>
              <a:gd name="adj2" fmla="val 225523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ác ô cần căn chỉnh dữ liệu vào giữ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50960" y="3365640"/>
            <a:ext cx="5372280" cy="352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685800"/>
            <a:ext cx="2895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ăn lề trong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1760" y="1066320"/>
            <a:ext cx="3886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rge and Cen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689120"/>
            <a:ext cx="2133360" cy="685800"/>
          </a:xfrm>
          <a:prstGeom prst="wedgeRectCallout">
            <a:avLst>
              <a:gd name="adj1" fmla="val -53421"/>
              <a:gd name="adj2" fmla="val 9791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vào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rge and Cen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7ABF-2FA7-4D16-8853-DB50AFF3A0AC}" type="slidenum">
              <a:t>11</a:t>
            </a:fld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4800600" cy="5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. Tăng hoặc giảm chữ số thập phâ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làm tăng hoặc giảm chữ số thập phân, chương trình sẽ thực hiện theo quy tắc làm tròn số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914400" cy="389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4120" y="1371600"/>
            <a:ext cx="32763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6" y="6600"/>
                </a:moveTo>
                <a:lnTo>
                  <a:pt x="-502" y="72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iảm một chữ số thập phâ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1600"/>
            <a:ext cx="373392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245" y="6700"/>
                </a:moveTo>
                <a:lnTo>
                  <a:pt x="22041" y="72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ăng một chữ số thập phâ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95280" y="3200400"/>
            <a:ext cx="195120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57400" y="4619520"/>
            <a:ext cx="1143000" cy="22860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14680" y="3179880"/>
            <a:ext cx="304560" cy="30456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5334120"/>
            <a:ext cx="2362320" cy="685800"/>
          </a:xfrm>
          <a:prstGeom prst="wedgeRectCallout">
            <a:avLst>
              <a:gd name="adj1" fmla="val -43884"/>
              <a:gd name="adj2" fmla="val -138425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cần giảm chữ số thập phâ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4064040"/>
            <a:ext cx="1523880" cy="380880"/>
          </a:xfrm>
          <a:prstGeom prst="wedgeRectCallout">
            <a:avLst>
              <a:gd name="adj1" fmla="val 50939"/>
              <a:gd name="adj2" fmla="val -24541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324480" y="2997360"/>
            <a:ext cx="2011320" cy="3124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14800" y="4419720"/>
            <a:ext cx="1905120" cy="30456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90B7-1DFE-48B3-BC3A-F9643B2466BC}" type="slidenum">
              <a:t>12</a:t>
            </a:fld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85280"/>
            <a:ext cx="82296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. Tô màu nền và kẻ đường biê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60520" y="3048120"/>
            <a:ext cx="6269040" cy="3267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1200" y="5257800"/>
            <a:ext cx="2438640" cy="685800"/>
          </a:xfrm>
          <a:prstGeom prst="wedgeRectCallout">
            <a:avLst>
              <a:gd name="adj1" fmla="val 72328"/>
              <a:gd name="adj2" fmla="val -200694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ác ô cần tô màu nề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6920" y="1981080"/>
            <a:ext cx="2057400" cy="609840"/>
          </a:xfrm>
          <a:prstGeom prst="wedgeRectCallout">
            <a:avLst>
              <a:gd name="adj1" fmla="val -51773"/>
              <a:gd name="adj2" fmla="val 134115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mũi tên ở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l Col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27280" y="4076640"/>
            <a:ext cx="5486400" cy="228600"/>
          </a:xfrm>
          <a:prstGeom prst="rect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56480" y="3060720"/>
            <a:ext cx="1687320" cy="1743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23240" y="5791320"/>
            <a:ext cx="1968480" cy="609480"/>
          </a:xfrm>
          <a:prstGeom prst="wedgeRectCallout">
            <a:avLst>
              <a:gd name="adj1" fmla="val -4837"/>
              <a:gd name="adj2" fmla="val -239583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chọn màu nền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689120" y="4076640"/>
            <a:ext cx="5638680" cy="238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7400" y="1371600"/>
            <a:ext cx="4724280" cy="1219320"/>
          </a:xfrm>
          <a:prstGeom prst="cloudCallout">
            <a:avLst>
              <a:gd name="adj1" fmla="val -65657"/>
              <a:gd name="adj2" fmla="val 325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àu nền ô tính giúp dễ phân biệt và so sánh các miền dữ liệu khác nha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1371600"/>
            <a:ext cx="4800600" cy="1219320"/>
          </a:xfrm>
          <a:prstGeom prst="cloudCallout">
            <a:avLst>
              <a:gd name="adj1" fmla="val -61310"/>
              <a:gd name="adj2" fmla="val 325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 bước tô màu nền cho ô tí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1800" y="99072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. Tô màu nền cho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28600" y="16765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3176-963C-4563-88EB-EF08B1D0AAB5}" type="slidenum">
              <a:t>13</a:t>
            </a:fld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. Tô màu nền và kẻ đường biê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1371600"/>
            <a:ext cx="4330800" cy="1523880"/>
          </a:xfrm>
          <a:prstGeom prst="cloudCallout">
            <a:avLst>
              <a:gd name="adj1" fmla="val -97546"/>
              <a:gd name="adj2" fmla="val 29064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 em hãy quan sát trang tính dưới đâ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0000" y="111600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. Kẻ đường biên cho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162920" cy="2801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6896-5D34-4678-A139-2542F7DBEDD9}" type="slidenum">
              <a:t>14</a:t>
            </a:fld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10000" y="111600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. Kẻ đường biên cho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172200" cy="322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38360" y="4038480"/>
            <a:ext cx="5486400" cy="2133720"/>
          </a:xfrm>
          <a:prstGeom prst="rect">
            <a:avLst/>
          </a:prstGeom>
          <a:solidFill>
            <a:srgbClr val="c0c0c0">
              <a:alpha val="38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5867280"/>
            <a:ext cx="1981080" cy="685800"/>
          </a:xfrm>
          <a:prstGeom prst="wedgeRectCallout">
            <a:avLst>
              <a:gd name="adj1" fmla="val -35416"/>
              <a:gd name="adj2" fmla="val -176388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ác ô cần kẻ đường bi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1143000"/>
            <a:ext cx="2286000" cy="1066680"/>
          </a:xfrm>
          <a:prstGeom prst="wedgeRectCallout">
            <a:avLst>
              <a:gd name="adj1" fmla="val -45277"/>
              <a:gd name="adj2" fmla="val 13154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ord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để chọn kiểu vẽ đường bi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388200" y="2997360"/>
            <a:ext cx="1085760" cy="1400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477120" y="4800600"/>
            <a:ext cx="2286000" cy="685800"/>
          </a:xfrm>
          <a:prstGeom prst="wedgeRectCallout">
            <a:avLst>
              <a:gd name="adj1" fmla="val -37361"/>
              <a:gd name="adj2" fmla="val -176388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kiểu đường biên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6238800" cy="3219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52280" y="60948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. Tô màu nền và kẻ đường biê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14600" y="1523880"/>
            <a:ext cx="4038480" cy="1143000"/>
          </a:xfrm>
          <a:prstGeom prst="cloudCallout">
            <a:avLst>
              <a:gd name="adj1" fmla="val -80740"/>
              <a:gd name="adj2" fmla="val 3708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 bước kẻ đường biên cho ô tí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B40A-FFAA-40F1-A27F-97AAE66F8EB5}" type="slidenum">
              <a:t>15</a:t>
            </a:fld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rắc nghiệ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3C97-79AC-470A-9F1C-EB06376180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1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ăn bản ở dòng 16 sẽ có định dạng như thế nào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962600" cy="1638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" y="2019240"/>
            <a:ext cx="4648320" cy="22860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866960" y="1228680"/>
            <a:ext cx="476280" cy="238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772400" y="29718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57800" y="1219320"/>
            <a:ext cx="3733920" cy="1447560"/>
          </a:xfrm>
          <a:prstGeom prst="cloudCallout">
            <a:avLst>
              <a:gd name="adj1" fmla="val 25680"/>
              <a:gd name="adj2" fmla="val 1516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ho tra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219320"/>
            <a:ext cx="3733920" cy="1447560"/>
          </a:xfrm>
          <a:prstGeom prst="cloudCallout">
            <a:avLst>
              <a:gd name="adj1" fmla="val 25680"/>
              <a:gd name="adj2" fmla="val 1516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họn dòng 1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219320"/>
            <a:ext cx="3733920" cy="1447560"/>
          </a:xfrm>
          <a:prstGeom prst="cloudCallout">
            <a:avLst>
              <a:gd name="adj1" fmla="val 25680"/>
              <a:gd name="adj2" fmla="val 15153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ần lượt chọn các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76B4-0DF0-4E4C-A1C8-DF4EC377EB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5438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1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ăn bản ở dòng 16 sẽ có định dạng như thế nào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962600" cy="1638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7200" y="2019240"/>
            <a:ext cx="4648320" cy="22860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866960" y="1228680"/>
            <a:ext cx="476280" cy="238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772400" y="29718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257800" y="1219320"/>
            <a:ext cx="3733920" cy="1447560"/>
          </a:xfrm>
          <a:prstGeom prst="cloudCallout">
            <a:avLst>
              <a:gd name="adj1" fmla="val 25680"/>
              <a:gd name="adj2" fmla="val 1516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tra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3280" y="3484440"/>
            <a:ext cx="33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ở dòng 16 sẽ đậm l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24000" y="395460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ở dòng 16 sẽ nghiê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4360" y="444960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ở dòng 16 vừa đậm vừa nghiê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95760" y="297648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đáp án đúng trong các đáp án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24000" y="499572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ở dòng 16 không thay đổ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0490-07DD-467F-883A-EC3127F4F8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2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ết quả của việc thực hiện các thao tác trên như thế nào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048280" cy="2038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62720" y="1447920"/>
            <a:ext cx="3581280" cy="1447560"/>
          </a:xfrm>
          <a:prstGeom prst="cloudCallout">
            <a:avLst>
              <a:gd name="adj1" fmla="val 26509"/>
              <a:gd name="adj2" fmla="val 1641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bả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905120"/>
            <a:ext cx="4648320" cy="30456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72080" y="1447920"/>
            <a:ext cx="3581280" cy="1447560"/>
          </a:xfrm>
          <a:prstGeom prst="cloudCallout">
            <a:avLst>
              <a:gd name="adj1" fmla="val 21453"/>
              <a:gd name="adj2" fmla="val 1641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họn các ô từ A đến G của hàng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72200" y="1419120"/>
            <a:ext cx="3886200" cy="1524240"/>
          </a:xfrm>
          <a:prstGeom prst="cloudCallout">
            <a:avLst>
              <a:gd name="adj1" fmla="val 27861"/>
              <a:gd name="adj2" fmla="val 21802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ần lượt nhấn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rger and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nút căn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314880" y="1295280"/>
            <a:ext cx="495000" cy="2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D25B-EAC9-4D15-8642-FADCA275C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880"/>
                            </p:stCondLst>
                            <p:childTnLst>
                              <p:par>
                                <p:cTn id="7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96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680"/>
                            </p:stCondLst>
                            <p:childTnLst>
                              <p:par>
                                <p:cTn id="7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9880" y="838080"/>
            <a:ext cx="4572000" cy="1828800"/>
          </a:xfrm>
          <a:prstGeom prst="cloudCallout">
            <a:avLst>
              <a:gd name="adj1" fmla="val -105453"/>
              <a:gd name="adj2" fmla="val 44185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ác em hãy cho biết “Dữ liệu được trình bày trên bảng tính như thế nào?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651040"/>
            <a:ext cx="5238720" cy="295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3352680"/>
            <a:ext cx="2133720" cy="762120"/>
          </a:xfrm>
          <a:prstGeom prst="wedgeRectCallout">
            <a:avLst>
              <a:gd name="adj1" fmla="val 86310"/>
              <a:gd name="adj2" fmla="val -24791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ữ liệu số: căn thẳng lề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809880"/>
            <a:ext cx="1828800" cy="685800"/>
          </a:xfrm>
          <a:prstGeom prst="wedgeRectCallout">
            <a:avLst>
              <a:gd name="adj1" fmla="val -128037"/>
              <a:gd name="adj2" fmla="val -17592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ữ liệu kí tự: căn thẳng lề trá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2B72-7E6C-4D09-A806-30E609A4A9E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2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ết quả của việc thực hiện các thao tác trên như thế nào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5048280" cy="2038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562720" y="990720"/>
            <a:ext cx="3581280" cy="1447560"/>
          </a:xfrm>
          <a:prstGeom prst="cloudCallout">
            <a:avLst>
              <a:gd name="adj1" fmla="val 25708"/>
              <a:gd name="adj2" fmla="val 2062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bả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523880"/>
            <a:ext cx="4648320" cy="30492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914400"/>
            <a:ext cx="3581280" cy="1447920"/>
          </a:xfrm>
          <a:prstGeom prst="cloudCallout">
            <a:avLst>
              <a:gd name="adj1" fmla="val 25708"/>
              <a:gd name="adj2" fmla="val 2062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họn các ô từ A đến G của hàng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947880"/>
            <a:ext cx="3581280" cy="1447560"/>
          </a:xfrm>
          <a:prstGeom prst="cloudCallout">
            <a:avLst>
              <a:gd name="adj1" fmla="val 25532"/>
              <a:gd name="adj2" fmla="val 2062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ần lượt nhấn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rger and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nút căn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086280" y="914400"/>
            <a:ext cx="495000" cy="247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93960" y="358632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sẽ căn giữ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4320" y="4056120"/>
            <a:ext cx="66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ác ô từ A đến G sẽ hòa trộn thành 1 ô và văn bản sẽ căn giữ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4680" y="4546440"/>
            <a:ext cx="66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ác ô từ A đến G sẽ hòa trộn thành 1 ô và văn bản sẽ căn phả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7160" y="307800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đáp án đúng trong các đáp án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4320" y="50976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Không có thay đổi nà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31D0-BB48-435E-A4FF-5E3A56BE0D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848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3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ếu trong ô C1 có công thức = A1 + B1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 sẽ nhận được kết quả gì trong ô đó?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581280" cy="1567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924680" y="335268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114800" y="1295280"/>
            <a:ext cx="5029200" cy="2133720"/>
          </a:xfrm>
          <a:prstGeom prst="cloudCallout">
            <a:avLst>
              <a:gd name="adj1" fmla="val 31407"/>
              <a:gd name="adj2" fmla="val 9352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tra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1 có giá trị: 1.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B1 có giá trị: 2.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C1 có kiểu nguy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4280" y="2811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64200" y="2811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BAA1-3178-498E-BE87-C750C34228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71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3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ếu trong ô C1 có công thức  = A1 + B1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 sẽ nhận được kết quả gì trong ô đó?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581640" cy="1566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924680" y="335268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733920" y="914400"/>
            <a:ext cx="5257800" cy="2133720"/>
          </a:xfrm>
          <a:prstGeom prst="cloudCallout">
            <a:avLst>
              <a:gd name="adj1" fmla="val 35115"/>
              <a:gd name="adj2" fmla="val 111384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tra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1 có giá trị: 1.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B1 có giá trị: 2.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C1 định dạng kiểu nguy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640" y="1973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11920" y="1973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8480" y="361152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C1 có giá trị là :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8480" y="465300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C1 có giá trị là:  4.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8480" y="51483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C1 có giá trị là : 4.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43120" y="316692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đáp án đúng trong các đáp án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8480" y="41194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C1 có giá trị là : 4.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67C4-255E-4BFA-9736-8A44FBFA82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4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o chép nội dung ô A1 vào ô A3.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m thử dự đoán sau khi sao chép ô A3 có nền và phông chữ màu gì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772400" y="34290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495680" y="2438280"/>
            <a:ext cx="4343400" cy="1600200"/>
          </a:xfrm>
          <a:prstGeom prst="cloudCallout">
            <a:avLst>
              <a:gd name="adj1" fmla="val 32527"/>
              <a:gd name="adj2" fmla="val 83236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bả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505320" cy="20350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90720" y="1981080"/>
            <a:ext cx="99036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2438280"/>
            <a:ext cx="4343400" cy="1600200"/>
          </a:xfrm>
          <a:prstGeom prst="cloudCallout">
            <a:avLst>
              <a:gd name="adj1" fmla="val 32092"/>
              <a:gd name="adj2" fmla="val 81648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1: nền vàng chữ đ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3: nền trắng chữ đ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51460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A9EA-731E-42AE-945D-D3A6C072BE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4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o chép nội dung ô A1 vào ô A3.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m thử dự đoán sau khi sao chép ô A3 có nền và phông chữ màu gì?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772400" y="34290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105520" y="1219320"/>
            <a:ext cx="3886200" cy="1371600"/>
          </a:xfrm>
          <a:prstGeom prst="cloudCallout">
            <a:avLst>
              <a:gd name="adj1" fmla="val 33782"/>
              <a:gd name="adj2" fmla="val 201041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bả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85800" y="1165320"/>
            <a:ext cx="3505320" cy="2035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66680" y="1676520"/>
            <a:ext cx="99072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05520" y="990720"/>
            <a:ext cx="3809880" cy="1752480"/>
          </a:xfrm>
          <a:prstGeom prst="cloudCallout">
            <a:avLst>
              <a:gd name="adj1" fmla="val 28916"/>
              <a:gd name="adj2" fmla="val 124726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1: nền vàng chữ đ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3: nền trắng chữ đ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23083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70280" y="3611520"/>
            <a:ext cx="42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A3 có nền trắng, phông chữ màu đ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70640" y="518652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A3 có nền vàng, phông chữ màu đ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70640" y="46274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A3 có nền vàng, phông chữ màu đ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43120" y="316692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đáp án đúng trong các đáp án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70280" y="41194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A3 có nền trắng, phông chữ màu đ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BF48-94CF-4A29-A2EC-E0DB117D76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6383-B999-4406-ADBA-375C6CC7A3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686120" cy="241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4667400" cy="252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520" y="2971800"/>
            <a:ext cx="457200" cy="457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5410080"/>
            <a:ext cx="457200" cy="457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57200"/>
            <a:ext cx="3429000" cy="1905120"/>
          </a:xfrm>
          <a:prstGeom prst="cloudCallout">
            <a:avLst>
              <a:gd name="adj1" fmla="val -93981"/>
              <a:gd name="adj2" fmla="val 2333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ác em hãy nhận xét và so sánh về hai trang tính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2AD4-B177-42E0-8576-FFA2CCA047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Định dạng phông chữ, cỡ chữ và kiểu chữ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3680" y="3984480"/>
            <a:ext cx="1905120" cy="20664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phông ch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27320" y="5380200"/>
            <a:ext cx="1600200" cy="7452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ỡ ch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5800" y="3314880"/>
            <a:ext cx="2286000" cy="26640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kiểu chữ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đậ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1480" y="5549760"/>
            <a:ext cx="2666880" cy="34308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kiểu chữ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ghiê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5160" y="3795840"/>
            <a:ext cx="3048120" cy="34272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kiểu chữ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gạch châ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09680" y="4724280"/>
            <a:ext cx="3810240" cy="3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53080" y="1905120"/>
            <a:ext cx="1962360" cy="923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12193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 hãy cho biết thanh công cụ định dạng có những nút lệnh gì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C23C-42BF-40E5-861B-3127EAB62616}" type="slidenum">
              <a:t>4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52680" y="762120"/>
            <a:ext cx="4724640" cy="1218960"/>
          </a:xfrm>
          <a:prstGeom prst="cloudCallout">
            <a:avLst>
              <a:gd name="adj1" fmla="val -93851"/>
              <a:gd name="adj2" fmla="val 52342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ể chọn hoặc thay đổi phông chữ của dữ liệu, ta phải làm gì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7431120" cy="3143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6560" y="3886200"/>
            <a:ext cx="1930320" cy="22860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133720"/>
            <a:ext cx="2666880" cy="609480"/>
          </a:xfrm>
          <a:prstGeom prst="wedgeRectCallout">
            <a:avLst>
              <a:gd name="adj1" fmla="val -63152"/>
              <a:gd name="adj2" fmla="val 250000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(hoặc các ô) cần định dạng nội du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9280" y="3860640"/>
            <a:ext cx="2266920" cy="29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566040" y="3314880"/>
            <a:ext cx="2590560" cy="2523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21160" y="2286000"/>
            <a:ext cx="2908440" cy="609480"/>
          </a:xfrm>
          <a:prstGeom prst="wedgeRectCallout">
            <a:avLst>
              <a:gd name="adj1" fmla="val 34226"/>
              <a:gd name="adj2" fmla="val 135157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mũi tên ở ô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chọn phôngchữ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638680"/>
            <a:ext cx="2210040" cy="762120"/>
          </a:xfrm>
          <a:prstGeom prst="wedgeRoundRectCallout">
            <a:avLst>
              <a:gd name="adj1" fmla="val 71837"/>
              <a:gd name="adj2" fmla="val -315208"/>
              <a:gd name="adj3" fmla="val 16667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phông chữ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578640" y="3276720"/>
            <a:ext cx="1295280" cy="237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16765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7DC2-662D-4E78-BC90-884778107EE8}" type="slidenum">
              <a:t>5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0320"/>
            <a:ext cx="822960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àm thế nào để chọn hoặc thay đổi cỡ chữ trong trang tính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315200" cy="2360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3492360"/>
            <a:ext cx="6324840" cy="30492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89040" y="2413080"/>
            <a:ext cx="4464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15000" y="4800600"/>
            <a:ext cx="2971800" cy="685800"/>
          </a:xfrm>
          <a:prstGeom prst="wedgeRectCallout">
            <a:avLst>
              <a:gd name="adj1" fmla="val -46689"/>
              <a:gd name="adj2" fmla="val -225462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(hoặc các ô) cần định dạng nội du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295280"/>
            <a:ext cx="2743200" cy="685800"/>
          </a:xfrm>
          <a:prstGeom prst="wedgeRectCallout">
            <a:avLst>
              <a:gd name="adj1" fmla="val 7814"/>
              <a:gd name="adj2" fmla="val 122222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mũi tên ở ô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z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ỡ chữ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15920" y="3479760"/>
            <a:ext cx="729000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09680" y="4419720"/>
            <a:ext cx="2210040" cy="685800"/>
          </a:xfrm>
          <a:prstGeom prst="wedgeRoundRectCallout">
            <a:avLst>
              <a:gd name="adj1" fmla="val -30601"/>
              <a:gd name="adj2" fmla="val -206481"/>
              <a:gd name="adj3" fmla="val 16667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ỡ chữ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8058-5247-456A-955A-DAFA21D6B851}" type="slidenum">
              <a:t>6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Muốn thay đổi kiểu chữ trong trang tính ta cần phải làm gì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5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ao tác với 3 nú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ương tự nh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ó thể kết hợp nhiều kiểu chữ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Vừa đậm vừa nghiê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ừa nghiêng vừa gạch châ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714680"/>
            <a:ext cx="6305400" cy="2400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47920" y="2730600"/>
            <a:ext cx="6019560" cy="21564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4038480"/>
            <a:ext cx="2590920" cy="609840"/>
          </a:xfrm>
          <a:prstGeom prst="wedgeRectCallout">
            <a:avLst>
              <a:gd name="adj1" fmla="val -62620"/>
              <a:gd name="adj2" fmla="val -251041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(hoặc các ô) cần định dạng nội du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82880" y="1714680"/>
            <a:ext cx="228600" cy="22860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1066680"/>
            <a:ext cx="1828800" cy="609840"/>
          </a:xfrm>
          <a:prstGeom prst="wedgeRectCallout">
            <a:avLst>
              <a:gd name="adj1" fmla="val -88023"/>
              <a:gd name="adj2" fmla="val 71615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để chọn chữ đậ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68560" y="2685960"/>
            <a:ext cx="5983200" cy="285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24280" y="5029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chọn 2 nút B và 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6480" y="53974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Wingdings"/>
                <a:ea typeface="Wingdings"/>
              </a:rPr>
              <a:t></a:t>
            </a: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Verdana"/>
              </a:rPr>
              <a:t> </a:t>
            </a: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Verdana"/>
              </a:rPr>
              <a:t>chọn 2 nút U và 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33CD-D39C-4027-A412-4FF87F3B706C}" type="slidenum">
              <a:t>7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635472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92240" y="3733920"/>
            <a:ext cx="1905120" cy="30456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515280" y="3149640"/>
            <a:ext cx="1538280" cy="1600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71600" y="2514600"/>
            <a:ext cx="2666880" cy="685800"/>
          </a:xfrm>
          <a:prstGeom prst="wedgeRectCallout">
            <a:avLst>
              <a:gd name="adj1" fmla="val -50356"/>
              <a:gd name="adj2" fmla="val 141898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hoặc nhiều ô muốn thay đổi màu chữ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514600"/>
            <a:ext cx="1905120" cy="685800"/>
          </a:xfrm>
          <a:prstGeom prst="wedgeRectCallout">
            <a:avLst>
              <a:gd name="adj1" fmla="val -67333"/>
              <a:gd name="adj2" fmla="val 58101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mũi tên ô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nt Colo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5562720"/>
            <a:ext cx="1828800" cy="685800"/>
          </a:xfrm>
          <a:prstGeom prst="wedgeRoundRectCallout">
            <a:avLst>
              <a:gd name="adj1" fmla="val -57203"/>
              <a:gd name="adj2" fmla="val -245833"/>
              <a:gd name="adj3" fmla="val 16667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màu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38080" y="3720960"/>
            <a:ext cx="2152800" cy="285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họn màu chữ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457200"/>
            <a:ext cx="4267440" cy="1752480"/>
          </a:xfrm>
          <a:prstGeom prst="cloudCallout">
            <a:avLst>
              <a:gd name="adj1" fmla="val -102120"/>
              <a:gd name="adj2" fmla="val 20291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uốn tô màu cho văn bản trong trang tính thì ta làm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990720" y="106668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47D2-76A1-4D31-B6C7-7B3C30F47278}" type="slidenum">
              <a:t>8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2895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ăn lề trong ô tính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28800" y="5832000"/>
            <a:ext cx="693432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ao tác với 3 nút căn lề tương tự nh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1600200"/>
            <a:ext cx="1524240" cy="34308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ăn lề trái 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0160" y="609480"/>
            <a:ext cx="1371600" cy="30492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ăn giữa 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1295280"/>
            <a:ext cx="1600200" cy="34308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ăn lề phải 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1219320" cy="382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19320" y="2133720"/>
            <a:ext cx="5638680" cy="349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530520" y="3429000"/>
            <a:ext cx="3213360" cy="2133720"/>
          </a:xfrm>
          <a:prstGeom prst="rect">
            <a:avLst/>
          </a:prstGeom>
          <a:solidFill>
            <a:srgbClr val="c0c0c0">
              <a:alpha val="55000"/>
            </a:srgbClr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76640" y="2120760"/>
            <a:ext cx="228600" cy="228600"/>
          </a:xfrm>
          <a:prstGeom prst="rect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581280"/>
            <a:ext cx="2133720" cy="685800"/>
          </a:xfrm>
          <a:prstGeom prst="wedgeRectCallout">
            <a:avLst>
              <a:gd name="adj1" fmla="val 86384"/>
              <a:gd name="adj2" fmla="val 78009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ác ô có nội dung cần căn l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568680" y="3441600"/>
            <a:ext cx="3378240" cy="2136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00800" y="2819520"/>
            <a:ext cx="2362320" cy="685800"/>
          </a:xfrm>
          <a:prstGeom prst="wedgeRectCallout">
            <a:avLst>
              <a:gd name="adj1" fmla="val -142675"/>
              <a:gd name="adj2" fmla="val -131481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ấn nút để căn giữa các ô tí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D112-42FB-4836-8295-F9EF15617996}" type="slidenum">
              <a:t>9</a:t>
            </a:fld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8:13:17Z</dcterms:created>
  <dc:creator>hangnguyen</dc:creator>
  <dc:description/>
  <dc:language>en-US</dc:language>
  <cp:lastModifiedBy>pham thanh nam</cp:lastModifiedBy>
  <dcterms:modified xsi:type="dcterms:W3CDTF">2007-08-21T07:57:58Z</dcterms:modified>
  <cp:revision>109</cp:revision>
  <dc:subject/>
  <dc:title>Bài 7. Trình bày và in trang tính</dc:title>
</cp:coreProperties>
</file>