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2952-09DC-4BFE-86E4-827D1841C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893A-4211-42F3-AF35-AC7E473F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9AC5-962A-4F6C-9B3B-A1E18E02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240B-7954-49B9-AA46-9830C1CE7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C2D1-2C25-407D-B55B-C4F3821646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4F94-C6D1-4695-8DF0-557B77458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8F99-7EAA-480D-8C34-D610A2A25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C2B8-9D5E-419A-8AF3-B5CF108E6D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8D4A-4BF5-440F-98CF-1AB5FAF5FD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8681-7DC5-40FF-993E-D0D501A1F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E0A8-7D37-4A7E-9BD7-C87AFBE15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99A3-7F32-4876-95C6-2B5F6EE9D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3246-A83E-4682-950E-801151231C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8792-210E-401A-B4BA-FB8AEBF889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20EA-DC03-4DC3-868D-332C37A55A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A4BA-1515-4B73-A4BD-66D1437D9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0B0F-51C8-4F67-A614-5A3ED1D4C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043D-BF45-4227-A4DB-2A84B0FB3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78B1-3A0D-4B8E-87A4-4D0E50F7E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DB0-BBDF-4455-9108-A2A1E6F7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579F-266E-4970-99D2-B0A3B47F5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68E2-62BE-4895-B0F4-495A8986F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6ACC-339A-4E00-A3AB-6D4301172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C161-4FB4-40BD-ABA1-DF0ADA2A8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C39-C8B8-47BA-9939-323B7FF728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3: Bảng điểm của 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1C44-6764-4B29-A303-CDF073A4FE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ảng điểm của e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2193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ài thực hành 3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76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1: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ụ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 trang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+15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20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/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+15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0+15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0-15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-(15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6-3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(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44/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(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/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+7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/7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2-7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(6+5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88-12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/7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240" cy="28954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1: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ụ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 trang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4246560"/>
            <a:ext cx="3048120" cy="22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81080" y="1593720"/>
            <a:ext cx="464832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1523880" y="1424160"/>
          <a:ext cx="5334120" cy="2766960"/>
        </p:xfrm>
        <a:graphic>
          <a:graphicData uri="http://schemas.openxmlformats.org/drawingml/2006/table">
            <a:tbl>
              <a:tblPr/>
              <a:tblGrid>
                <a:gridCol w="1905120"/>
                <a:gridCol w="1095480"/>
                <a:gridCol w="23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685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2: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ữ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li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ệu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nh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ẫu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6560" y="3657600"/>
          <a:ext cx="8381880" cy="2590560"/>
        </p:xfrm>
        <a:graphic>
          <a:graphicData uri="http://schemas.openxmlformats.org/drawingml/2006/table">
            <a:tbl>
              <a:tblPr/>
              <a:tblGrid>
                <a:gridCol w="476280"/>
                <a:gridCol w="1504800"/>
                <a:gridCol w="1600200"/>
                <a:gridCol w="1524240"/>
                <a:gridCol w="1676160"/>
                <a:gridCol w="16002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7162920" y="582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ctr" pos="568440"/>
                <a:tab algn="ctr" pos="2174760"/>
                <a:tab algn="ctr" pos="3713040"/>
                <a:tab algn="ctr" pos="5195880"/>
                <a:tab algn="ctr" pos="755028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=(A1+B2+C4)/3</a:t>
            </a:r>
            <a:r>
              <a:rPr b="1" lang="vi-VN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133640"/>
            <a:ext cx="4572000" cy="1685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48040" y="297180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à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ư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 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ứ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0600" y="44514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+5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1040" y="44197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78600" y="441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+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5480" y="44337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95400" y="44355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*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5360" y="51213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7680" y="51213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-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0360" y="5105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-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800" y="51530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/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69840" y="5118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^A1-C4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8680" y="57625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*C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0640" y="577836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C4-A1)/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85120" y="5794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/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25960" y="57913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B2+C4)/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3: Thực hành lập và sử dụng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791240" cy="2786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 sử em có 500.000 đồng gửi tiết kiệm không kì hạn với lãi suất 0,3%/tháng. Hãy sử dụng công thức để tính trong vòng một năm, hàng tháng em có bao nhiêu tiền trong sổ tiết kiệm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ãy lập trang tính như hình 26 để sao cho khi thay đổi số tiền gửi ban đầu và lãi suất thì không cần phải nhập lại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o tiet ki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3640" y="6095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ình 2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3400560"/>
            <a:ext cx="5029200" cy="303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762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3: Thực hành lập và sử dụng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09680" y="3355920"/>
            <a:ext cx="4143600" cy="304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1386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ố tiền trong sổ (sau mỗi tháng)  =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752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ốc + gốc * lãi suất * số thá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1360" y="2590920"/>
            <a:ext cx="49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âu hỏi: Công thức trong ô E3 là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4480" y="29718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B2 + B2*B3*D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ốc + lãi của mỗi thá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83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4: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ổ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k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ế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o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rung bình cộng của các điểm kiểm tra và điểm thi sau khi đã nhân hệ s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48720" cy="2246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14400" y="2057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âu hỏi: Công thức điểm tổng kết ở ô G3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514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(2*(C3 + D3*2 + E3*2)/5 + F3)/3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7320" y="5486400"/>
            <a:ext cx="71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Bang diem cua em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à thoát khỏi chương trìn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06:44Z</dcterms:created>
  <dc:creator>fantasy</dc:creator>
  <dc:description/>
  <dc:language>en-US</dc:language>
  <cp:lastModifiedBy>pham thanh nam</cp:lastModifiedBy>
  <dcterms:modified xsi:type="dcterms:W3CDTF">2007-08-20T07:40:04Z</dcterms:modified>
  <cp:revision>117</cp:revision>
  <dc:subject/>
  <dc:title>Slide 1</dc:title>
</cp:coreProperties>
</file>