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5A91-B440-4282-8DCB-806F81344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B7D8-6CEE-4EB9-A5DB-1747B6375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41CD-C13F-4ED3-B8B3-22EB00A3F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7BCC-4D49-4E65-9111-634BC7CBD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27DC-13F0-461F-9377-2B925C601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4F73-4E35-4DC1-B0D9-5050D6C5F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C5DB-1214-4C6E-A127-A97F447626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3A1C-1280-483E-8542-F5B7BCB600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6CEE-3247-44B8-BB04-A95F04E579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7707-193F-445E-942B-335EAA28CE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0255-365A-42AF-B21D-8F9CFC8F93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8990-879C-4999-BFC7-19AE7EEE8B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DB399-0A6B-42B8-8031-5D9D2408E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2E6D-8D0D-44E7-B7A0-6114C2FDC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F493-49A7-4DF3-90C2-AEF362E74A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EBFC5-A35A-45DC-9FC7-4A620F6EDF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2DAD-9697-4848-A2F0-C0E1E010D2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82A8-0CA0-4357-B851-03B46799F1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A53C-CFBC-4248-997A-F513FBF317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7F00-4B35-4FD2-9560-06C066142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7EEA-B16D-45A5-B6EE-77349348A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6679-7D38-4AF3-99B7-0F1E8E07B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8286-FFCA-4931-872A-64EF49BFC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0EAC-7CA5-400B-A202-410033886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53AE-B308-406D-AB45-AA38B832B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D797-F46C-4163-A5DA-02B24DB12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53D7-7DD1-4CBC-B797-FE05B9AD87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Bài thực hành 1: Làm quen với chương trình bảng tính EXCEL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0115-D383-4642-9D75-B5D78745EAA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096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66"/>
                </a:solidFill>
                <a:latin typeface="Arial"/>
              </a:rPr>
              <a:t>Làm quen với chương trình bảng tính Excel</a:t>
            </a:r>
            <a:endParaRPr b="0" lang="en-US" sz="3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129528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903"/>
                </a:solidFill>
                <a:latin typeface="Arial"/>
              </a:rPr>
              <a:t>Bài thực hành 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9850-C9A9-4802-A828-8014CB6DB9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3429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Khởi động Excel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38280" y="2666880"/>
            <a:ext cx="4800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háy đúp chuột vào biểu tượng Microsoft Excel trên  màn hình nề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371240" y="2895480"/>
            <a:ext cx="114300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E07F-D27E-46A8-B975-156AC10271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97164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Khởi động Excel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5562720"/>
            <a:ext cx="6400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grams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icrosoft Office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icrosoft Excel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5791320"/>
            <a:ext cx="1600200" cy="685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0CF6-4F0A-4157-B832-2DD7489585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084560" cy="4464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651640" y="1828800"/>
            <a:ext cx="349236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04760" y="12812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ích vào nút lệnh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av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47560" y="1600200"/>
            <a:ext cx="1600200" cy="1219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295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1295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av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23080" y="148896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33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Lưu kết qu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CE61-B0E6-44EF-8182-D91CA4B732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335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Thoát khỏi Exc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647880" cy="4495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310356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1066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ích vào dấu nhân ở góc trên bên phải màn hìn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1371600"/>
            <a:ext cx="685800" cy="6858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86360" y="13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2000" y="1386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89880" y="157968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34DE-B5DE-4751-A04A-F6C866B38E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25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5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65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2590920"/>
            <a:ext cx="6781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ài tập thực hàn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ACC0-F071-40DD-B80E-2A229C57E3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79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593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1: Quan sát màn hình Excel và các lệnh trong các bảng chọ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8443800" cy="575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304920" y="1066680"/>
            <a:ext cx="8443800" cy="5756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304920" y="1066680"/>
            <a:ext cx="8458200" cy="574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5723-0977-41E8-AA08-0588E00F0B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7520" y="8222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2: Nhập dữ liệu theo mẫu sau và lưu với tên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Danh sach lop em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F5A5-85A0-4210-A99E-7A4B914A5C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3138-648B-4C27-8D9C-7A9096C40C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05:08:46Z</dcterms:created>
  <dc:creator>thapnv</dc:creator>
  <dc:description/>
  <dc:language>en-US</dc:language>
  <cp:lastModifiedBy>pham thanh nam</cp:lastModifiedBy>
  <dcterms:modified xsi:type="dcterms:W3CDTF">2007-08-21T03:48:39Z</dcterms:modified>
  <cp:revision>335</cp:revision>
  <dc:subject/>
  <dc:title>Các giao thức khoá cho hệ quản trị cơ sở dữ liệu phân tán</dc:title>
</cp:coreProperties>
</file>