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4F636-DCE5-4A26-B112-CF27CB346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F8CE9-8F73-4EC6-A634-226380BFF0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70F80-602C-4ECD-88AD-7D01DE876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8000-D504-4ACD-99DD-A40B3F6935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8F1D5-D7DD-493F-9671-10AD5FE0AF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E3BFD-0BAF-44D5-A188-671869C401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C795F-99A5-4610-ADF8-EB076B415B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4ADCB-74BE-45FD-81B9-25F0DE917C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36E85-D54B-47D5-A24D-CDFC3686D0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F7C05-20DF-4FDE-B0A5-D81F6B0FAE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C19CE-4E8D-4A28-8DA9-2856DF6DA7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D7923-F980-46F4-968D-4BC56DBF11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F4FA4-ACCF-4C9F-8063-DE76489DEB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14C8D-EE35-4FCC-8079-26D492F55E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E5630-8B6C-4F5A-B62F-9F6B688AA9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58E98-05BF-497C-BA9F-FFFF6E6C19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F0FD1-C449-4018-82BB-7A51636211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59740-6706-4451-A1FB-92D066DB9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A3C8F-1133-4606-9107-703F5DEEC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4B711-BD84-4717-A581-FA7DDB48B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9D9B-F0F1-453C-B9C2-62E752E9F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D9FBE-0B79-4CDC-A2A4-AA85375C10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BD797-6203-4D06-A8D1-B320E8606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69BE0-5B5E-4DF1-AEDD-BA8C4FD55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37720" y="6539040"/>
            <a:ext cx="8305560" cy="318960"/>
            <a:chOff x="837720" y="6539040"/>
            <a:chExt cx="8305560" cy="318960"/>
          </a:xfrm>
        </p:grpSpPr>
        <p:sp>
          <p:nvSpPr>
            <p:cNvPr id="1" name=""/>
            <p:cNvSpPr/>
            <p:nvPr/>
          </p:nvSpPr>
          <p:spPr>
            <a:xfrm>
              <a:off x="1265760" y="6539040"/>
              <a:ext cx="787752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37360" y="6539040"/>
              <a:ext cx="4424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8440-A7E2-4989-987B-96764D7755F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85040" y="0"/>
            <a:ext cx="858960" cy="800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3352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Bài thực hành 5: Chỉnh sửa trang tính của e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52480" y="6539040"/>
            <a:ext cx="7391520" cy="318960"/>
            <a:chOff x="1752480" y="6539040"/>
            <a:chExt cx="7391520" cy="318960"/>
          </a:xfrm>
        </p:grpSpPr>
        <p:sp>
          <p:nvSpPr>
            <p:cNvPr id="46" name=""/>
            <p:cNvSpPr/>
            <p:nvPr/>
          </p:nvSpPr>
          <p:spPr>
            <a:xfrm>
              <a:off x="2133360" y="653904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752480" y="653904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6897-E5C8-4599-B4F4-F003801C7DF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27280"/>
            <a:ext cx="9144000" cy="33577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141720"/>
            <a:ext cx="914400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27160" y="21337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903"/>
                </a:solidFill>
                <a:latin typeface="Arial"/>
              </a:rPr>
              <a:t>Chỉnh</a:t>
            </a: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6903"/>
                </a:solidFill>
                <a:latin typeface="Arial"/>
              </a:rPr>
              <a:t>sửa trang tính của e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1295280"/>
            <a:ext cx="480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Bài thực hành 5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D6A04-AD1A-4FA1-9AC9-20C6FE9F3E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685800"/>
            <a:ext cx="86868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oạt động 1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ở tệp 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Bang diem lop em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lưu ở bài thực hành 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523880"/>
            <a:ext cx="674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êm cột sau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Toá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một cột trống là cộ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Tin học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èn thêm hàng trống trên và dưới dòng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Bảng điểm lớp 7A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7724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A4AD2-A26B-49D5-BFB4-6BE924AC68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762120"/>
            <a:ext cx="815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. Nhập điểm môn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Tin học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và điều chỉnh lại công thức cho đúng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. Di chuyển cộ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Tin học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về sau cộ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gữ vă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041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30760" y="594360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. Lưu bảng tính với tên cũ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62FB2-9716-494B-A1A5-0A81A73F7A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685800"/>
            <a:ext cx="86868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oạt động 2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ử dụng lại 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Bang diem lop em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582560"/>
            <a:ext cx="784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. Di chuyển dữ liệu cộ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Tin học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sang một cột  tạm thời, xoá cột D;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. Chèn cột mới sau cộ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gữ vă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sao chép nội dung cộ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Tin học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ở cột tạm thời vào vị trí đó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162560" cy="355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0A8EE-2167-4F31-8B4D-170825C940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858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oạt động 2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219320"/>
            <a:ext cx="784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. Thêm cột môn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ông ngh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nhập dữ liệu;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. Điều chỉnh lại công thức trong cộ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Điểm trung bình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cho đúng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86800" cy="383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4A0CF-C9B5-4584-9E53-6D9FC6D599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8128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oạt động 3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4479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. Tạo trang tính mới với những nội dung sau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410440" cy="1314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57200" y="3429000"/>
            <a:ext cx="784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. Tính tổng các số trong ô A1,B1,C1 vào ô D1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. Sao chép công thức từ ô D1 vào các ô D2, E1, E2, E3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. Lần lượt di chuyển công thức từ ô D1 đến ô G1, từ ô D2 đến ô G2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. Dùng lệnh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p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và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ast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ao chép nội dung ô A1 vào khối H1:J4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ao chép nội dung từ khối A1:A2 vào các khối A5:A7; B5:B8; C5:C9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67CBE-4AE4-472E-BDDF-8F56501C92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8920" y="609480"/>
            <a:ext cx="905508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oạt độn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1028880" indent="-10288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) Mở bảng tính 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So theo doi the luc</a:t>
            </a: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đã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ưu ở bài thực hành 2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1028880" indent="-10288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) Thêm hàng  trước và sau dòng “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Danh sách lớp em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” và cộ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Địa ch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Điện thoại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1028880" indent="-10288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) Điều chỉnh độ rộng của hàng, độ cao của cột để có trang tính như hình dưới đây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1028880" indent="-10288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) Lưu bảng tính với tên cũ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6553080" cy="35416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E1A26-67B6-44F1-88CB-72953B0122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619440" y="2228760"/>
            <a:ext cx="1905120" cy="1943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581280" y="4191120"/>
            <a:ext cx="20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Kết thúc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7E43A-917F-43D6-858E-BFC2B57C1C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05:08:46Z</dcterms:created>
  <dc:creator>thapnv</dc:creator>
  <dc:description/>
  <dc:language>en-US</dc:language>
  <cp:lastModifiedBy>pham thanh nam</cp:lastModifiedBy>
  <dcterms:modified xsi:type="dcterms:W3CDTF">2007-08-22T10:30:41Z</dcterms:modified>
  <cp:revision>346</cp:revision>
  <dc:subject/>
  <dc:title>Các giao thức khoá cho hệ quản trị cơ sở dữ liệu phân tán</dc:title>
</cp:coreProperties>
</file>