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24.gif" ContentType="image/gif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56EF8-8BE4-4ABE-98E6-05245F712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265C-4616-4526-AF00-F2D7A6985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E3B7-FE8A-48B3-8B80-1274E26F5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E6C16-5F81-4D0B-BD2C-B5B5D71A7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50C5C-9B5F-4D8B-81B7-2DC222B4D3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C7D4D-51A4-4A4C-9C3E-039CF6F07C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A74A1-D694-47DA-A842-AA2CC2AE4D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462F3-FEEA-4361-BC4D-2AE2745F7F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04DCA-1909-4A2A-B2BD-66609F4F99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D629-89B5-4D1C-BE02-A355A20B0C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7033B-73F2-428C-B802-849449FE05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77E4-C7D2-4C4E-B94F-3DB0EA5B4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E2239-02A0-46A2-9CBE-4460ADA359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B8888-2DAA-4BB9-BAAB-AD813A005C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2B1D6-AFEE-41BE-AC3C-DEB6C990D9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806F9-67E4-4C9B-9996-27D2B50DA6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0DBD9-D026-453D-B806-FCC167DB13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77EB8-7EAD-43AF-B617-282AC12BF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BC61-5B38-460D-B691-F9843BD3E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19FA-1BA5-4DD2-83C3-476F1CFD0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7DA3-E679-4CD8-8A99-038B9B25C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FF1F-73C4-4C6C-8DD2-66379FC58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A671-3451-429E-8672-EED1AA50F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439A-6A04-45D0-9317-E090D6B96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7720" y="6539040"/>
            <a:ext cx="8305560" cy="318960"/>
            <a:chOff x="837720" y="6539040"/>
            <a:chExt cx="8305560" cy="318960"/>
          </a:xfrm>
        </p:grpSpPr>
        <p:sp>
          <p:nvSpPr>
            <p:cNvPr id="1" name=""/>
            <p:cNvSpPr/>
            <p:nvPr/>
          </p:nvSpPr>
          <p:spPr>
            <a:xfrm>
              <a:off x="1265760" y="6539040"/>
              <a:ext cx="787752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37360" y="6539040"/>
              <a:ext cx="4424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FF42-3F4B-4F0F-821F-3B931B467A2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ài 9. Trình bày dữ liệu bằng biểu đ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5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6C53-1BEA-4A6A-9B12-F7CE459CF72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9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Bài 9</a:t>
            </a: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rình bày dữ liệu bằng biểu đồ</a:t>
            </a:r>
            <a:endParaRPr b="1" lang="en-US" sz="28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0E9E2-BFC9-4C96-AE91-0CB4335691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19120" y="115848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Bước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họn vị trí đặt biểu đ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object 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hèn biểu đồ vào trang tính chứa danh sách dữ liệu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new she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ột trang tính mới được tạo ra và biểu đồ được chèn vào trang đ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66680" y="1905120"/>
          <a:ext cx="693432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69343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80880" y="609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ạo biểu đ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234C-779B-4EFE-974A-8BA1722037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2438280"/>
            <a:ext cx="8534520" cy="22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ại mỗi bước, nếu em nháy nú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Kết thúc) khi chưa ở bước cuối cùng thì biểu đồ cũng được tạo. Khi đó các nội dung hay tính chất bị bỏ qua (ở các bước sau) sẽ được đặt theo ngầm định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 algn="just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ên từng hộp thoại nếu cần em có thể nháy nú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Quay lại) để trở lại bước trước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80880" y="5334120"/>
            <a:ext cx="952560" cy="971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447920" y="2286000"/>
            <a:ext cx="6476760" cy="4038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" y="762120"/>
            <a:ext cx="8458200" cy="16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ại mỗi bước, nếu nháy nú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hi chưa ở bước cuối cùng, biểu đồ có được tạo ra hay không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ú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ở mỗi bước có ý nghĩa như thế nào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5715000"/>
            <a:ext cx="1218960" cy="6858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5867280"/>
            <a:ext cx="1066680" cy="53352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B915-C84E-4134-BD3C-D4C205BC28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Chỉnh sửa biểu đồ</a:t>
            </a:r>
            <a:endParaRPr b="1" lang="en-US" sz="20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588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y đổi kiểu biểu đ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629400" cy="44197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18087-D860-4638-B480-0174172BA0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280880"/>
            <a:ext cx="822960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o chép biểu đồ vào văn bản Wor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752480"/>
            <a:ext cx="708660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áy chuột trên biểu đồ và nháy nút lện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ở văn bản Word và nháy nút lện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ên thanh công cụ của Wor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6094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Chỉnh sửa biểu đ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400B-87B9-485F-8BDA-9424D4F3B4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7315200" cy="4572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533520" y="1143000"/>
            <a:ext cx="3733560" cy="1371600"/>
          </a:xfrm>
          <a:prstGeom prst="cloudCallout">
            <a:avLst>
              <a:gd name="adj1" fmla="val -40689"/>
              <a:gd name="adj2" fmla="val 204745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ận xét về sự thay đổi giá trị sản xuất của từng ngành qua từng năm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3800" y="1143000"/>
            <a:ext cx="3776760" cy="1371600"/>
          </a:xfrm>
          <a:prstGeom prst="cloudCallout">
            <a:avLst>
              <a:gd name="adj1" fmla="val -40754"/>
              <a:gd name="adj2" fmla="val 205092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ùng biểu đồ dạng nào bây giờ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80880" y="4800600"/>
            <a:ext cx="781200" cy="88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A388-4616-45EC-889F-8D037553F6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4143240" cy="2800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4162320" cy="2819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057400" y="3581280"/>
            <a:ext cx="4572000" cy="2943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3733920" y="685800"/>
            <a:ext cx="4647960" cy="1981080"/>
          </a:xfrm>
          <a:prstGeom prst="cloudCallout">
            <a:avLst>
              <a:gd name="adj1" fmla="val -48907"/>
              <a:gd name="adj2" fmla="val 62500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ùng biểu đồ dạng nào bây giờ?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09480" y="612720"/>
            <a:ext cx="8001000" cy="540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8A63-8656-4295-9797-21EB66D381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2362320"/>
            <a:ext cx="698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TRẮC NGHIỆM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1144-BDF8-44B4-AD7C-A0C9A03B8C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19800" y="2387520"/>
            <a:ext cx="634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hải xoá biểu đồ cũ và thực hiện lại các thao tác tạo biểu đồ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067600" y="3429000"/>
            <a:ext cx="1076400" cy="29624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925560" y="375768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Hãy chọn câu trả lời đúng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8360" y="1917720"/>
            <a:ext cx="66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Nháy nút       trên thanh công cụ biểu đồ và chọn kiểu thích hợ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932120" y="1974960"/>
          <a:ext cx="431640" cy="21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32120" y="1974960"/>
                    <a:ext cx="43164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87480" y="28368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Nháy nút       trên thanh công cụ biểu đồ và chọn kiểu thích hợ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03320" y="3218040"/>
            <a:ext cx="72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áp án khá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2046240" y="2819520"/>
            <a:ext cx="380880" cy="333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36200" y="1154160"/>
            <a:ext cx="70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1: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uốn thay đổi kiểu biểu đồ đã được tạo ra, em có th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A100-7B2A-46D4-BF76-21CF421320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3460680" cy="17780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3520" y="1219320"/>
            <a:ext cx="79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2: Cho bảng thống kê sử dụng đất ở Việt Nam. Hãy chọn dạng biểu đồ thích hợp nhất để nhận xét tình hình sử dụng đất ở nước t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03520" y="271476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iểu đồ cộ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70040" y="3139920"/>
            <a:ext cx="43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iểu đồ đường gấp khú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03520" y="364320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iểu đồ hình trò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03520" y="407052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iểu đồ dạng khá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8067600" y="3429000"/>
            <a:ext cx="1076400" cy="296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DAE0-7886-4261-996D-248051D415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590920" y="205740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nh họa dữ liệu trực qu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2590920"/>
            <a:ext cx="37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ễ so sánh dữ liệ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3200400"/>
            <a:ext cx="35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ễ tính toán hơ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3852720"/>
            <a:ext cx="63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ễ dự đoán xu thế tăng hay giảm của dữ liệ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077320" y="3581280"/>
            <a:ext cx="1066680" cy="2962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3800" y="1219320"/>
            <a:ext cx="90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3: Mục đích của việc sử dụng biểu đồ là gì? Hãy chọn những đáp án đú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EB31-3B35-4570-8BBB-BEE47EEFE8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4460760"/>
            <a:ext cx="2666880" cy="2397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609480"/>
            <a:ext cx="4419720" cy="2438640"/>
          </a:xfrm>
          <a:prstGeom prst="cloudCallout">
            <a:avLst>
              <a:gd name="adj1" fmla="val -24638"/>
              <a:gd name="adj2" fmla="val 107032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 hãy quan sát bảng dữ liệu sau và đưa ra nhận xét so sánh số lượng học sinh giỏi của từng lớp trong khối 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91120" y="4267080"/>
            <a:ext cx="46987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ải mất một khoảng thời gian nhất định để so sánh và phân tích số liệu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ẽ khó khăn hơn nếu bảng tính nhiều hàng và cộ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191120" y="1981080"/>
            <a:ext cx="4647960" cy="2105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68F9-1DF1-48D0-B0A1-BF27BBEE97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703520" y="2209680"/>
            <a:ext cx="47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àng đầu tiên của bảng số liệ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70040" y="2635200"/>
            <a:ext cx="43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ột đầu tiên của bảng số liệ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30440" y="310824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oàn bộ dữ liệ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76520" y="3565440"/>
            <a:ext cx="72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hải chọn trước miền dữ liệu, không có ngầm địn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077320" y="3581280"/>
            <a:ext cx="1066680" cy="2962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906480" y="1117440"/>
            <a:ext cx="668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4: Khi vẽ biểu đồ, chương trình bảng tính ngầm định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ền dữ liệu để tạo biểu đồ là gì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4D8E-EE14-403F-BDFC-4EB3489B2A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118F-B78C-4CDF-B819-7134682BA2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4460760"/>
            <a:ext cx="2666880" cy="2397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838080"/>
            <a:ext cx="4648320" cy="2057400"/>
          </a:xfrm>
          <a:prstGeom prst="cloudCallout">
            <a:avLst>
              <a:gd name="adj1" fmla="val -20935"/>
              <a:gd name="adj2" fmla="val 127162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 hãy quan sát biểu đồ và đưa ra nhận xét so sánh số lượng học sinh giỏi của từng lớp trong khối 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85840" y="4876920"/>
            <a:ext cx="5257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ểu đồ là cách minh hoạ dữ liệu sinh động và trực qua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ễ so sánh dữ liệu hơn, dễ dự đoán xu thế tăng hay giảm của dữ liệu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038480" y="2362320"/>
            <a:ext cx="5105520" cy="2367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3F78-670B-451E-8758-21895ED214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4191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Một số loại biểu đồ </a:t>
            </a:r>
            <a:endParaRPr b="1" lang="en-US" sz="2000" spc="-1" strike="noStrike">
              <a:solidFill>
                <a:srgbClr val="ff6903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0880" y="1447920"/>
            <a:ext cx="2286000" cy="2361960"/>
            <a:chOff x="380880" y="1447920"/>
            <a:chExt cx="2286000" cy="2361960"/>
          </a:xfrm>
        </p:grpSpPr>
        <p:sp>
          <p:nvSpPr>
            <p:cNvPr id="100" name=""/>
            <p:cNvSpPr/>
            <p:nvPr/>
          </p:nvSpPr>
          <p:spPr>
            <a:xfrm>
              <a:off x="380880" y="1599840"/>
              <a:ext cx="2286000" cy="2209680"/>
            </a:xfrm>
            <a:custGeom>
              <a:avLst/>
              <a:gdLst/>
              <a:ahLst/>
              <a:rect l="l" t="t" r="r" b="b"/>
              <a:pathLst>
                <a:path w="1440" h="1392">
                  <a:moveTo>
                    <a:pt x="0" y="0"/>
                  </a:moveTo>
                  <a:lnTo>
                    <a:pt x="0" y="1392"/>
                  </a:lnTo>
                  <a:lnTo>
                    <a:pt x="1440" y="1392"/>
                  </a:ln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3520" y="2438280"/>
              <a:ext cx="304560" cy="1371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8080" y="1676160"/>
              <a:ext cx="304920" cy="21333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38360" y="1447920"/>
              <a:ext cx="304920" cy="2361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43280" y="2438280"/>
              <a:ext cx="304560" cy="13712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3000" y="2057040"/>
              <a:ext cx="304920" cy="175248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47840" y="2895480"/>
              <a:ext cx="304920" cy="91404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344760" y="1371600"/>
            <a:ext cx="2370240" cy="2438280"/>
            <a:chOff x="3344760" y="1371600"/>
            <a:chExt cx="2370240" cy="2438280"/>
          </a:xfrm>
        </p:grpSpPr>
        <p:sp>
          <p:nvSpPr>
            <p:cNvPr id="108" name=""/>
            <p:cNvSpPr/>
            <p:nvPr/>
          </p:nvSpPr>
          <p:spPr>
            <a:xfrm>
              <a:off x="3344760" y="1371600"/>
              <a:ext cx="2362320" cy="2438280"/>
            </a:xfrm>
            <a:custGeom>
              <a:avLst/>
              <a:gdLst/>
              <a:ahLst/>
              <a:rect l="l" t="t" r="r" b="b"/>
              <a:pathLst>
                <a:path w="1296" h="1536">
                  <a:moveTo>
                    <a:pt x="0" y="0"/>
                  </a:moveTo>
                  <a:lnTo>
                    <a:pt x="0" y="1536"/>
                  </a:lnTo>
                  <a:lnTo>
                    <a:pt x="1296" y="1536"/>
                  </a:ln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44760" y="1904760"/>
              <a:ext cx="2370240" cy="1066320"/>
            </a:xfrm>
            <a:custGeom>
              <a:avLst/>
              <a:gdLst/>
              <a:ahLst/>
              <a:rect l="l" t="t" r="r" b="b"/>
              <a:pathLst>
                <a:path w="1344" h="672">
                  <a:moveTo>
                    <a:pt x="0" y="672"/>
                  </a:moveTo>
                  <a:lnTo>
                    <a:pt x="432" y="0"/>
                  </a:lnTo>
                  <a:lnTo>
                    <a:pt x="960" y="336"/>
                  </a:lnTo>
                  <a:lnTo>
                    <a:pt x="1344" y="192"/>
                  </a:ln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44760" y="2971440"/>
              <a:ext cx="2370240" cy="380880"/>
            </a:xfrm>
            <a:custGeom>
              <a:avLst/>
              <a:gdLst/>
              <a:ahLst/>
              <a:rect l="l" t="t" r="r" b="b"/>
              <a:pathLst>
                <a:path w="1344" h="240">
                  <a:moveTo>
                    <a:pt x="0" y="240"/>
                  </a:moveTo>
                  <a:lnTo>
                    <a:pt x="288" y="192"/>
                  </a:lnTo>
                  <a:lnTo>
                    <a:pt x="576" y="240"/>
                  </a:lnTo>
                  <a:lnTo>
                    <a:pt x="720" y="96"/>
                  </a:lnTo>
                  <a:lnTo>
                    <a:pt x="1104" y="144"/>
                  </a:lnTo>
                  <a:lnTo>
                    <a:pt x="1344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4760" y="1904760"/>
              <a:ext cx="2286000" cy="1676160"/>
            </a:xfrm>
            <a:custGeom>
              <a:avLst/>
              <a:gdLst/>
              <a:ahLst/>
              <a:rect l="l" t="t" r="r" b="b"/>
              <a:pathLst>
                <a:path w="1296" h="1056">
                  <a:moveTo>
                    <a:pt x="0" y="288"/>
                  </a:moveTo>
                  <a:lnTo>
                    <a:pt x="528" y="1056"/>
                  </a:lnTo>
                  <a:lnTo>
                    <a:pt x="672" y="384"/>
                  </a:lnTo>
                  <a:lnTo>
                    <a:pt x="816" y="576"/>
                  </a:lnTo>
                  <a:lnTo>
                    <a:pt x="1296" y="0"/>
                  </a:lnTo>
                </a:path>
              </a:pathLst>
            </a:custGeom>
            <a:noFill/>
            <a:ln w="93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3809880" cy="2714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45760" y="40384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Verdana"/>
              </a:rPr>
              <a:t>Biểu đồ cộ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9000" y="40384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Verdana"/>
              </a:rPr>
              <a:t>Biểu đồ đường gấp khú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34440" y="403848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Verdana"/>
              </a:rPr>
              <a:t>Biểu đồ hình trò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480" y="4800600"/>
            <a:ext cx="2895480" cy="9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ùng để so sánh dữ liệu có trong nhiều cộ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ủa bảng dữ liệu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52080" y="4805280"/>
            <a:ext cx="27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ùng để so sánh dữ liệu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à dự đoán xu thế tă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y giảm của dữ liệu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080" y="4729320"/>
            <a:ext cx="255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ùng để mô tả tỷ lệ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ủa từng dữ liệu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với tổng các dữ liệu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6BF4B-5149-4DBB-853A-F484C3E976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5943600" cy="3573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362320" y="2906640"/>
            <a:ext cx="4419360" cy="3505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ạo biểu đồ</a:t>
            </a:r>
            <a:endParaRPr b="1" lang="en-US" sz="20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Để tạo một biểu đồ, em thực hiện các thao tác sau đây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ọn một ô trong bảng dữ liệu cần vẽ biểu đồ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áy nú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t Wizard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ên thanh công cụ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áy liên tiếp nú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ên các hộp thoại và nháy nú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ên hộp thoại cuối cùng (khi nú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ị mờ đi). Kết quả được biểu đồ sau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529080" y="1706400"/>
            <a:ext cx="380880" cy="333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514600" y="3614760"/>
            <a:ext cx="4152960" cy="2438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B8011-CDC3-4B72-845A-B272CD4475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Bước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Chọn dạng biểu đ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172200" cy="4281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0880" y="609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ạo biểu đ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E139-A25B-4380-ABDC-6DDE70217C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952560" cy="971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819520" y="609480"/>
            <a:ext cx="5257800" cy="1981440"/>
          </a:xfrm>
          <a:prstGeom prst="cloudCallout">
            <a:avLst>
              <a:gd name="adj1" fmla="val -85115"/>
              <a:gd name="adj2" fmla="val 56569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ạng biểu đồ nào là thích hợp nhất để giúp cô Hoa đưa ra nhận xét dễ dàng và nhanh nhất? Tại sao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3657600"/>
          <a:ext cx="297180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657600"/>
                    <a:ext cx="2971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276720" y="3657600"/>
          <a:ext cx="2971800" cy="1752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3657600"/>
                    <a:ext cx="2971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388200" y="3657600"/>
          <a:ext cx="2666880" cy="1752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88200" y="3657600"/>
                    <a:ext cx="26668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AA36-F643-4520-8A60-FC5C5C760D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18692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Bước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Xác định miền dữ liệu để vẽ biểu đ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81080" y="2224080"/>
            <a:ext cx="5639040" cy="3753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880" y="609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ạo biểu đ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AFBF-22D2-400E-A7B0-A240868488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5084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Bước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ác thông tin giải thích biểu đ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172200" cy="33958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2997360" y="2895480"/>
            <a:ext cx="1692000" cy="2979360"/>
            <a:chOff x="2997360" y="2895480"/>
            <a:chExt cx="1692000" cy="2979360"/>
          </a:xfrm>
        </p:grpSpPr>
        <p:sp>
          <p:nvSpPr>
            <p:cNvPr id="142" name=""/>
            <p:cNvSpPr/>
            <p:nvPr/>
          </p:nvSpPr>
          <p:spPr>
            <a:xfrm>
              <a:off x="3733920" y="2895480"/>
              <a:ext cx="0" cy="2438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97360" y="5232240"/>
              <a:ext cx="16920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ển thị hay ẩn các trục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962520" y="2895480"/>
            <a:ext cx="1539720" cy="2014200"/>
            <a:chOff x="3962520" y="2895480"/>
            <a:chExt cx="1539720" cy="2014200"/>
          </a:xfrm>
        </p:grpSpPr>
        <p:sp>
          <p:nvSpPr>
            <p:cNvPr id="145" name=""/>
            <p:cNvSpPr/>
            <p:nvPr/>
          </p:nvSpPr>
          <p:spPr>
            <a:xfrm>
              <a:off x="3962520" y="4267080"/>
              <a:ext cx="15397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ển thị các đường lưới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19720" y="2895480"/>
              <a:ext cx="228600" cy="1371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876920" y="2895480"/>
            <a:ext cx="4216320" cy="1983960"/>
            <a:chOff x="4876920" y="2895480"/>
            <a:chExt cx="4216320" cy="1983960"/>
          </a:xfrm>
        </p:grpSpPr>
        <p:sp>
          <p:nvSpPr>
            <p:cNvPr id="148" name=""/>
            <p:cNvSpPr/>
            <p:nvPr/>
          </p:nvSpPr>
          <p:spPr>
            <a:xfrm>
              <a:off x="5816520" y="3962520"/>
              <a:ext cx="327672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ển thị hay ẩn chú thích;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ọn các vị trí thích hợp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o chú thí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6920" y="2895480"/>
              <a:ext cx="1828800" cy="1143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80880" y="609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ạo biểu đ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605E-AA9E-4ABF-B6F9-C1F39E4DA0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8:13:17Z</dcterms:created>
  <dc:creator>hangnguyen</dc:creator>
  <dc:description/>
  <dc:language>en-US</dc:language>
  <cp:lastModifiedBy>pham thanh nam</cp:lastModifiedBy>
  <dcterms:modified xsi:type="dcterms:W3CDTF">2007-08-23T07:03:05Z</dcterms:modified>
  <cp:revision>98</cp:revision>
  <dc:subject/>
  <dc:title>Bài 7. Trình bày và in trang tính</dc:title>
</cp:coreProperties>
</file>