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65A4-410B-49CD-9B7F-6A7D5627D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D41C-8B34-4583-9416-C0BA3C514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22A7-664B-48F5-988A-8A382C71F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1CEE-2D6A-407D-96CB-213467AC9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B104C-9EF7-4BAC-A6F0-CBC14B8434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92426-F9AE-44DD-9FAE-85B0716893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ADEAA-54C1-44C4-B18E-118F7CE61E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022B-3801-4164-9F74-6B155339E6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E675E-32A9-4CE5-94B7-6734322D89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27DA4-4929-4539-AAF9-B985FB8541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5D7D1-1C40-4D3A-A5AC-C066DDED27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E3AA-40FE-4001-9FFA-192A066F8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18635-E17A-4914-AEF7-3371C05B24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2CE23-CC26-4297-9D87-24BFF850D3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04AE5-7347-49F9-B710-7992E86305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BAFD-B19F-48D8-A32F-65E2959585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F2811-8D41-4D4F-B227-F34B060C68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A07A-557B-4C23-9643-78B1B62BA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CE08-DAD8-448D-8283-801F7999D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97103-EE4E-4E45-9F77-FB290D099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1A48-5F8C-476E-BABD-9A96E0776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D9E7-6B1F-4B1A-ABF0-17C49330B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A257-1BAF-44F0-866B-7918C03E3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2316-B998-4E95-82E5-A8575F0CB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ài 4. Sử dụng các hàm để tính toá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37720" y="6553080"/>
            <a:ext cx="8305560" cy="304920"/>
            <a:chOff x="837720" y="6553080"/>
            <a:chExt cx="8305560" cy="304920"/>
          </a:xfrm>
        </p:grpSpPr>
        <p:sp>
          <p:nvSpPr>
            <p:cNvPr id="2" name=""/>
            <p:cNvSpPr/>
            <p:nvPr/>
          </p:nvSpPr>
          <p:spPr>
            <a:xfrm>
              <a:off x="1265760" y="6553080"/>
              <a:ext cx="7877520" cy="3031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837360" y="6553080"/>
              <a:ext cx="442440" cy="3049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E1CD-552A-4996-A932-3F4817C0CC0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5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6BDB-5ED9-45D0-BEDD-B67577F7B17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ử dụng các hàm để tính toá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1295280"/>
            <a:ext cx="220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Bài 4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0CFDB-A96E-43B3-BEDD-B2ABE098E6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38080" y="865080"/>
            <a:ext cx="7162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Hàm tính tổng: S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1828800"/>
          <a:ext cx="777240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772400" cy="386712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6477120" y="3200400"/>
            <a:ext cx="2361960" cy="914400"/>
          </a:xfrm>
          <a:prstGeom prst="wedgeRectCallout">
            <a:avLst>
              <a:gd name="adj1" fmla="val -20967"/>
              <a:gd name="adj2" fmla="val 166666"/>
            </a:avLst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rường hợp các biến a, b, c là địa chỉ các ô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380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Giới thiệu một số hàm cơ bả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F4981-504B-426C-959E-8C08E17461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1143000"/>
            <a:ext cx="2514600" cy="2590920"/>
            <a:chOff x="0" y="1143000"/>
            <a:chExt cx="2514600" cy="25909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457200" y="1143000"/>
              <a:ext cx="17524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2971800"/>
              <a:ext cx="2514600" cy="76212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705720" y="1219320"/>
            <a:ext cx="2438280" cy="2666880"/>
            <a:chOff x="6705720" y="1219320"/>
            <a:chExt cx="2438280" cy="2666880"/>
          </a:xfrm>
        </p:grpSpPr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7010280" y="1219320"/>
              <a:ext cx="175284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705720" y="2819520"/>
              <a:ext cx="2438280" cy="106668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219320" y="45720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ến là một đại lượng mà giá trị có thể thay đổi đượ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1371600"/>
            <a:ext cx="3886200" cy="2253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=SUM(a,b,c…)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ới a,b,c… là các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biế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=E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=225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= giá trị bất kì nào đ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Giới thiệu một số hàm cơ bả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6E747-9E17-4747-BEDB-927BCB3740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1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b. Hàm tính trung bình cộng : A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àm AVERAGE được nhập vào ô tính như sa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=AVERAGE(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c,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..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ong đó các biến 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... là các số hay địa chỉ của các ô cần tính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Ví dụ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=AVERAGE(3,7,20)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ương đương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=(3+7+20)/3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4572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Giới thiệu một số hàm cơ bả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F7C3-8C69-40C3-8A3E-F87A4159C1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990720"/>
            <a:ext cx="7924680" cy="25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b. Hàm xác định giá trị lớn nhất : MA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Hàm xác định giá trị nhỏ nhất: M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àm MAX được nhập vào ô tính như sa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=MAX(a,b,c,..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àm MIN được nhập vào ô tính như sa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=MIN(a,b,c,..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ong đó các biến a, b, c,... là các số hay địa chỉ của các ô tín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38080" y="1981080"/>
          <a:ext cx="77724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772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095880" y="457200"/>
            <a:ext cx="3276720" cy="2209680"/>
          </a:xfrm>
          <a:prstGeom prst="cloudCallout">
            <a:avLst>
              <a:gd name="adj1" fmla="val -15699"/>
              <a:gd name="adj2" fmla="val 47990"/>
            </a:avLst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i phí thức ăn mỗi ngày cho loài vật nào là nhiều nhất/ ít nhất đây??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572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Giới thiệu một số hàm cơ bả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3C0AC-0EBC-4330-923F-BA31B43338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0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3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6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9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696440" cy="4800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781680" y="5334120"/>
            <a:ext cx="1752840" cy="34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3200400" y="1295280"/>
            <a:ext cx="1371600" cy="236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781680" y="5710320"/>
            <a:ext cx="1752840" cy="34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200400" y="1295280"/>
            <a:ext cx="1371600" cy="304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8600" y="380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Giới thiệu một số hàm cơ bả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81C5-C037-4623-AD0C-F08F76928F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22860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RẮC NGHIỆ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83210-8B66-41B0-89C8-D0219092E2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6248160" cy="2611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438280" y="38862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Average(C4:F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4309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average(C4,D4,E4,F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71760" y="4767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AveRagE(8,D4:F5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848720" y="3733920"/>
            <a:ext cx="1076040" cy="2962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438280" y="5238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AVERAGE(C4,7,E4:F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âu 1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Để tính điểm tổng kết ở ô G4, thì cách nhập hàm nào sau đây là không đúng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5DB9-FB98-4294-B4F8-3186BA44875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248520" cy="2469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908000" y="472428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average(c4,c4,c4,d4,d4,e4,f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4267080"/>
            <a:ext cx="39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average(8,8,8,7,7,8,8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17720" y="3821040"/>
            <a:ext cx="37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average(c4*3,d4*2,e4,e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848720" y="3733920"/>
            <a:ext cx="1076040" cy="2962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895400" y="518148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average(c4,c4,c4,d4,d4:f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âu 2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Nếu môn Toán được tính hệ số 3, môn văn tính hệ số 2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ông thức nào sau đây cho kết quả sai tại ô G4?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24C0-7F4D-4780-A554-2F02BF259B3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1209600" y="952560"/>
            <a:ext cx="5105520" cy="2362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803240" y="4327560"/>
            <a:ext cx="39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sum(A1:C3)                 </a:t>
            </a:r>
            <a:r>
              <a:rPr b="0" lang="fr-FR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 24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440" y="39704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sum(A1,C3)                 </a:t>
            </a:r>
            <a:r>
              <a:rPr b="0" lang="fr-FR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 2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06480" y="3578400"/>
            <a:ext cx="35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sum(A1,C3)                 </a:t>
            </a:r>
            <a:r>
              <a:rPr b="0" lang="fr-FR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 0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848720" y="3733920"/>
            <a:ext cx="1076040" cy="2962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792440" y="478476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sum(A1,A3,B2,C1,C3) </a:t>
            </a:r>
            <a:r>
              <a:rPr b="0" lang="fr-FR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 0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âu 3: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họn công thức và kết quả đúng nếu tính tổng của khối A1:C3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1447920"/>
            <a:ext cx="3200400" cy="1143000"/>
          </a:xfrm>
          <a:prstGeom prst="rect">
            <a:avLst/>
          </a:prstGeom>
          <a:noFill/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>
            <a:lum bright="-4000"/>
          </a:blip>
          <a:stretch/>
        </p:blipFill>
        <p:spPr>
          <a:xfrm>
            <a:off x="1209600" y="1219320"/>
            <a:ext cx="5105520" cy="1998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447920" y="1887480"/>
            <a:ext cx="3200400" cy="1143000"/>
          </a:xfrm>
          <a:prstGeom prst="rect">
            <a:avLst/>
          </a:prstGeom>
          <a:noFill/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>
            <a:lum bright="-4000"/>
          </a:blip>
          <a:stretch/>
        </p:blipFill>
        <p:spPr>
          <a:xfrm>
            <a:off x="1209600" y="966960"/>
            <a:ext cx="5181840" cy="2396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447920" y="1523880"/>
            <a:ext cx="3200400" cy="1143000"/>
          </a:xfrm>
          <a:prstGeom prst="rect">
            <a:avLst/>
          </a:prstGeom>
          <a:noFill/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>
            <a:lum bright="-4000"/>
          </a:blip>
          <a:stretch/>
        </p:blipFill>
        <p:spPr>
          <a:xfrm>
            <a:off x="1219320" y="990720"/>
            <a:ext cx="5105160" cy="2360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609560" y="1514520"/>
            <a:ext cx="2819520" cy="1066680"/>
          </a:xfrm>
          <a:prstGeom prst="rect">
            <a:avLst/>
          </a:prstGeom>
          <a:noFill/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85C9-69E8-45E4-AE87-06FC1F81B4C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1209600" y="1447920"/>
            <a:ext cx="4953240" cy="2290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860480" y="4334040"/>
            <a:ext cx="46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=average(SUM(A1:B3)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25640" y="472284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sum(A1:B3)/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393696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average(A1,A3,B2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848720" y="3733920"/>
            <a:ext cx="1076040" cy="2962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938240" y="5133960"/>
            <a:ext cx="44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sum(-5,8,10)/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âu 4: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ông thức nào cho kết quả sai khi tính trung bình cộng của tất cả các giá trị trong khối A1:B3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5527-6C48-4B3A-B8B1-2C349CC1A86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4570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Hàm trong chương trình bảng tính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457200"/>
            <a:ext cx="3581280" cy="1295280"/>
          </a:xfrm>
          <a:prstGeom prst="cloudCallout">
            <a:avLst>
              <a:gd name="adj1" fmla="val -8819"/>
              <a:gd name="adj2" fmla="val 271935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ính điểm tổng kết bằng cách nào đây??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0B7A-206B-4446-ACED-1815F5F1AD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4100-2E20-471C-A25F-F4242AD815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8080" y="1219320"/>
            <a:ext cx="830592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àm là một số công thức được định nghĩa từ trướ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àm được sử dụng để thực hiện tính toán theo công thức với các giá trị dữ liệu cụ thể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2819520"/>
            <a:ext cx="3657600" cy="1789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ử dụng công thứ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=(8.7+8.6+7.9+8.8)/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oặ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=(G4+G5+G6+G7)/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2819520"/>
            <a:ext cx="3962520" cy="1789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Sử dụng hàm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=AVERAGE(8.7,8.6,7.9,8.8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Hoặ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=AVERAGE(G4,G5,G6,G7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45720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Hàm trong chương trình bảng tín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24C9-7009-47FA-A1B7-024E7837AC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. Cách sử dụng hàm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9907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hập hàm như một công thứ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543800" cy="4362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48880" y="1600200"/>
            <a:ext cx="22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1. Chọn ô cần nhập hà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1905120"/>
            <a:ext cx="0" cy="14475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3000" y="160020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2. Gõ dấu =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743200" y="1905120"/>
            <a:ext cx="1447920" cy="14475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35320" y="322272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40800" y="268128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04680" y="16002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3. Nhập hàm theo đúng cú pháp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819520" y="1828800"/>
            <a:ext cx="2743200" cy="16002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40160" y="2619360"/>
            <a:ext cx="170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VERAGE(2,6,7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33600" y="324792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AVERAGE(2,6,7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5120" y="320040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4. Nhấn Ent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429000" y="3352680"/>
            <a:ext cx="56520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5800" y="1971720"/>
            <a:ext cx="7543800" cy="43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97B8-2072-48C0-B985-F20CC4F36F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8153640" cy="5029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352680" y="4876920"/>
            <a:ext cx="251460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04231"/>
              <a:gd name="adj5" fmla="val -157083"/>
              <a:gd name="adj6" fmla="val 105555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AVERAGE(G3:G11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2133720"/>
            <a:ext cx="1218960" cy="18288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724280"/>
            <a:ext cx="601992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(G3+G4+G5+G6+G7+G8+G9+G10+G11)/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oặc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AVERAGE(G3,G4,G5,G6,G7,G8,G9,G10,G11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95280"/>
            <a:ext cx="6705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. Cách sử dụng hà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C9A3-83E2-4F38-97B5-88D0AE1F22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4495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Giới thiệu một số hàm cơ bả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a. Hàm tính tổng: S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àm SUM được nhập vào ô tính như sa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=SUM(a,b,c...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ác biến 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... đặt cách nhau bởi dấu “phẩy” là các số hay địa chỉ của các ô tính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ố lượng các biến là không hạn ch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Ví dụ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ổng ba số 15, 24, 45 có thể được tính bằng cách nhập nội dung sau vào ô tính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=SUM(15,24,45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o kết quả 8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52A6-2814-4550-8BF5-C7AA6A67A6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066680" y="2057400"/>
          <a:ext cx="77724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772400" cy="373392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838080" y="865080"/>
            <a:ext cx="7162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Hàm tính tổng: S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3809880"/>
            <a:ext cx="2666880" cy="990720"/>
          </a:xfrm>
          <a:prstGeom prst="wedgeRectCallout">
            <a:avLst>
              <a:gd name="adj1" fmla="val 45296"/>
              <a:gd name="adj2" fmla="val 105287"/>
            </a:avLst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hập công thức tính tổng chi phí thức ăn vào ô E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380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Giới thiệu một số hàm cơ bả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BB3F-FE45-4AC8-8702-FFD4616B43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990720" y="2057400"/>
          <a:ext cx="77724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7772400" cy="373392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838080" y="865080"/>
            <a:ext cx="7162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Hàm tính tổng: S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3276720"/>
            <a:ext cx="2666880" cy="914400"/>
          </a:xfrm>
          <a:prstGeom prst="wedgeRectCallout">
            <a:avLst>
              <a:gd name="adj1" fmla="val -55712"/>
              <a:gd name="adj2" fmla="val 125000"/>
            </a:avLst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rường hợp các biến a, b, c là s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4572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Giới thiệu một số hàm cơ bả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F17D-ADA8-4C82-B8FA-B6A5473013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8080" y="865080"/>
            <a:ext cx="7162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Hàm tính tổng: S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066680" y="1905120"/>
          <a:ext cx="77454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7745400" cy="373356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5943600" y="3276720"/>
            <a:ext cx="2666880" cy="914400"/>
          </a:xfrm>
          <a:prstGeom prst="wedgeRectCallout">
            <a:avLst>
              <a:gd name="adj1" fmla="val -55712"/>
              <a:gd name="adj2" fmla="val 125000"/>
            </a:avLst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rường hợp các biến a, b, c là địa chỉ các ô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380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Giới thiệu một số hàm cơ bả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C5B3-5668-4DD9-B18B-80CC943E67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5:59:00Z</dcterms:created>
  <dc:creator>Trung</dc:creator>
  <dc:description/>
  <dc:language>en-US</dc:language>
  <cp:lastModifiedBy>pham thanh nam</cp:lastModifiedBy>
  <dcterms:modified xsi:type="dcterms:W3CDTF">2007-08-23T06:50:49Z</dcterms:modified>
  <cp:revision>405</cp:revision>
  <dc:subject/>
  <dc:title>Sử dụng các hàm để tính toán</dc:title>
</cp:coreProperties>
</file>