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6D78-ED5B-4988-B744-059C6E0D6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E172-FB93-45B8-902C-10A36E25C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4346-D578-42E1-9D53-18376BFCF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612E-74C9-44A3-8A18-836D76AB0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1397-4F44-4E2D-A3FF-CF5FFD2554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BFFB-7780-47C4-AC7D-208C287FE1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E3A0-EF16-47F4-B16C-675507533E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E3C9-66BA-43EB-8B7E-2AFC8B8769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996C-6519-4441-882D-6D4FB7C69D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A709-F5CE-4FE5-80AF-EA7B5CBB63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32D6-13DD-406C-94C2-BF646ECEC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1A90-6869-4B68-A1D9-9D57307CF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9452-B5EF-4955-AFE8-C7719697E3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3D81-7464-4ADD-A868-A14B9D0E64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30E9-9D13-4774-8F00-F765CDDD05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DB1C-3383-493A-BE38-0925382045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7C26-EB2E-47CF-B368-DEE170C91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114E-5CC8-4704-BCD9-9D4E52E7A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2129-208A-44DB-B854-31205148F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8782-A061-4078-809F-686588009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BBA1-8273-41FD-90CE-189EBCBE3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8CB7-FBF4-47BD-9427-88683D46A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793A-099E-4568-AA1E-388A2F789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A8B6-59BD-4922-8B91-A4F7CF256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ài 5. Thao tác với bảng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2120" y="6553080"/>
            <a:ext cx="8381520" cy="304920"/>
            <a:chOff x="762120" y="6553080"/>
            <a:chExt cx="8381520" cy="304920"/>
          </a:xfrm>
        </p:grpSpPr>
        <p:sp>
          <p:nvSpPr>
            <p:cNvPr id="2" name=""/>
            <p:cNvSpPr/>
            <p:nvPr/>
          </p:nvSpPr>
          <p:spPr>
            <a:xfrm>
              <a:off x="1193760" y="6553080"/>
              <a:ext cx="794988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62120" y="6553080"/>
              <a:ext cx="44640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83E-49DA-45C9-B9AF-3EBE13FF66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1D5-2030-45F0-89EC-7ABA7BE3AE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9807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ao tác với bảng tín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ài 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6562-53ED-4F7E-B3C4-D9A5260562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3880" y="990720"/>
            <a:ext cx="8153280" cy="5225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029200" y="380880"/>
            <a:ext cx="3657600" cy="1981440"/>
          </a:xfrm>
          <a:prstGeom prst="cloudCallout">
            <a:avLst>
              <a:gd name="adj1" fmla="val -85458"/>
              <a:gd name="adj2" fmla="val 66425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ại sao khi sao chép khối F12:F15 vào ô B3 thì lại ra kết quả thế này cơ chứ??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5F9A-3BA2-4E6A-9A36-4A2681A0F1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Sao chép và di chuyển công thứ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219320"/>
            <a:ext cx="8839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b) Di chuyển dữ liệu và công thứ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di chuyển nội dung các ô có chứa địa chỉ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ác địa chỉ trong công thức không bị điều chỉnh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công thức được sao chép y nguyên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343400" cy="3198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152960" cy="3201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600200" y="2666880"/>
            <a:ext cx="1066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2666880"/>
            <a:ext cx="1066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74320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666880"/>
            <a:ext cx="6094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A3D7-7C16-4739-9224-57F30CCC8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36640" y="237816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RẮC NGHIỆ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C330-47DF-47B7-AA4E-91AC8C2A0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82296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ọn cụm từ thích hợp nhất để điền vào dấu ba chấm trong câu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sao chép một ô có nội dung là công thức chứa địa chỉ, các địa chỉ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…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47720" y="198108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ông bị điều chỉnh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4600" y="24922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ợc điều chỉnh để giữ nguyên quan hệ tương đối về vị trí so với ô đích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47720" y="336240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ợc điều chỉnh để giữ nguyên vị trí so với ô đích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8360" y="3840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ợc điều chỉnh để giữ nguyên quan hệ tương đối về vị trí so với ô được sao ché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6123-945D-46A8-809B-A82748ED3E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747040" cy="160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5697720" cy="15811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533520" y="533520"/>
            <a:ext cx="79722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2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o ô A3,C3,E3 lần lượt có các giá trị sau: 39,60,100. Ô B4 được tính bằng công thức =C3-A3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ếu sao chép ô B4 sang ô D4 thì ô D4 có giá trị là bao nhiêu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102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95800" y="437832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95800" y="466236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757C-45FB-40FC-80A8-8D555FC73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609480"/>
            <a:ext cx="762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3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uốn sửa dữ liệu trong một ô tính mà không cần nhập lại, em phải thực hiện thao tác gì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6280" y="1752480"/>
            <a:ext cx="55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) Nháy trên ô tính và sửa dữ liệu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0040" y="2225520"/>
            <a:ext cx="71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) Nháy trên thanh công thức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76084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) Nháy đúp trên ô tính và sửa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3309840"/>
            <a:ext cx="68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) Cả đáp án b và 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6CE8-0989-4AAB-B9F1-BC324D959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6000" cy="1541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533520" y="6094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4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o bảng số liệu trên. Ô E4 được tính bằng công thức =SUM(B4:D4). Nếu di chuyển ô E4 sang ô F5 thì công thức ở ô F5 là gì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320040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5:D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32240" y="3657600"/>
            <a:ext cx="30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4:D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65360" y="412920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4:E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65360" y="45561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5:E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797800" cy="1536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3B32-2F68-4F50-8093-926D1258F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003F-E901-428F-82BE-B6D034F799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9144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ếu trong một ô tính có các kí hiệu #####, điều đó có nghĩa gì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8288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) Công thức nhập sai và Excel thông báo lỗi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438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) Hàng chứa ô đó có độ cao quá thấp nên không hiển thị hết chữ số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9718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) Cột chứa ô đó có độ rộng quá hẹp nên không hiển thị hết chữ số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5053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) Hoặc b hoặc c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1447920"/>
            <a:ext cx="4267440" cy="2895480"/>
          </a:xfrm>
          <a:prstGeom prst="wedgeEllipseCallout">
            <a:avLst>
              <a:gd name="adj1" fmla="val -70611"/>
              <a:gd name="adj2" fmla="val 60745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Phải điều chỉnh độ rộng của cột cho phù hợp để có thể hiển thị hết chữ số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190512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03ED-E9C1-48D7-8312-6D96F2DC55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8388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Điều chỉnh độ rộng cộ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a con trỏ vào vạch ngăn cách hai cộ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éo thả sang phải để mở rộng hay sang trái để thu hẹp độ rộng cộ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ay đổi độ cao của các 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a con trỏ vào vạch ngăn cách hai hàng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éo thả xuống dưới để mở rộng hay lên trên để thu hẹp độ cao hà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Nháy đúp chu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rên vạch phân cách cột hoặc hàng sẽ điều chỉnh độ rộng cột, độ cao hàng vừa khít với dữ liệu có trong cột và hàng đó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808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Điều chỉnh độ rộng cột, độ cao hà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048120"/>
            <a:ext cx="4114800" cy="3055680"/>
            <a:chOff x="152280" y="3048120"/>
            <a:chExt cx="4114800" cy="30556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52280" y="3132000"/>
              <a:ext cx="4114800" cy="297180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3537000" y="3048120"/>
              <a:ext cx="379080" cy="318960"/>
              <a:chOff x="3537000" y="3048120"/>
              <a:chExt cx="379080" cy="318960"/>
            </a:xfrm>
          </p:grpSpPr>
          <p:sp>
            <p:nvSpPr>
              <p:cNvPr id="103" name=""/>
              <p:cNvSpPr/>
              <p:nvPr/>
            </p:nvSpPr>
            <p:spPr>
              <a:xfrm>
                <a:off x="3708360" y="3048120"/>
                <a:ext cx="18000" cy="318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37000" y="3210120"/>
                <a:ext cx="3790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5181480" y="2971800"/>
            <a:ext cx="3733560" cy="3103560"/>
            <a:chOff x="5181480" y="2971800"/>
            <a:chExt cx="3733560" cy="310356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181480" y="3103560"/>
              <a:ext cx="3733560" cy="297180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8296200" y="2971800"/>
              <a:ext cx="378720" cy="318960"/>
              <a:chOff x="8296200" y="2971800"/>
              <a:chExt cx="378720" cy="318960"/>
            </a:xfrm>
          </p:grpSpPr>
          <p:sp>
            <p:nvSpPr>
              <p:cNvPr id="108" name=""/>
              <p:cNvSpPr/>
              <p:nvPr/>
            </p:nvSpPr>
            <p:spPr>
              <a:xfrm>
                <a:off x="8467560" y="2971800"/>
                <a:ext cx="18000" cy="318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296200" y="3133800"/>
                <a:ext cx="378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BC1F-AE65-452A-9C3F-099D11807D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6324480" cy="4344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28600" y="45720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Điều chỉnh độ rộng cột, độ cao hà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838080"/>
            <a:ext cx="3200400" cy="1981440"/>
            <a:chOff x="3809880" y="838080"/>
            <a:chExt cx="3200400" cy="1981440"/>
          </a:xfrm>
        </p:grpSpPr>
        <p:sp>
          <p:nvSpPr>
            <p:cNvPr id="113" name=""/>
            <p:cNvSpPr/>
            <p:nvPr/>
          </p:nvSpPr>
          <p:spPr>
            <a:xfrm>
              <a:off x="3809880" y="838080"/>
              <a:ext cx="2362320" cy="533520"/>
            </a:xfrm>
            <a:prstGeom prst="borderCallout2">
              <a:avLst>
                <a:gd name="adj1" fmla="val 18750"/>
                <a:gd name="adj2" fmla="val -8333"/>
                <a:gd name="adj3" fmla="val 21430"/>
                <a:gd name="adj4" fmla="val -21037"/>
                <a:gd name="adj5" fmla="val 285712"/>
                <a:gd name="adj6" fmla="val -39513"/>
              </a:avLst>
            </a:prstGeom>
            <a:solidFill>
              <a:srgbClr val="ffff99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Mở rộng cộ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29440" y="9907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990720"/>
              <a:ext cx="15228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4920" y="3429000"/>
            <a:ext cx="2743200" cy="3048120"/>
            <a:chOff x="304920" y="3429000"/>
            <a:chExt cx="2743200" cy="3048120"/>
          </a:xfrm>
        </p:grpSpPr>
        <p:sp>
          <p:nvSpPr>
            <p:cNvPr id="117" name=""/>
            <p:cNvSpPr/>
            <p:nvPr/>
          </p:nvSpPr>
          <p:spPr>
            <a:xfrm>
              <a:off x="304920" y="5943600"/>
              <a:ext cx="2361960" cy="533520"/>
            </a:xfrm>
            <a:prstGeom prst="borderCallout2">
              <a:avLst>
                <a:gd name="adj1" fmla="val 18750"/>
                <a:gd name="adj2" fmla="val -8333"/>
                <a:gd name="adj3" fmla="val 21430"/>
                <a:gd name="adj4" fmla="val 121907"/>
                <a:gd name="adj5" fmla="val -187203"/>
                <a:gd name="adj6" fmla="val 140995"/>
              </a:avLst>
            </a:prstGeom>
            <a:solidFill>
              <a:srgbClr val="00ffff"/>
            </a:solidFill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Thu hẹp hàng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066680" y="4419360"/>
              <a:ext cx="0" cy="152388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66680" y="3429000"/>
              <a:ext cx="1981440" cy="99072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5120" y="1433520"/>
            <a:ext cx="6553080" cy="4343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5E55-F895-418C-B8A8-90821F47D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hèn thêm hoặc xoá cột và hàng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822240"/>
            <a:ext cx="84582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) Chèn thêm mộ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1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ở bảng chọn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à chọ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um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Row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ộ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 trố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trố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sẽ được chèn và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ên trái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bên trê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được chọ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ếu chọn trước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hiề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ột ha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hiề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hàng, số cột hoặc số hàng mới được chèn thêm sẽ đúng bằng số cột hay số hàng em đã chọ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105520" cy="3733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5181840" cy="3519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38440" y="3841920"/>
            <a:ext cx="5181480" cy="2482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5709-CB19-40E5-BA58-6249C2E77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411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5029200" y="609480"/>
            <a:ext cx="2819520" cy="1067040"/>
          </a:xfrm>
          <a:prstGeom prst="wedgeRoundRectCallout">
            <a:avLst>
              <a:gd name="adj1" fmla="val -141833"/>
              <a:gd name="adj2" fmla="val 142263"/>
              <a:gd name="adj3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ớ muốn xoá hàng trống này thì phải làm thế nà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24D6-25B2-4400-BD5F-941BA0564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914400"/>
            <a:ext cx="84582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) Xoá mộ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một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dit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Dele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xoá cột hay hàng, các cột bên phải được đẩy sang trái, các hàng phía dưới được đẩy lên trê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ếu chỉ nhấn phím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hì chỉ dữ liệu trong các ô trên cột/hàng đó bị xoá, còn bản thân cột/hàng thì khô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2467080"/>
            <a:ext cx="5638680" cy="32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76520" y="2427120"/>
            <a:ext cx="5638680" cy="3668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690560" y="3798720"/>
            <a:ext cx="5624640" cy="2240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5720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hèn thêm hoặc xoá cột và hà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14AC-6A8E-437E-9E45-2EC850371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3276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029200" y="685800"/>
            <a:ext cx="2819520" cy="14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1705"/>
                </a:moveTo>
                <a:lnTo>
                  <a:pt x="26453" y="1705"/>
                </a:lnTo>
                <a:lnTo>
                  <a:pt x="26453" y="35124"/>
                </a:lnTo>
                <a:lnTo>
                  <a:pt x="19934" y="42821"/>
                </a:lnTo>
              </a:path>
              <a:path w="21600" h="21600">
                <a:moveTo>
                  <a:pt x="22184" y="0"/>
                </a:moveTo>
                <a:lnTo>
                  <a:pt x="22184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12:E12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=SUM(B13:E1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=SUM(B14:E1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15:E1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572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Sao chép công thứ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49568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Vị trí tương đố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ủa khối ô B12:E12 đối với ô F12 trong công thức đầu tiên giống như vị trí tương đối của khối ô B13:E13 đối với ô F13 trong công thức 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ó thể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sao ché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ội dung ô F12 sang ô F1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664240"/>
            <a:ext cx="68580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4781-88CA-4686-BEA3-EA19EC894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4572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Sao chép và di chuyển công thứ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839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a) Sao chép dữ liệu và công thứ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họn ô hoặc các ô có thông tin muốn sao ché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Copy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trên thanh công cụ (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Ctrl+C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muốn đưa thông tin được sao chép và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ast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ên thanh công cụ hoặc (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trl+V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sao chép một ô có nội dung là công thức chứa địa chỉ, các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địa chỉ được điều chỉnh để giữ nguyên quan hệ tương đối về vị trí so với ô đíc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16AC-2AF1-4343-BD12-269347AF32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5:59:00Z</dcterms:created>
  <dc:creator>Trung</dc:creator>
  <dc:description/>
  <dc:language>en-US</dc:language>
  <cp:lastModifiedBy>thuy</cp:lastModifiedBy>
  <dcterms:modified xsi:type="dcterms:W3CDTF">2007-08-24T04:38:53Z</dcterms:modified>
  <cp:revision>421</cp:revision>
  <dc:subject/>
  <dc:title>Sử dụng các hàm để tính toán</dc:title>
</cp:coreProperties>
</file>