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2.png" ContentType="image/png"/>
  <Override PartName="/ppt/media/image11.gif" ContentType="image/gif"/>
  <Override PartName="/ppt/media/image15.jpeg" ContentType="image/jpeg"/>
  <Override PartName="/ppt/media/image14.gif" ContentType="image/gif"/>
  <Override PartName="/ppt/media/image2.wmf" ContentType="image/x-wmf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applause.wav" ContentType="audio/x-wav"/>
  <Override PartName="/ppt/media/image5.wmf" ContentType="image/x-wmf"/>
  <Override PartName="/ppt/media/image7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480-2B79-4E3C-860C-C593EBD2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3C6-AE28-4E68-A83F-918F6AA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EF9-CBDA-4E74-8FF0-20023E8C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2DA-BBD3-4761-8628-4FE2824B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A40-8CC0-4F45-83A7-9145130C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48D6-B7D5-43FE-A5B6-FD35913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B85-D0E2-4746-A147-C79EF276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4037-6E99-4D1B-836E-CD77C11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1AD-E53D-40BB-8476-E651BBE1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2BD3-F680-4EC5-B4BE-A4D5E5D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C2F8-25E7-419B-A0BB-E30318D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38B-88FC-4A3B-9B4D-62CE98ED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6452-6F9D-43A3-845C-D556EAF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16B1-B25A-4569-A673-017907BA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3CD9-003F-4358-B5C3-FFBEA2F3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01DE-6EF9-44E3-844B-896FE47C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27C9-E18B-455B-B67D-F6C9A3E7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FB34-140F-4854-8383-A17DC49A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82EA-4A39-4620-9BBB-6D8D84E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DA380-C534-4338-A302-320D23B6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D819C-C72A-49F5-945A-CD64F6E4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593BE-6C1B-4FCE-817F-F8B0230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F15-AF06-4655-9159-1D689A4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D3483-3AE9-4197-8E4D-50A4ABD2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5D74-2D10-44C1-B89C-0CC1A19D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880C-E19D-4F2B-B816-835BA3A0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0330-D130-4C1E-84FD-A10CF3DE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1933-3014-4FC4-8144-4948CD29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57D0-7E57-42D5-895E-3178D99B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23C4-90ED-4CC9-8C18-D0497D6C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D28-AF0E-492B-8B3A-C6158D62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A37-DA81-44B2-8140-484440D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FB0A-8795-49E5-9B04-FDCEA359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D26-B5FA-4CF7-AEDD-804D5E1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5F0-6DCE-4BA4-8F78-110325E2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B9B-4CBD-468A-890C-D3F12F4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72FA-AB02-4536-BE83-79056308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7420-F269-4E12-9B8F-A6B9D9F755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22EE-4F6F-435F-AE3E-248CA17F09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vi.wikipedia.org/wiki/Xi&#234;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89920" y="4572000"/>
            <a:ext cx="2117520" cy="2286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 flipH="1">
            <a:off x="0" y="4748040"/>
            <a:ext cx="2286000" cy="210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33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.VnTimeH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866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43400" y="65152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-39996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2578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59680" y="15238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7524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7524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47242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388620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038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609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35053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3341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04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0" y="441972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8098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777160" y="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57150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144792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2096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213372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34340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1905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.VnTimeH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205740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00ff"/>
                </a:solidFill>
                <a:latin typeface="Times New Roman"/>
              </a:rPr>
              <a:t>Lịch sử lớp 7</a:t>
            </a:r>
            <a:endParaRPr b="1" lang="en-US" sz="9600" spc="1" strike="noStrike">
              <a:ln w="0">
                <a:noFill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428400" cy="3697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2120"/>
            <a:ext cx="487692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04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Cao B»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981080"/>
            <a:ext cx="38102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«ng V¨n V©n lµ ai ? V× sao «ng næi dËy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1676520"/>
            <a:ext cx="434340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«ng V¨n V©n : Tï tr­ëng d©n téc Tµy, gi÷ chøc tri ch©u B¶o L¹c ( Cao B»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Kh«ng chÞu næi sù chÌn Ðp cña triÒu ®×nh «ng cïng mét sè tï tr­ëng tËp hîp d©n chóng næi dËy khëi nghÜ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§Þa bµn : MiÒn nói ViÖt B¾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3886200"/>
            <a:ext cx="3657600" cy="703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Em h·y thuËt l¹i diÔn biÕn cuéc khëi nghÜ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8862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35 khëi nghÜa bÞ dËp t¾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6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8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6324480" y="5105520"/>
            <a:ext cx="428760" cy="36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838080"/>
            <a:ext cx="4876920" cy="28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c, Khëi nghÜa Lª V¨n Kh«i ( 1833 – 1835 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5257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Gia §Þ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352680"/>
            <a:ext cx="3962520" cy="135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Tương truyền khi vào Gia Định, cã lần Lª Văn Kh«i dïng tay kh«ng chống lại cọp dữ cho sứ thần nước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.VnTime"/>
                <a:hlinkClick r:id="rId3"/>
              </a:rPr>
              <a:t>Xiªm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 x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" y="22096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Lª V¨n Kh«i lµ Thæ hµo ë Cao B»ng, sau vµo Nam ( Con nu«i Tæng trÊn Lª V¨n DuyÖ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3505320"/>
            <a:ext cx="38102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­êng thuËt diÔn biÕn khëi nghÜa Lª V¨n Kh«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3479760"/>
            <a:ext cx="3962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Th¸ng 6-1833, «ng khëi nghÜa chiÕm thµnh Phiªn An ( Gia §Þnh ). Tù x­ng B×nh Nam §¹i nguyªn so¸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34, Lª V¨n Kh«i qua ®êi, con trai «ng lªn th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35, khëi nghÜa bÞ dËp t¾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2362320"/>
            <a:ext cx="36576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.VnTime"/>
              </a:rPr>
              <a:t>Em h·y giíi thiÖu ®«i nÐt vÒ Lª V¨n kh«i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7" dur="2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428400" cy="369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838080"/>
            <a:ext cx="4876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</a:t>
            </a: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, Khëi nghÜa Phan B¸ Vµnh ( 1821 – 1827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c, Khëi nghÜa Lª V¨n Kh«i ( 1833 – 1835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.VnTime"/>
              </a:rPr>
              <a:t>d, Khëi nghÜa Cao B¸ Qu¸t ( 1854 – 185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867280" y="914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S¬n T©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2819520"/>
            <a:ext cx="3581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nªu mét vµi nÐt vÒ Cao B¸ Qu¸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2743200"/>
            <a:ext cx="4114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Mét nhµ th¬ lçi l¹c, mét nhµ nho yªu n­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3657600"/>
            <a:ext cx="3581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Giíi thiÖu vÒ khëi nghÜa Cao B¸ Qu¸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4952880"/>
            <a:ext cx="3581280" cy="155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ff0066"/>
                </a:solidFill>
                <a:latin typeface=".VnTime"/>
              </a:rPr>
              <a:t>§©y lµ cuéc khëi nghÜa n«ng d©n cã sù tham gia tÝch cùc cña nhiÒu nho s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365760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55, Cao B¸ Qu¸t hy s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N¨m 1856, khëi nghÜa bÞ dËp t¾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Xem ảnh với kích cỡ đầy đủ"/>
          <p:cNvPicPr/>
          <p:nvPr/>
        </p:nvPicPr>
        <p:blipFill>
          <a:blip r:embed="rId3"/>
          <a:stretch/>
        </p:blipFill>
        <p:spPr>
          <a:xfrm>
            <a:off x="4876920" y="3200400"/>
            <a:ext cx="3733560" cy="3524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952880" y="63244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6400800"/>
            <a:ext cx="27432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Cao B¸ Qu¸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 flipH="1" rot="16089600">
            <a:off x="437760" y="-453600"/>
            <a:ext cx="762120" cy="1669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 flipH="1">
            <a:off x="-360" y="5881680"/>
            <a:ext cx="1066680" cy="9763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0880" y="1295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1828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57400" y="25909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.VnTime"/>
              </a:rPr>
              <a:t>Häc sinh th¶o luËn nhã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124080"/>
            <a:ext cx="7543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- </a:t>
            </a: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C©u 1 : V× sao c¸c cuéc khëi nghÜa ®Òu thÊt b¹i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.VnTime"/>
              </a:rPr>
              <a:t>C©u 2 : C¸c cuéc khëi nghÜa trªn chøng tá ®iÒu g×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228600"/>
            <a:ext cx="7362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7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457200" y="1066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.VnTimeH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.VnTime"/>
              </a:rPr>
              <a:t>Nguyªn nh©n  thÊt b¹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12193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.VnTimeH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.VnTime"/>
              </a:rPr>
              <a:t>ý nghÜ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981080"/>
            <a:ext cx="27432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- </a:t>
            </a: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C¸c cuéc khëi nghÜa ®Òu thÊt b¹i d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.VnTime"/>
              </a:rPr>
              <a:t>     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Phong trµo ®Êu tranh diÔn ra rÇm ré nh­ng ph©n t¸n, thiÕu sù liªn kÕt lùc l­î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    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TriÒu ®×nh nhµ NguyÔn ®µn ¸p d·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1905120"/>
            <a:ext cx="25909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C¸c cuéc khëi nghÜa diÔn ra réng kh¾p thÓ hiÖn :</a:t>
            </a:r>
            <a:r>
              <a:rPr b="1" lang="en-US" sz="2000" spc="-1" strike="noStrike">
                <a:solidFill>
                  <a:srgbClr val="8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.VnTime"/>
              </a:rPr>
              <a:t>   </a:t>
            </a:r>
            <a:r>
              <a:rPr b="0" i="1" lang="en-US" sz="1800" spc="-1" strike="noStrike">
                <a:solidFill>
                  <a:srgbClr val="800000"/>
                </a:solidFill>
                <a:latin typeface=".VnTime"/>
              </a:rPr>
              <a:t>-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Tinh thÇn ®Êu tranh anh dòng cña c¸c tÇng líp nh©n d©n chèng l¹i nhµ NguyÔ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1" i="1" lang="en-US" sz="2000" spc="-1" strike="noStrike">
                <a:solidFill>
                  <a:srgbClr val="800000"/>
                </a:solidFill>
                <a:latin typeface=".VnTime"/>
              </a:rPr>
              <a:t>- B¸o tr­íc sù sôp ®æ tÊt yÕu cña triÒu ®×nh phong kiÕn nhµ NguyÔ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2438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500"/>
                            </p:stCondLst>
                            <p:childTnLst>
                              <p:par>
                                <p:cTn id="8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6500"/>
                            </p:stCondLst>
                            <p:childTnLst>
                              <p:par>
                                <p:cTn id="8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2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8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1" dur="2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4" dur="2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 flipH="1" rot="16090200">
            <a:off x="-13320" y="8280"/>
            <a:ext cx="1137960" cy="11336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 flipH="1">
            <a:off x="-360" y="5742000"/>
            <a:ext cx="1219320" cy="1116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848720" y="5670720"/>
            <a:ext cx="1295280" cy="1187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0" y="1600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1981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 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+ §Þa chñ c­êng hµo c­íp ruéng, quan l¹i tham n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.VnTime"/>
              </a:rPr>
              <a:t>+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429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3809880"/>
            <a:ext cx="685800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, Khëi nghÜa Phan B¸ Vµnh ( 1821 – 182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b, Khëi nghÜa N«ng V¨n V©n ( 1833 – 183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c, Khëi nghÜa Lª V¨n Kh«i ( 1833 – 1835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d, Khëi nghÜa Cao B¸ Qu¸t ( 1854 – 185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 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 flipH="1" rot="16089600">
            <a:off x="437760" y="-453600"/>
            <a:ext cx="762120" cy="1669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 flipH="1">
            <a:off x="-360" y="5881680"/>
            <a:ext cx="1066680" cy="9763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743200" y="6094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H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.VnTimeH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990720"/>
            <a:ext cx="59436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oµn thµnh b¶ng sau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   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Nh÷ng cuéc næi dËy cña nh©n d©n chèng v­¬ng triÒu NguyÔn nöa ®Çu TK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533520" y="2362320"/>
          <a:ext cx="7924680" cy="4057560"/>
        </p:xfrm>
        <a:graphic>
          <a:graphicData uri="http://schemas.openxmlformats.org/drawingml/2006/table">
            <a:tbl>
              <a:tblPr/>
              <a:tblGrid>
                <a:gridCol w="1801800"/>
                <a:gridCol w="1550880"/>
                <a:gridCol w="3124080"/>
                <a:gridCol w="144792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Tªn khëi nghÜ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Thêi g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§Þa bµn ho¹t ®é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660033"/>
                          </a:solidFill>
                          <a:latin typeface=".VnTime"/>
                        </a:rPr>
                        <a:t>KÕt qu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Phan B¸ Vµn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21-18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33-1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- Cao B»ng vµ c¸c tØnh miÒn nói ViÖt B¾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Lª V¨n Kh«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- Gia §Þnh vµ c¸c tØnh Nam K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Cao B¸ Qu¸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1854-1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.VnTime"/>
                        </a:rPr>
                        <a:t>ThÊt b¹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"/>
          <p:cNvSpPr/>
          <p:nvPr/>
        </p:nvSpPr>
        <p:spPr>
          <a:xfrm>
            <a:off x="3962520" y="30481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Nam §Þnh, Th¸i B×nh, H¶i D­¬ng, Qu¶ng Y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886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N«ng V¨n V©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36232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.VnTime"/>
              </a:rPr>
              <a:t>1833-18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55627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  </a:t>
            </a:r>
            <a:r>
              <a:rPr b="0" lang="en-US" sz="2000" spc="-1" strike="noStrike">
                <a:solidFill>
                  <a:srgbClr val="ff0066"/>
                </a:solidFill>
                <a:latin typeface=".VnTime"/>
              </a:rPr>
              <a:t>S¬n T©y, Hµ Néi, B¾c Ni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3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1371600"/>
            <a:ext cx="579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.VnTime"/>
              </a:rPr>
              <a:t>Chän ®¸p ¸n ®óng vµ ®ñ nhÊt cho nh÷ng c©u hái sau</a:t>
            </a:r>
            <a:r>
              <a:rPr b="1" lang="en-US" sz="1800" spc="-1" strike="noStrike">
                <a:solidFill>
                  <a:srgbClr val="0000ff"/>
                </a:solidFill>
                <a:latin typeface=".VnTim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209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1. Nguyªn nh©n nµo dÉn ®Õn ®êi sèng nh©n d©n ta d­íi thêi nhµ NguyÔn cùc khæ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495288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2120" y="3276720"/>
            <a:ext cx="655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.VnTim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.VnTime"/>
              </a:rPr>
              <a:t>Do ®Þa chñ, hµo lÝ chiÕm ®o¹t ruéng ®Ê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B. T« thuÕ nÆng nÒ, quan l¹i tham nh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.VnTime"/>
              </a:rPr>
              <a:t>C. DÞch bÖnh, n¹n ®ãi hoµnh hµnh ®ã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.VnTime"/>
              </a:rPr>
              <a:t>D. C¶ 3 ®¸p ¸n trª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479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.VnTime"/>
              </a:rPr>
              <a:t>Cñng cè kiÕn thø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1371600"/>
            <a:ext cx="579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15238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.VnTime"/>
              </a:rPr>
              <a:t>Chän ®¸p ¸n ®óng vµ ®ñ nhÊt cho nh÷ng c©u hái sa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2. ë cuéc khëi nghÜa nµo mµ : “ Khi l©m trËn th× ®µn bµ con g¸i còng cÇm gi¸o m¸c mµ ®¸nh”.</a:t>
            </a: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71600" y="320040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A. </a:t>
            </a:r>
            <a:r>
              <a:rPr b="0" lang="en-US" sz="2800" spc="-1" strike="noStrike">
                <a:solidFill>
                  <a:srgbClr val="ff0066"/>
                </a:solidFill>
                <a:latin typeface=".VnTime"/>
              </a:rPr>
              <a:t>Khëi nghÜa Phan B¸ Vµn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.VnTime"/>
              </a:rPr>
              <a:t>B. Khëi nghÜa Lª V¨n Kh«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.VnTime"/>
              </a:rPr>
              <a:t>C. Khëi nghÜa N«ng V¨n V©n.</a:t>
            </a:r>
            <a:r>
              <a:rPr b="0" lang="en-US" sz="2800" spc="-1" strike="noStrike">
                <a:solidFill>
                  <a:srgbClr val="ffff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.VnTime"/>
              </a:rPr>
              <a:t>D. Khëi nghÜa Cao B¸ Qu¸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3276720"/>
            <a:ext cx="533520" cy="4572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750"/>
                            </p:stCondLst>
                            <p:childTnLst>
                              <p:par>
                                <p:cTn id="9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6750"/>
                            </p:stCondLst>
                            <p:childTnLst>
                              <p:par>
                                <p:cTn id="9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5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br>
              <a:rPr sz="2000"/>
            </a:br>
            <a:r>
              <a:rPr b="1" lang="en-US" sz="2800" spc="-1" strike="noStrike">
                <a:solidFill>
                  <a:srgbClr val="ff0000"/>
                </a:solidFill>
                <a:latin typeface=".VnTime"/>
              </a:rPr>
              <a:t>h­íng dÉn häc sinh häc bµi</a:t>
            </a:r>
            <a:br>
              <a:rPr sz="2800"/>
            </a:br>
            <a:br>
              <a:rPr sz="20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0" y="533520"/>
            <a:ext cx="8381520" cy="6629040"/>
            <a:chOff x="0" y="533520"/>
            <a:chExt cx="8381520" cy="6629040"/>
          </a:xfrm>
        </p:grpSpPr>
        <p:sp>
          <p:nvSpPr>
            <p:cNvPr id="467" name=""/>
            <p:cNvSpPr/>
            <p:nvPr/>
          </p:nvSpPr>
          <p:spPr>
            <a:xfrm>
              <a:off x="0" y="2537640"/>
              <a:ext cx="8381520" cy="46249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00"/>
                </a:gs>
                <a:gs pos="50000">
                  <a:srgbClr val="ffffcc"/>
                </a:gs>
                <a:gs pos="100000">
                  <a:srgbClr val="00cc00"/>
                </a:gs>
              </a:gsLst>
              <a:lin ang="5400000"/>
            </a:gradFill>
            <a:ln w="3816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9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8" name="" descr=""/>
            <p:cNvPicPr/>
            <p:nvPr/>
          </p:nvPicPr>
          <p:blipFill>
            <a:blip r:embed="rId2"/>
            <a:stretch/>
          </p:blipFill>
          <p:spPr>
            <a:xfrm>
              <a:off x="3047760" y="533520"/>
              <a:ext cx="32169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 flipV="1">
              <a:off x="423000" y="1766520"/>
              <a:ext cx="3555720" cy="131004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3979080" y="1766520"/>
              <a:ext cx="4063680" cy="107892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143000" y="3200400"/>
            <a:ext cx="6934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- So s¸nh ®Ó thÊy râ sù gièng vµ kh¸c nhau cña c¸c cuéc khëi nghÜa nöa ®Çu thÕ kØ XIX ( VÒ môc tiªu, tÝnh chÊt, ®Þa bµn ho¹t ®éng, ng­êi l·nh ®¹o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5181480"/>
            <a:ext cx="70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ChuÈn bÞ bµi : Sù ph¸t triÓn v¨n hãa d©n téc cuèi thÕ kØ XVIII- nöa ®Çu thÕ kØ X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7" dur="2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683480" y="5105520"/>
            <a:ext cx="1623960" cy="1752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 flipH="1">
            <a:off x="0" y="5170320"/>
            <a:ext cx="1828800" cy="1687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38080" y="533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.VnTime"/>
              </a:rPr>
              <a:t>Bµi 27 – tiÕt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-343080"/>
            <a:ext cx="457200" cy="68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65152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-39996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2578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959680" y="15238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1752480"/>
            <a:ext cx="366840" cy="40032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7524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62520" y="47242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88620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4038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609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58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5053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5334120"/>
            <a:ext cx="533520" cy="5331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610480" y="6324480"/>
            <a:ext cx="533520" cy="5335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0" y="441972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3809880"/>
            <a:ext cx="457200" cy="6858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1907f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4572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777160" y="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571500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1447920"/>
            <a:ext cx="366840" cy="399960"/>
          </a:xfrm>
          <a:prstGeom prst="irregularSeal2">
            <a:avLst/>
          </a:prstGeom>
          <a:gradFill rotWithShape="0">
            <a:gsLst>
              <a:gs pos="0">
                <a:srgbClr val="fca2b1">
                  <a:alpha val="88235"/>
                </a:srgbClr>
              </a:gs>
              <a:gs pos="100000">
                <a:srgbClr val="ff0000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220968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2133720"/>
            <a:ext cx="60984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4343400"/>
            <a:ext cx="609480" cy="685800"/>
          </a:xfrm>
          <a:prstGeom prst="star5">
            <a:avLst/>
          </a:prstGeom>
          <a:gradFill rotWithShape="0">
            <a:gsLst>
              <a:gs pos="0">
                <a:srgbClr val="1907f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0666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.VnTime"/>
              </a:rPr>
              <a:t>ChÕ ®é phong kiÕn nhµ nguyÔ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43640" y="17524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II – c¸c cuéc næi dËy cña nh©n d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607860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5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528" repeatCount="indefinite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528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500"/>
                            </p:stCondLst>
                            <p:childTnLst>
                              <p:par>
                                <p:cTn id="363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8" descr="image"/>
          <p:cNvPicPr/>
          <p:nvPr/>
        </p:nvPicPr>
        <p:blipFill>
          <a:blip r:embed="rId1"/>
          <a:stretch/>
        </p:blipFill>
        <p:spPr>
          <a:xfrm>
            <a:off x="914400" y="2209680"/>
            <a:ext cx="6858000" cy="46483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7" descr="image"/>
          <p:cNvPicPr/>
          <p:nvPr/>
        </p:nvPicPr>
        <p:blipFill>
          <a:blip r:embed="rId2"/>
          <a:stretch/>
        </p:blipFill>
        <p:spPr>
          <a:xfrm>
            <a:off x="5792760" y="2895480"/>
            <a:ext cx="3351240" cy="39625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9" descr="image"/>
          <p:cNvPicPr/>
          <p:nvPr/>
        </p:nvPicPr>
        <p:blipFill>
          <a:blip r:embed="rId3"/>
          <a:stretch/>
        </p:blipFill>
        <p:spPr>
          <a:xfrm>
            <a:off x="0" y="3962520"/>
            <a:ext cx="244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1371600" y="1828800"/>
            <a:ext cx="6324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.VnTime"/>
              </a:rPr>
              <a:t>Chóc c¸c em häc tè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.VnTime"/>
              <a:ea typeface=".VnTime"/>
            </a:endParaRPr>
          </a:p>
        </p:txBody>
      </p:sp>
    </p:spTree>
  </p:cSld>
  <p:transition spd="slow">
    <p:split dir="in" orient="horz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281240" y="1752480"/>
            <a:ext cx="755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.VnTime"/>
              </a:rPr>
              <a:t>Nhµ NguyÔn ®· </a:t>
            </a:r>
            <a:r>
              <a:rPr b="1" lang="en-US" sz="2800" spc="-1" strike="noStrike">
                <a:solidFill>
                  <a:srgbClr val="0000ff"/>
                </a:solidFill>
                <a:latin typeface="VNI-Times"/>
              </a:rPr>
              <a:t>laøm gì ñeå laäp laïi cheá ñoä phong kieán taäp quyeà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.VnTime"/>
              </a:rPr>
              <a:t>KiÓm tra bµi c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828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13" h="21600">
                <a:moveTo>
                  <a:pt x="11912" y="14281"/>
                </a:moveTo>
                <a:lnTo>
                  <a:pt x="11912" y="12323"/>
                </a:lnTo>
                <a:cubicBezTo>
                  <a:pt x="11912" y="11496"/>
                  <a:pt x="12242" y="10800"/>
                  <a:pt x="12843" y="10800"/>
                </a:cubicBezTo>
                <a:cubicBezTo>
                  <a:pt x="13975" y="10800"/>
                  <a:pt x="14871" y="9434"/>
                  <a:pt x="14871" y="7849"/>
                </a:cubicBezTo>
                <a:cubicBezTo>
                  <a:pt x="14871" y="5534"/>
                  <a:pt x="13017" y="3794"/>
                  <a:pt x="10806" y="3794"/>
                </a:cubicBezTo>
                <a:cubicBezTo>
                  <a:pt x="8596" y="3794"/>
                  <a:pt x="6925" y="5534"/>
                  <a:pt x="6925" y="7849"/>
                </a:cubicBezTo>
                <a:lnTo>
                  <a:pt x="8778" y="7849"/>
                </a:lnTo>
                <a:cubicBezTo>
                  <a:pt x="8778" y="6709"/>
                  <a:pt x="9701" y="5821"/>
                  <a:pt x="10806" y="5821"/>
                </a:cubicBezTo>
                <a:cubicBezTo>
                  <a:pt x="11912" y="5821"/>
                  <a:pt x="12843" y="6709"/>
                  <a:pt x="12843" y="7849"/>
                </a:cubicBezTo>
                <a:cubicBezTo>
                  <a:pt x="12843" y="8589"/>
                  <a:pt x="12373" y="9320"/>
                  <a:pt x="11912" y="9320"/>
                </a:cubicBezTo>
                <a:cubicBezTo>
                  <a:pt x="10806" y="9320"/>
                  <a:pt x="9701" y="10800"/>
                  <a:pt x="9701" y="12323"/>
                </a:cubicBezTo>
                <a:lnTo>
                  <a:pt x="9701" y="1428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2819520"/>
            <a:ext cx="8153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N¨m 1802, NguyÔn </a:t>
            </a:r>
            <a:r>
              <a:rPr b="1" lang="en-US" sz="2000" spc="-1" strike="noStrike">
                <a:solidFill>
                  <a:srgbClr val="ff0066"/>
                </a:solidFill>
                <a:latin typeface="VNI-Times"/>
              </a:rPr>
              <a:t>AÙnh</a:t>
            </a: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 ®Æt niªn hiÖu lµ Gia Long, ®ãng ®« ë Phó Xu©n, x©y dùng nhµ n­íc qu©n chñ tËp quyÒn. Vua trùc tiÕp ®iÒu hµnh mäi viÖc tõ trung ­¬ng ®Õn ®Þa ph­¬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- N¨m 1815, nhµ NguyÔn ban hµnh bé Hoµng triÒu luËt lÖ ( LuËt Gia Long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.VnTime"/>
              </a:rPr>
              <a:t>Chia n­íc ta ra thµnh 30 tØnh vµ mét phñ trùc thuéc.</a:t>
            </a:r>
            <a:br>
              <a:rPr sz="2000"/>
            </a:b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191440" y="5715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1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flipH="1" rot="16089600">
            <a:off x="-13680" y="11520"/>
            <a:ext cx="1067040" cy="10616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>
            <a:off x="-76320" y="6080040"/>
            <a:ext cx="914400" cy="7779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153280" y="5950080"/>
            <a:ext cx="990720" cy="907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 rot="5626800">
            <a:off x="8255160" y="27720"/>
            <a:ext cx="914400" cy="909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04920" y="1219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: §êi sèng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4120" y="1752480"/>
            <a:ext cx="3352680" cy="2653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.VnTime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.VnTime"/>
              </a:rPr>
              <a:t>- </a:t>
            </a:r>
            <a:r>
              <a:rPr b="1" lang="en-US" sz="2800" spc="-1" strike="noStrike">
                <a:solidFill>
                  <a:srgbClr val="333399"/>
                </a:solidFill>
                <a:latin typeface="VNI-Times"/>
              </a:rPr>
              <a:t>Ñôøi soáng nhaân daân ta döôùi trieàu Nguyeãn bieåu hieän nhö theá naø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676520"/>
            <a:ext cx="4800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+ §Þa chñ c­êng hµo c­íp </a:t>
            </a:r>
            <a:r>
              <a:rPr b="0" lang="en-US" sz="2400" spc="-1" strike="noStrike">
                <a:solidFill>
                  <a:srgbClr val="800000"/>
                </a:solidFill>
                <a:latin typeface="VNI-Times"/>
              </a:rPr>
              <a:t>ñoaït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ruéng</a:t>
            </a:r>
            <a:r>
              <a:rPr b="0" lang="en-US" sz="2400" spc="-1" strike="noStrike">
                <a:solidFill>
                  <a:srgbClr val="800000"/>
                </a:solidFill>
                <a:latin typeface="VNI-Times"/>
              </a:rPr>
              <a:t> ñaát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, quan l¹i tham nhò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+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905120"/>
            <a:ext cx="3352680" cy="2082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42, b·o to ë NghÖ An lµm ®æ trªn 4 v¹n nãc nhµ, h¬n 5000 ng­êi chÕ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.VnTime"/>
              </a:rPr>
              <a:t>N¨m 1849 – 1850, dÞch lín trªn c¶ n­íc lµm 60 v¹n ng­êi chÕ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10080" y="1981080"/>
            <a:ext cx="3353040" cy="1922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Qua ®äc ®o¹n trÝch trªn, em cã nhËn xÐt g× vÒ chÝnh quyÒn phong kiÕn nhµ NguyÔ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3657600"/>
            <a:ext cx="3200400" cy="2844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Quan l¹i tõ trung ­¬ng ®Õn ®Þa ph­¬ng ra søc ®ôc khoÐt bãc lét nh©n d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X· héi lo¹n l¹c, kh«ng cßn kØ c­¬ng phÐp n­í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1752480"/>
            <a:ext cx="3124080" cy="1557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®äc ®o¹n ch÷ in nghiªng trong s¸ch gi¸o khoa ( Trang 139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2209680"/>
            <a:ext cx="350496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¸i ®é cña nh©n d©n víi chÝnh quyÒn phong kiÕn nhµ NguyÔ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4114800"/>
            <a:ext cx="3429000" cy="192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&gt; Nh©n d©n c¨m phÉn, bÊt b×nh nªn hä næi dËy ®Êu tranh chèng chÝnh quyÒn nhµ Nguy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1676520"/>
            <a:ext cx="7632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28600"/>
            <a:ext cx="7362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914400"/>
            <a:ext cx="70102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Phaûn öùng cuûa daân chuùng veà cheá ñoä lao dòch khaéc nhieät döôùi trieàu cuûa Vua Töï Ñöù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aét daân ñaøo keâ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Ñaøo möôøi thöôùc roä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oán möôi thuôùc da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Ño ñaát ñeám ngöôø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Moät xuaát ñinh hai thöôù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aét ñaøo cho ñöôï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Haïn trong möôøi ngaø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 flipH="1" rot="16090200">
            <a:off x="-13320" y="8280"/>
            <a:ext cx="1137960" cy="1133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 flipH="1">
            <a:off x="-360" y="5742000"/>
            <a:ext cx="1219320" cy="1116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7848720" y="5670720"/>
            <a:ext cx="1295280" cy="1187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 rot="5626800">
            <a:off x="8021520" y="20520"/>
            <a:ext cx="1143000" cy="1136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1600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98108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§êi sèng nh©n d©n ta ngµy cµng khæ cùc d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§Þa chñ c­êng hµo c­íp ruéng, quan l¹i tham n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- T« thuÕ nÆng nÒ, dÞch bÖnh, ®ãi kÐ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3657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 flipH="1" rot="16090800">
            <a:off x="-12240" y="100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 flipH="1">
            <a:off x="0" y="609120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8305920" y="6089760"/>
            <a:ext cx="838080" cy="768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 rot="5626800">
            <a:off x="8186400" y="25200"/>
            <a:ext cx="981000" cy="974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1600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, §êi sèng cña nh©n d©n d­íi triÒu NguyÔ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0574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609480"/>
            <a:ext cx="736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.VnTime"/>
              </a:rPr>
              <a:t>TiÕt 60 :  </a:t>
            </a:r>
            <a:r>
              <a:rPr b="1" lang="en-US" sz="2400" spc="-1" strike="noStrike">
                <a:solidFill>
                  <a:srgbClr val="ff0066"/>
                </a:solidFill>
                <a:latin typeface="VNI-Times"/>
              </a:rPr>
              <a:t>CHEÁ ÑOÄ PHONG KIEÁN NHAØ NGUYE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.VnTime"/>
              </a:rPr>
              <a:t>II.  </a:t>
            </a:r>
            <a:r>
              <a:rPr b="1" lang="en-US" sz="2000" spc="-1" strike="noStrike">
                <a:solidFill>
                  <a:srgbClr val="000066"/>
                </a:solidFill>
                <a:latin typeface="VNI-Times"/>
              </a:rPr>
              <a:t>CAÙC CUOÄC NOÅI DAÄY CUÛA NHAÂN DA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34120" y="5105520"/>
            <a:ext cx="352440" cy="380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5029200" y="1447920"/>
            <a:ext cx="38088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5181480" y="1066680"/>
            <a:ext cx="35244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352440" cy="381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6629400" y="3352680"/>
            <a:ext cx="304920" cy="381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609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6216480"/>
            <a:ext cx="54100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         </a:t>
            </a:r>
            <a:r>
              <a:rPr b="0" lang="en-US" sz="1800" spc="-1" strike="noStrike">
                <a:solidFill>
                  <a:srgbClr val="0000ff"/>
                </a:solidFill>
                <a:latin typeface=".VnTime"/>
              </a:rPr>
              <a:t>L­îc ®å nh÷ng n¬i bïng næ cuéc næi dËy cña nh©n d©n   chèng v­¬ng triÒu NguyÔn nöa ®Çu TK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352440" cy="304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, C¸c cuéc næi dËy cña nh©n d©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38088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a, Khëi nghÜa Phan B¸ Vµ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( 1821 – 1827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3048120"/>
            <a:ext cx="411480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tr×nh bµy hiÓu biÕt cña em vÒ Phan B¸ Vµnh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4920" y="12952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Phan B¸ Vµn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: Ng­êi lµng Minh Gi¸m ( Th¸i B×nh ). XuÊt th©n trong mét gia ®×nh nghÌ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3505320"/>
            <a:ext cx="426744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uyªn nh©n nµo khiÕn Phan B¸ Vµnh næi dËy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" y="3048120"/>
            <a:ext cx="4572000" cy="2478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¤ng sím bÊt b×nh víi giai cÊp thèng tr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¨m 1821, nh©n mét n¹n ®ãi lín ë Nam §Þnh, Th¸i B×nh - &gt; ¤ng kªu gäi nh©n d©n khëi nghÜ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920" y="4572000"/>
            <a:ext cx="44193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.VnTim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Em h·y t­êng thuËt diÔn biÕn cña khëi nghÜ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37339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N¨m 1827, qu©n triÒu ®×nh bao v©y. Khëi nghÜa bÞ ®µn ¸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0880" y="2362320"/>
            <a:ext cx="426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N¨m 1821, «ng kªu gäi n«ng d©n næi dË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.VnTime"/>
              </a:rPr>
              <a:t>C¨n cø : Trµ Lò ( Nam §Þn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.VnTime"/>
              </a:rPr>
              <a:t>Nam §Þn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5181480"/>
            <a:ext cx="199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724280"/>
            <a:ext cx="5029200" cy="230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uy khëi nghÜa thÊt b¹i, song trong lßng nh©n d©n h×nh ¶nh «ng sèng m·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rªn trêi cã «ng sao R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NI-Times"/>
              </a:rPr>
              <a:t>ÔÛ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lµng Minh Gi¸m cã vua Ba Vµn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9:19:15Z</dcterms:created>
  <dc:creator>Tia Chop</dc:creator>
  <dc:description/>
  <dc:language>en-US</dc:language>
  <cp:lastModifiedBy>MULTI -  DONG XOAI</cp:lastModifiedBy>
  <dcterms:modified xsi:type="dcterms:W3CDTF">2011-04-14T13:45:46Z</dcterms:modified>
  <cp:revision>173</cp:revision>
  <dc:subject/>
  <dc:title>Slide 1</dc:title>
</cp:coreProperties>
</file>