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image29.wmf" ContentType="image/x-wmf"/>
  <Override PartName="/ppt/media/image8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0.wmf" ContentType="image/x-wmf"/>
  <Override PartName="/ppt/media/image25.png" ContentType="image/png"/>
  <Override PartName="/ppt/media/image34.wmf" ContentType="image/x-wmf"/>
  <Override PartName="/ppt/media/image38.gif" ContentType="image/gif"/>
  <Override PartName="/ppt/media/image33.wmf" ContentType="image/x-wmf"/>
  <Override PartName="/ppt/media/image3.wmf" ContentType="image/x-wmf"/>
  <Override PartName="/ppt/media/image36.png" ContentType="image/png"/>
  <Override PartName="/ppt/media/image37.png" ContentType="image/png"/>
  <Override PartName="/ppt/media/image12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15.wmf" ContentType="image/x-wmf"/>
  <Override PartName="/ppt/media/image32.wmf" ContentType="image/x-wmf"/>
  <Override PartName="/ppt/media/image2.wmf" ContentType="image/x-wmf"/>
  <Override PartName="/ppt/media/image4.gif" ContentType="image/gif"/>
  <Override PartName="/ppt/media/image30.wmf" ContentType="image/x-wmf"/>
  <Override PartName="/ppt/media/image27.png" ContentType="image/png"/>
  <Override PartName="/ppt/media/image14.wmf" ContentType="image/x-wmf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64A-BED1-4204-9FF0-C65E7EA9B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80EA-0F2C-4C67-BEF9-4AE96EDD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FFD-1E64-4E33-BF50-BB3665D5B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31E-622A-46C5-B535-DC8658B2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777-2227-4CD9-BB4F-C8F19016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4BA-5362-4C76-AEA3-20EF406D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B34-3E69-48AC-AEDE-E54FA29C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A32-7560-4E2D-92BB-80DE732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093-BE98-4321-B018-2E9FDC42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A4A-5462-423E-8D0B-B1A58A21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8B3-8083-4473-8FB1-8A5B3C75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783-7CDF-4DC9-AF75-32468943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B56-19E8-42BE-9040-4318F69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D1A-1A72-4001-8CBC-13DD753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277-0BA8-4C3D-A3DA-77ED9C0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3191-BCC0-4947-AD34-4FDFC676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file:///tr&#242;%20ch&#417;i%20v&#242;ng%20quay%20may%20m&#7855;n%20-%20C&#258;N%20B&#7852;C%20BA.pptx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1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ook-09"/>
          <p:cNvPicPr/>
          <p:nvPr/>
        </p:nvPicPr>
        <p:blipFill>
          <a:blip r:embed="rId1"/>
          <a:stretch/>
        </p:blipFill>
        <p:spPr>
          <a:xfrm>
            <a:off x="7981920" y="223992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OINSET2"/>
          <p:cNvPicPr/>
          <p:nvPr/>
        </p:nvPicPr>
        <p:blipFill>
          <a:blip r:embed="rId2"/>
          <a:stretch/>
        </p:blipFill>
        <p:spPr>
          <a:xfrm>
            <a:off x="76320" y="152280"/>
            <a:ext cx="190476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9"/>
          <p:cNvGraphicFramePr/>
          <p:nvPr/>
        </p:nvGraphicFramePr>
        <p:xfrm>
          <a:off x="7391520" y="5253120"/>
          <a:ext cx="175248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253120"/>
                    <a:ext cx="1752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10" descr="PULSTARS"/>
          <p:cNvPicPr/>
          <p:nvPr/>
        </p:nvPicPr>
        <p:blipFill>
          <a:blip r:embed="rId5"/>
          <a:stretch/>
        </p:blipFill>
        <p:spPr>
          <a:xfrm>
            <a:off x="6019920" y="38088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LSTARS"/>
          <p:cNvPicPr/>
          <p:nvPr/>
        </p:nvPicPr>
        <p:blipFill>
          <a:blip r:embed="rId6"/>
          <a:stretch/>
        </p:blipFill>
        <p:spPr>
          <a:xfrm>
            <a:off x="2057400" y="68580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PULSTARS"/>
          <p:cNvPicPr/>
          <p:nvPr/>
        </p:nvPicPr>
        <p:blipFill>
          <a:blip r:embed="rId7"/>
          <a:stretch/>
        </p:blipFill>
        <p:spPr>
          <a:xfrm>
            <a:off x="304920" y="243828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PULSTARS"/>
          <p:cNvPicPr/>
          <p:nvPr/>
        </p:nvPicPr>
        <p:blipFill>
          <a:blip r:embed="rId8"/>
          <a:stretch/>
        </p:blipFill>
        <p:spPr>
          <a:xfrm>
            <a:off x="6553080" y="167652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ULSTARS"/>
          <p:cNvPicPr/>
          <p:nvPr/>
        </p:nvPicPr>
        <p:blipFill>
          <a:blip r:embed="rId9"/>
          <a:stretch/>
        </p:blipFill>
        <p:spPr>
          <a:xfrm>
            <a:off x="7848720" y="68580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PULSTARS"/>
          <p:cNvPicPr/>
          <p:nvPr/>
        </p:nvPicPr>
        <p:blipFill>
          <a:blip r:embed="rId10"/>
          <a:stretch/>
        </p:blipFill>
        <p:spPr>
          <a:xfrm>
            <a:off x="3852720" y="487692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PULSTARS"/>
          <p:cNvPicPr/>
          <p:nvPr/>
        </p:nvPicPr>
        <p:blipFill>
          <a:blip r:embed="rId11"/>
          <a:stretch/>
        </p:blipFill>
        <p:spPr>
          <a:xfrm>
            <a:off x="28440" y="34920"/>
            <a:ext cx="1371600" cy="1270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28880" y="5492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ẾT 14: CĂN BẬC 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-80280" y="3220920"/>
            <a:ext cx="3263400" cy="2365200"/>
            <a:chOff x="-80280" y="3220920"/>
            <a:chExt cx="3263400" cy="2365200"/>
          </a:xfrm>
        </p:grpSpPr>
        <p:sp>
          <p:nvSpPr>
            <p:cNvPr id="61" name="AutoShape 3"/>
            <p:cNvSpPr/>
            <p:nvPr/>
          </p:nvSpPr>
          <p:spPr>
            <a:xfrm rot="21394200">
              <a:off x="-51840" y="4433760"/>
              <a:ext cx="3206880" cy="1043280"/>
            </a:xfrm>
            <a:custGeom>
              <a:avLst/>
              <a:gdLst>
                <a:gd name="textAreaLeft" fmla="*/ 272880 w 3206880"/>
                <a:gd name="textAreaRight" fmla="*/ 3480120 w 3206880"/>
                <a:gd name="textAreaTop" fmla="*/ 135000 h 1043280"/>
                <a:gd name="textAreaBottom" fmla="*/ 908280 h 10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38" y="1400"/>
                  </a:moveTo>
                  <a:cubicBezTo>
                    <a:pt x="8119" y="-3560"/>
                    <a:pt x="15319" y="6360"/>
                    <a:pt x="21600" y="1400"/>
                  </a:cubicBezTo>
                  <a:lnTo>
                    <a:pt x="19762" y="20200"/>
                  </a:lnTo>
                  <a:cubicBezTo>
                    <a:pt x="13481" y="25160"/>
                    <a:pt x="6281" y="15240"/>
                    <a:pt x="0" y="20200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 rot="389400">
              <a:off x="732600" y="4453920"/>
              <a:ext cx="1420560" cy="10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BOOK1"/>
            <p:cNvPicPr/>
            <p:nvPr/>
          </p:nvPicPr>
          <p:blipFill>
            <a:blip r:embed="rId13"/>
            <a:stretch/>
          </p:blipFill>
          <p:spPr>
            <a:xfrm rot="21394200">
              <a:off x="812520" y="4075920"/>
              <a:ext cx="1793160" cy="9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QUILLPEN"/>
            <p:cNvPicPr/>
            <p:nvPr/>
          </p:nvPicPr>
          <p:blipFill>
            <a:blip r:embed="rId14"/>
            <a:stretch/>
          </p:blipFill>
          <p:spPr>
            <a:xfrm rot="21394200">
              <a:off x="498600" y="3248640"/>
              <a:ext cx="979560" cy="153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15" descr="j0195384"/>
          <p:cNvPicPr/>
          <p:nvPr/>
        </p:nvPicPr>
        <p:blipFill>
          <a:blip r:embed="rId15"/>
          <a:stretch/>
        </p:blipFill>
        <p:spPr>
          <a:xfrm>
            <a:off x="5715000" y="358452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2182680" y="674640"/>
            <a:ext cx="53341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H"/>
              </a:rPr>
              <a:t>Thi ®ua d¹y tèt –Häc tè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vong quay"/>
          <p:cNvGrpSpPr/>
          <p:nvPr/>
        </p:nvGrpSpPr>
        <p:grpSpPr>
          <a:xfrm>
            <a:off x="3886200" y="990720"/>
            <a:ext cx="5041800" cy="5037120"/>
            <a:chOff x="3886200" y="990720"/>
            <a:chExt cx="5041800" cy="5037120"/>
          </a:xfrm>
        </p:grpSpPr>
        <p:pic>
          <p:nvPicPr>
            <p:cNvPr id="261" name="Picture 3" descr=""/>
            <p:cNvPicPr/>
            <p:nvPr/>
          </p:nvPicPr>
          <p:blipFill>
            <a:blip r:embed="rId1"/>
            <a:stretch/>
          </p:blipFill>
          <p:spPr>
            <a:xfrm>
              <a:off x="3886200" y="990720"/>
              <a:ext cx="5041800" cy="50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4"/>
            <p:cNvSpPr/>
            <p:nvPr/>
          </p:nvSpPr>
          <p:spPr>
            <a:xfrm rot="14949600">
              <a:off x="4963680" y="183636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"/>
            <p:cNvSpPr/>
            <p:nvPr/>
          </p:nvSpPr>
          <p:spPr>
            <a:xfrm rot="12232200">
              <a:off x="4159080" y="262872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"/>
            <p:cNvSpPr/>
            <p:nvPr/>
          </p:nvSpPr>
          <p:spPr>
            <a:xfrm rot="17590200">
              <a:off x="6127200" y="183240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7"/>
            <p:cNvSpPr/>
            <p:nvPr/>
          </p:nvSpPr>
          <p:spPr>
            <a:xfrm rot="20154600">
              <a:off x="6903000" y="262980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8"/>
            <p:cNvSpPr/>
            <p:nvPr/>
          </p:nvSpPr>
          <p:spPr>
            <a:xfrm rot="9501000">
              <a:off x="4121280" y="378684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9"/>
            <p:cNvSpPr/>
            <p:nvPr/>
          </p:nvSpPr>
          <p:spPr>
            <a:xfrm rot="6703200">
              <a:off x="4954680" y="462276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0"/>
            <p:cNvSpPr/>
            <p:nvPr/>
          </p:nvSpPr>
          <p:spPr>
            <a:xfrm rot="3829800">
              <a:off x="6129360" y="462780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1"/>
            <p:cNvSpPr/>
            <p:nvPr/>
          </p:nvSpPr>
          <p:spPr>
            <a:xfrm rot="1321200">
              <a:off x="6923880" y="381096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Rectangl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" y="1822320"/>
            <a:ext cx="3176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"/>
          <p:cNvSpPr/>
          <p:nvPr/>
        </p:nvSpPr>
        <p:spPr>
          <a:xfrm>
            <a:off x="838080" y="2743200"/>
            <a:ext cx="7925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ả lời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âu hỏi ôn tập chương I và ôn các công thức biến đổi că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ứ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g 39 SG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àm bài tập 70 đến 76 trang 38; 39 SG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ết sau ôn tập chương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Học thuộc: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ịnh nghĩa căn bậc 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ính chất căn bậc 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àm bài tập: 68; 69 (SGK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8"/>
          <p:cNvGrpSpPr/>
          <p:nvPr/>
        </p:nvGrpSpPr>
        <p:grpSpPr>
          <a:xfrm>
            <a:off x="1295280" y="304920"/>
            <a:ext cx="6534000" cy="752400"/>
            <a:chOff x="1295280" y="304920"/>
            <a:chExt cx="6534000" cy="752400"/>
          </a:xfrm>
        </p:grpSpPr>
        <p:pic>
          <p:nvPicPr>
            <p:cNvPr id="274" name="Picture 9" descr="SOFTC03A"/>
            <p:cNvPicPr/>
            <p:nvPr/>
          </p:nvPicPr>
          <p:blipFill>
            <a:blip r:embed="rId1"/>
            <a:stretch/>
          </p:blipFill>
          <p:spPr>
            <a:xfrm>
              <a:off x="1295280" y="304920"/>
              <a:ext cx="6534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0">
              <a:hlinkClick r:id="rId2" action="ppaction://hlinksldjump"/>
            </p:cNvPr>
            <p:cNvSpPr/>
            <p:nvPr/>
          </p:nvSpPr>
          <p:spPr>
            <a:xfrm>
              <a:off x="1353960" y="468360"/>
              <a:ext cx="62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Arial"/>
                  <a:ea typeface="Arial"/>
                </a:rPr>
                <a:t>HƯỚNG DẪN HỌC Ở NH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71"/>
          <p:cNvSpPr/>
          <p:nvPr/>
        </p:nvSpPr>
        <p:spPr>
          <a:xfrm>
            <a:off x="990720" y="210816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: Rút gọn biểu thứ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2"/>
              <p:cNvSpPr txBox="1"/>
              <p:nvPr/>
            </p:nvSpPr>
            <p:spPr>
              <a:xfrm>
                <a:off x="4648320" y="1828800"/>
                <a:ext cx="28191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wheel spokes="8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609480" y="990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2362320" y="2451240"/>
                <a:ext cx="3348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2181240" y="3352680"/>
                <a:ext cx="4178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2257560" y="4257720"/>
                <a:ext cx="3585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2281320" y="5143680"/>
                <a:ext cx="331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362320" y="5767560"/>
                <a:ext cx="1481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8"/>
              <p:cNvSpPr txBox="1"/>
              <p:nvPr/>
            </p:nvSpPr>
            <p:spPr>
              <a:xfrm>
                <a:off x="914400" y="914400"/>
                <a:ext cx="2819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5" name="Text Box 7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ài tập: Rút gọn biểu thứ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1"/>
          <p:cNvSpPr/>
          <p:nvPr/>
        </p:nvSpPr>
        <p:spPr>
          <a:xfrm>
            <a:off x="14479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iả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-15840" y="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.VnAristote"/>
              </a:rPr>
              <a:t>Bµi häc h«m nay ®Õn ®©y lµ hÕ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.VnAristote"/>
              </a:rPr>
              <a:t>xin chóc c¸c thÇy c« m¹nh khoÎ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.VnAristote"/>
              </a:rPr>
              <a:t>chóc c¸c em häc sinh häc giá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ure2"/>
          <p:cNvPicPr/>
          <p:nvPr/>
        </p:nvPicPr>
        <p:blipFill>
          <a:blip r:embed="rId1"/>
          <a:stretch/>
        </p:blipFill>
        <p:spPr>
          <a:xfrm>
            <a:off x="2895480" y="19810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6"/>
          <p:cNvSpPr txBox="1"/>
          <p:nvPr/>
        </p:nvSpPr>
        <p:spPr>
          <a:xfrm>
            <a:off x="533520" y="5021280"/>
            <a:ext cx="836604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Xin chào và hẹn gặp lạ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See you again 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152280" y="2209680"/>
            <a:ext cx="4496040" cy="62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a) Căn bậc hai của một số a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...........................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là số x sao cho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4686480" y="167652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14480" y="3581280"/>
            <a:ext cx="4267080" cy="6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Vớ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....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 một căn bậc hai là 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457200" y="838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iền và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ấu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ấm (....) để được khẳng định đú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6"/>
          <p:cNvGraphicFramePr/>
          <p:nvPr/>
        </p:nvGraphicFramePr>
        <p:xfrm>
          <a:off x="1771560" y="2451240"/>
          <a:ext cx="7430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451240"/>
                    <a:ext cx="743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6"/>
          <p:cNvSpPr/>
          <p:nvPr/>
        </p:nvSpPr>
        <p:spPr>
          <a:xfrm>
            <a:off x="2438280" y="0"/>
            <a:ext cx="4496040" cy="6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KIỂM TRA BÀI C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124080" y="2171880"/>
            <a:ext cx="121932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66"/>
                </a:solidFill>
                <a:latin typeface="Times New Roman"/>
              </a:rPr>
              <a:t>không â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9"/>
          <p:cNvGrpSpPr/>
          <p:nvPr/>
        </p:nvGrpSpPr>
        <p:grpSpPr>
          <a:xfrm>
            <a:off x="152280" y="2971800"/>
            <a:ext cx="4495680" cy="660240"/>
            <a:chOff x="152280" y="2971800"/>
            <a:chExt cx="4495680" cy="660240"/>
          </a:xfrm>
        </p:grpSpPr>
        <p:sp>
          <p:nvSpPr>
            <p:cNvPr id="76" name="Rectangle 11"/>
            <p:cNvSpPr/>
            <p:nvPr/>
          </p:nvSpPr>
          <p:spPr>
            <a:xfrm>
              <a:off x="152280" y="2971800"/>
              <a:ext cx="4495680" cy="62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Times New Roman"/>
                </a:rPr>
                <a:t>b) Với số a dương có đúng </a:t>
              </a:r>
              <a:r>
                <a:rPr b="0" lang="vi-VN" sz="1400" spc="-1" strike="noStrike">
                  <a:solidFill>
                    <a:srgbClr val="000000"/>
                  </a:solidFill>
                  <a:latin typeface="Times New Roman"/>
                </a:rPr>
                <a:t>..............</a:t>
              </a:r>
              <a:r>
                <a:rPr b="0" lang="vi-VN" sz="2000" spc="-1" strike="noStrike">
                  <a:solidFill>
                    <a:srgbClr val="000000"/>
                  </a:solidFill>
                  <a:latin typeface="Times New Roman"/>
                </a:rPr>
                <a:t>căn bậc hai là:          và  -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" name="Object 11"/>
            <p:cNvGraphicFramePr/>
            <p:nvPr/>
          </p:nvGraphicFramePr>
          <p:xfrm>
            <a:off x="1981080" y="3200400"/>
            <a:ext cx="457200" cy="43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3200400"/>
                      <a:ext cx="4572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Object 12"/>
            <p:cNvGraphicFramePr/>
            <p:nvPr/>
          </p:nvGraphicFramePr>
          <p:xfrm>
            <a:off x="990360" y="3200400"/>
            <a:ext cx="381240" cy="423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360" y="3200400"/>
                      <a:ext cx="38124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Rectangle 11"/>
          <p:cNvSpPr/>
          <p:nvPr/>
        </p:nvSpPr>
        <p:spPr>
          <a:xfrm>
            <a:off x="3048120" y="2921040"/>
            <a:ext cx="53316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66"/>
                </a:solidFill>
                <a:latin typeface="Times New Roman"/>
              </a:rPr>
              <a:t>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3708360"/>
            <a:ext cx="68580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66"/>
                </a:solidFill>
                <a:latin typeface="Times New Roman"/>
              </a:rPr>
              <a:t>số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52280" y="166356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â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6"/>
              <p:cNvSpPr txBox="1"/>
              <p:nvPr/>
            </p:nvSpPr>
            <p:spPr>
              <a:xfrm>
                <a:off x="5181480" y="2155680"/>
                <a:ext cx="345276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t xml:space="preserve">&lt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6"/>
          <p:cNvSpPr/>
          <p:nvPr/>
        </p:nvSpPr>
        <p:spPr>
          <a:xfrm>
            <a:off x="6262920" y="26128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656040" y="26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174000" y="3032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72200" y="34131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049520" y="2155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478560" y="2155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952880" y="167652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â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2"/>
          <p:cNvSpPr/>
          <p:nvPr/>
        </p:nvSpPr>
        <p:spPr>
          <a:xfrm>
            <a:off x="518148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127080" y="1523880"/>
            <a:ext cx="48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ột người thợ cần làm một thùng hình lập phương chứa được đúng 64 lít nướ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ỏi người thợ đó phải chọn độ dài cạnh của thùng là bao nhiêu đêxim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1390680" y="3011400"/>
            <a:ext cx="1585440" cy="1430280"/>
            <a:chOff x="1390680" y="3011400"/>
            <a:chExt cx="1585440" cy="1430280"/>
          </a:xfrm>
        </p:grpSpPr>
        <p:sp>
          <p:nvSpPr>
            <p:cNvPr id="95" name="AutoShape 6"/>
            <p:cNvSpPr/>
            <p:nvPr/>
          </p:nvSpPr>
          <p:spPr>
            <a:xfrm>
              <a:off x="1390680" y="3011400"/>
              <a:ext cx="1582920" cy="1430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1740240" y="3011400"/>
              <a:ext cx="10440" cy="1084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"/>
            <p:cNvSpPr/>
            <p:nvPr/>
          </p:nvSpPr>
          <p:spPr>
            <a:xfrm flipV="1">
              <a:off x="1390680" y="4095720"/>
              <a:ext cx="360000" cy="345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 flipH="1">
              <a:off x="1773000" y="409608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5"/>
          <p:cNvGrpSpPr/>
          <p:nvPr/>
        </p:nvGrpSpPr>
        <p:grpSpPr>
          <a:xfrm>
            <a:off x="1068120" y="3711600"/>
            <a:ext cx="1060560" cy="1012680"/>
            <a:chOff x="1068120" y="3711600"/>
            <a:chExt cx="1060560" cy="1012680"/>
          </a:xfrm>
        </p:grpSpPr>
        <p:sp>
          <p:nvSpPr>
            <p:cNvPr id="100" name="Text Box 12"/>
            <p:cNvSpPr/>
            <p:nvPr/>
          </p:nvSpPr>
          <p:spPr>
            <a:xfrm>
              <a:off x="1845720" y="4386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1068120" y="3711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601280" y="408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6"/>
          <p:cNvSpPr/>
          <p:nvPr/>
        </p:nvSpPr>
        <p:spPr>
          <a:xfrm>
            <a:off x="2972160" y="35812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64 lí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1752480" y="3483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x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6"/>
          <p:cNvSpPr/>
          <p:nvPr/>
        </p:nvSpPr>
        <p:spPr>
          <a:xfrm>
            <a:off x="4056120" y="35812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64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312408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Hình lập phư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1"/>
          <p:cNvSpPr/>
          <p:nvPr/>
        </p:nvSpPr>
        <p:spPr>
          <a:xfrm>
            <a:off x="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1"/>
          <p:cNvSpPr/>
          <p:nvPr/>
        </p:nvSpPr>
        <p:spPr>
          <a:xfrm>
            <a:off x="76320" y="11430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ài toán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4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0" y="2971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óm tắ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438280" y="4519440"/>
            <a:ext cx="2514600" cy="21639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8"/>
          <p:cNvSpPr/>
          <p:nvPr/>
        </p:nvSpPr>
        <p:spPr>
          <a:xfrm>
            <a:off x="3427560" y="3325680"/>
            <a:ext cx="1677960" cy="865440"/>
          </a:xfrm>
          <a:prstGeom prst="cloudCallout">
            <a:avLst>
              <a:gd name="adj1" fmla="val -23175"/>
              <a:gd name="adj2" fmla="val 13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? 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8"/>
          <p:cNvSpPr/>
          <p:nvPr/>
        </p:nvSpPr>
        <p:spPr>
          <a:xfrm>
            <a:off x="518148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286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1390680" y="2743200"/>
            <a:ext cx="1585440" cy="1430280"/>
            <a:chOff x="1390680" y="2743200"/>
            <a:chExt cx="1585440" cy="1430280"/>
          </a:xfrm>
        </p:grpSpPr>
        <p:sp>
          <p:nvSpPr>
            <p:cNvPr id="117" name="AutoShape 6"/>
            <p:cNvSpPr/>
            <p:nvPr/>
          </p:nvSpPr>
          <p:spPr>
            <a:xfrm>
              <a:off x="1390680" y="2743200"/>
              <a:ext cx="1582920" cy="1430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1740240" y="2743200"/>
              <a:ext cx="10440" cy="1084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1390680" y="3827520"/>
              <a:ext cx="360000" cy="345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1773000" y="382788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1068120" y="3505320"/>
            <a:ext cx="1060560" cy="1012680"/>
            <a:chOff x="1068120" y="3505320"/>
            <a:chExt cx="1060560" cy="1012680"/>
          </a:xfrm>
        </p:grpSpPr>
        <p:sp>
          <p:nvSpPr>
            <p:cNvPr id="122" name="Text Box 12"/>
            <p:cNvSpPr/>
            <p:nvPr/>
          </p:nvSpPr>
          <p:spPr>
            <a:xfrm>
              <a:off x="1845720" y="4180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1068120" y="3505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>
              <a:off x="1576080" y="3840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6"/>
          <p:cNvSpPr/>
          <p:nvPr/>
        </p:nvSpPr>
        <p:spPr>
          <a:xfrm>
            <a:off x="2975400" y="35812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64 lí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752480" y="3214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6"/>
          <p:cNvSpPr/>
          <p:nvPr/>
        </p:nvSpPr>
        <p:spPr>
          <a:xfrm>
            <a:off x="4056120" y="35812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64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5181480" y="1009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ng thức tính thể tích hình lập phương cạnh có độ dài 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4"/>
          <p:cNvGraphicFramePr/>
          <p:nvPr/>
        </p:nvGraphicFramePr>
        <p:xfrm>
          <a:off x="6172200" y="1752480"/>
          <a:ext cx="99072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752480"/>
                    <a:ext cx="9907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8"/>
          <p:cNvSpPr/>
          <p:nvPr/>
        </p:nvSpPr>
        <p:spPr>
          <a:xfrm>
            <a:off x="0" y="40514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i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28600" y="4495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ọi  x (dm) là độ dài cạnh của thùng hình lập phương  (Đk: x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91040" y="54864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04920" y="5791320"/>
            <a:ext cx="41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độ dài cạnh của thùng l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75600" y="6248520"/>
            <a:ext cx="50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ừ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gười ta gọi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ăn bậc b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ủ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5"/>
          <p:cNvSpPr/>
          <p:nvPr/>
        </p:nvSpPr>
        <p:spPr>
          <a:xfrm>
            <a:off x="228600" y="5181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6"/>
          <p:cNvSpPr/>
          <p:nvPr/>
        </p:nvSpPr>
        <p:spPr>
          <a:xfrm>
            <a:off x="5270400" y="47242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ăn bậc b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ủ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i nà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152280" y="1371600"/>
            <a:ext cx="48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ột người thợ cần làm một thùng hình lập phương chứa được đúng 64 lít nướ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ỏi người thợ đó phải chọn độ dài cạnh của thùng là bao nhiêu đêxim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Rectangle 37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4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1"/>
          <p:cNvSpPr/>
          <p:nvPr/>
        </p:nvSpPr>
        <p:spPr>
          <a:xfrm>
            <a:off x="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76320" y="104148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ài toán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1"/>
          <p:cNvSpPr/>
          <p:nvPr/>
        </p:nvSpPr>
        <p:spPr>
          <a:xfrm>
            <a:off x="0" y="2666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óm tắ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5"/>
          <p:cNvSpPr/>
          <p:nvPr/>
        </p:nvSpPr>
        <p:spPr>
          <a:xfrm>
            <a:off x="1790640" y="51944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8"/>
          <p:cNvSpPr/>
          <p:nvPr/>
        </p:nvSpPr>
        <p:spPr>
          <a:xfrm>
            <a:off x="472428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0" y="1219320"/>
            <a:ext cx="44956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Định nghĩ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ăn bậc ba của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o cho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4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1"/>
          <p:cNvSpPr/>
          <p:nvPr/>
        </p:nvSpPr>
        <p:spPr>
          <a:xfrm>
            <a:off x="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52280" y="1981080"/>
            <a:ext cx="4496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ỗi số a đều có duy nhất một căn bậ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800600" y="762120"/>
            <a:ext cx="3809880" cy="76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 dụ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à căn bậc ba của 8, vì 2</a:t>
            </a:r>
            <a:r>
              <a:rPr b="0" lang="vi-VN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800600" y="1447920"/>
            <a:ext cx="4343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là căn bậc ba của -125, vì (-5)</a:t>
            </a:r>
            <a:r>
              <a:rPr b="0" lang="vi-VN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876920" y="2143080"/>
            <a:ext cx="4267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ỗi số có mấy căn bậc 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6"/>
          <p:cNvGrpSpPr/>
          <p:nvPr/>
        </p:nvGrpSpPr>
        <p:grpSpPr>
          <a:xfrm>
            <a:off x="76320" y="2362320"/>
            <a:ext cx="1675800" cy="474840"/>
            <a:chOff x="76320" y="2362320"/>
            <a:chExt cx="1675800" cy="474840"/>
          </a:xfrm>
        </p:grpSpPr>
        <p:sp>
          <p:nvSpPr>
            <p:cNvPr id="156" name="TextBox 41"/>
            <p:cNvSpPr/>
            <p:nvPr/>
          </p:nvSpPr>
          <p:spPr>
            <a:xfrm>
              <a:off x="76320" y="243828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í hiệu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24"/>
                <p:cNvSpPr txBox="1"/>
                <p:nvPr/>
              </p:nvSpPr>
              <p:spPr>
                <a:xfrm>
                  <a:off x="1142640" y="2362320"/>
                  <a:ext cx="6094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" name="Group 21"/>
          <p:cNvGrpSpPr/>
          <p:nvPr/>
        </p:nvGrpSpPr>
        <p:grpSpPr>
          <a:xfrm>
            <a:off x="4876920" y="2819520"/>
            <a:ext cx="2666520" cy="1143000"/>
            <a:chOff x="4876920" y="2819520"/>
            <a:chExt cx="2666520" cy="1143000"/>
          </a:xfrm>
        </p:grpSpPr>
        <p:sp>
          <p:nvSpPr>
            <p:cNvPr id="159" name="Line 6"/>
            <p:cNvSpPr/>
            <p:nvPr/>
          </p:nvSpPr>
          <p:spPr>
            <a:xfrm flipH="1">
              <a:off x="5484960" y="3276720"/>
              <a:ext cx="54612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1"/>
            <p:cNvSpPr/>
            <p:nvPr/>
          </p:nvSpPr>
          <p:spPr>
            <a:xfrm>
              <a:off x="4876920" y="2819520"/>
              <a:ext cx="26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ỉ số của că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2"/>
          <p:cNvGrpSpPr/>
          <p:nvPr/>
        </p:nvGrpSpPr>
        <p:grpSpPr>
          <a:xfrm>
            <a:off x="6458040" y="4191120"/>
            <a:ext cx="2685600" cy="520560"/>
            <a:chOff x="6458040" y="4191120"/>
            <a:chExt cx="2685600" cy="520560"/>
          </a:xfrm>
        </p:grpSpPr>
        <p:sp>
          <p:nvSpPr>
            <p:cNvPr id="162" name="Line 8"/>
            <p:cNvSpPr/>
            <p:nvPr/>
          </p:nvSpPr>
          <p:spPr>
            <a:xfrm flipH="1">
              <a:off x="6458040" y="4495680"/>
              <a:ext cx="1009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1"/>
            <p:cNvSpPr/>
            <p:nvPr/>
          </p:nvSpPr>
          <p:spPr>
            <a:xfrm>
              <a:off x="7467480" y="41911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ố lấy că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Object 28"/>
              <p:cNvSpPr txBox="1"/>
              <p:nvPr/>
            </p:nvSpPr>
            <p:spPr>
              <a:xfrm>
                <a:off x="5181480" y="3733920"/>
                <a:ext cx="1371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5" name="Text Box 7"/>
          <p:cNvSpPr/>
          <p:nvPr/>
        </p:nvSpPr>
        <p:spPr>
          <a:xfrm>
            <a:off x="5029200" y="5211720"/>
            <a:ext cx="388620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ép tìm căn bậc ba của một số gọi là phép khai căn bậc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3794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ận xét: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dương là số dương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âm là số âm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0 là chính số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152280" y="2987640"/>
            <a:ext cx="503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798640" y="1219320"/>
            <a:ext cx="38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5"/>
          <p:cNvGraphicFramePr/>
          <p:nvPr/>
        </p:nvGraphicFramePr>
        <p:xfrm>
          <a:off x="2057400" y="1219320"/>
          <a:ext cx="5475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547560" cy="47628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Text Box 12"/>
          <p:cNvSpPr/>
          <p:nvPr/>
        </p:nvSpPr>
        <p:spPr>
          <a:xfrm>
            <a:off x="892080" y="1219320"/>
            <a:ext cx="10670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276720" y="1219320"/>
            <a:ext cx="380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733920" y="1219320"/>
            <a:ext cx="380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191120" y="1219320"/>
            <a:ext cx="380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0"/>
          <p:cNvGraphicFramePr/>
          <p:nvPr/>
        </p:nvGraphicFramePr>
        <p:xfrm>
          <a:off x="838080" y="1828800"/>
          <a:ext cx="131616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1316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17"/>
          <p:cNvSpPr/>
          <p:nvPr/>
        </p:nvSpPr>
        <p:spPr>
          <a:xfrm>
            <a:off x="4724280" y="1219320"/>
            <a:ext cx="38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53352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ách tìm căn bậc ba bằng máy tính bỏ tú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38160" y="120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ấ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5181480" y="1295280"/>
                <a:ext cx="3812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71"/>
          <p:cNvSpPr/>
          <p:nvPr/>
        </p:nvSpPr>
        <p:spPr>
          <a:xfrm>
            <a:off x="25560" y="1841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ậ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2"/>
          <p:cNvGrpSpPr/>
          <p:nvPr/>
        </p:nvGrpSpPr>
        <p:grpSpPr>
          <a:xfrm>
            <a:off x="5867280" y="990720"/>
            <a:ext cx="3276720" cy="1447560"/>
            <a:chOff x="5867280" y="990720"/>
            <a:chExt cx="3276720" cy="1447560"/>
          </a:xfrm>
        </p:grpSpPr>
        <p:sp>
          <p:nvSpPr>
            <p:cNvPr id="185" name="AutoShape 7"/>
            <p:cNvSpPr/>
            <p:nvPr/>
          </p:nvSpPr>
          <p:spPr>
            <a:xfrm>
              <a:off x="5867280" y="990720"/>
              <a:ext cx="3276720" cy="1447560"/>
            </a:xfrm>
            <a:prstGeom prst="cloudCallout">
              <a:avLst>
                <a:gd name="adj1" fmla="val -58421"/>
                <a:gd name="adj2" fmla="val 195129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.VnTime"/>
                </a:rPr>
                <a:t>TÝnh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Object 18"/>
            <p:cNvGraphicFramePr/>
            <p:nvPr/>
          </p:nvGraphicFramePr>
          <p:xfrm>
            <a:off x="6913440" y="1569600"/>
            <a:ext cx="1231200" cy="59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7" name="Object 1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13440" y="1569600"/>
                      <a:ext cx="1231200" cy="59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8"/>
          <p:cNvSpPr/>
          <p:nvPr/>
        </p:nvSpPr>
        <p:spPr>
          <a:xfrm>
            <a:off x="464832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52280" y="1066680"/>
            <a:ext cx="44197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Định nghĩ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o cho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5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152280" y="609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35080" y="1866960"/>
            <a:ext cx="4717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ỗi số a đều có duy nhất một căn bậ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52280" y="2209680"/>
            <a:ext cx="1828800" cy="459360"/>
            <a:chOff x="152280" y="2209680"/>
            <a:chExt cx="1828800" cy="459360"/>
          </a:xfrm>
        </p:grpSpPr>
        <p:graphicFrame>
          <p:nvGraphicFramePr>
            <p:cNvPr id="196" name="Object 9"/>
            <p:cNvGraphicFramePr/>
            <p:nvPr/>
          </p:nvGraphicFramePr>
          <p:xfrm>
            <a:off x="1295280" y="2209680"/>
            <a:ext cx="457200" cy="43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209680"/>
                      <a:ext cx="45720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TextBox 41"/>
            <p:cNvSpPr/>
            <p:nvPr/>
          </p:nvSpPr>
          <p:spPr>
            <a:xfrm>
              <a:off x="152280" y="22701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í hiệu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1"/>
          <p:cNvGrpSpPr/>
          <p:nvPr/>
        </p:nvGrpSpPr>
        <p:grpSpPr>
          <a:xfrm>
            <a:off x="152280" y="2540160"/>
            <a:ext cx="2743200" cy="534960"/>
            <a:chOff x="152280" y="2540160"/>
            <a:chExt cx="2743200" cy="534960"/>
          </a:xfrm>
        </p:grpSpPr>
        <p:graphicFrame>
          <p:nvGraphicFramePr>
            <p:cNvPr id="200" name="Object 12"/>
            <p:cNvGraphicFramePr/>
            <p:nvPr/>
          </p:nvGraphicFramePr>
          <p:xfrm>
            <a:off x="990360" y="2540160"/>
            <a:ext cx="1905120" cy="53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1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360" y="2540160"/>
                      <a:ext cx="190512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Box 41"/>
            <p:cNvSpPr/>
            <p:nvPr/>
          </p:nvSpPr>
          <p:spPr>
            <a:xfrm>
              <a:off x="152280" y="266220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ú ý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"/>
          <p:cNvSpPr/>
          <p:nvPr/>
        </p:nvSpPr>
        <p:spPr>
          <a:xfrm>
            <a:off x="152280" y="30351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ận xét: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dương là số dương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âm là số âm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0 là chính số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5"/>
              <p:cNvSpPr txBox="1"/>
              <p:nvPr/>
            </p:nvSpPr>
            <p:spPr>
              <a:xfrm>
                <a:off x="4876920" y="4648320"/>
                <a:ext cx="3387600" cy="16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&lt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7"/>
          <p:cNvSpPr/>
          <p:nvPr/>
        </p:nvSpPr>
        <p:spPr>
          <a:xfrm>
            <a:off x="4724280" y="4181400"/>
            <a:ext cx="4419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ột số tính chất của căn bậc 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41200" y="4305240"/>
            <a:ext cx="1752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 Tính chấ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4"/>
              <p:cNvSpPr txBox="1"/>
              <p:nvPr/>
            </p:nvSpPr>
            <p:spPr>
              <a:xfrm>
                <a:off x="380880" y="4724280"/>
                <a:ext cx="2514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⇔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&lt;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5"/>
              <p:cNvSpPr txBox="1"/>
              <p:nvPr/>
            </p:nvSpPr>
            <p:spPr>
              <a:xfrm>
                <a:off x="380880" y="5181480"/>
                <a:ext cx="2032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6"/>
              <p:cNvSpPr txBox="1"/>
              <p:nvPr/>
            </p:nvSpPr>
            <p:spPr>
              <a:xfrm>
                <a:off x="380880" y="5562720"/>
                <a:ext cx="2387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 Box 75"/>
          <p:cNvSpPr/>
          <p:nvPr/>
        </p:nvSpPr>
        <p:spPr>
          <a:xfrm>
            <a:off x="4871880" y="4316400"/>
            <a:ext cx="5050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3924360" cy="239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7566120" y="2157480"/>
            <a:ext cx="1695240" cy="1195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7551720" y="2763720"/>
            <a:ext cx="1830240" cy="596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4"/>
          <a:stretch/>
        </p:blipFill>
        <p:spPr>
          <a:xfrm>
            <a:off x="7575480" y="2819520"/>
            <a:ext cx="1695600" cy="1046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5"/>
          <a:stretch/>
        </p:blipFill>
        <p:spPr>
          <a:xfrm>
            <a:off x="3124080" y="1104840"/>
            <a:ext cx="2775240" cy="2405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6"/>
          <a:stretch/>
        </p:blipFill>
        <p:spPr>
          <a:xfrm>
            <a:off x="1920960" y="2381400"/>
            <a:ext cx="1879560" cy="1035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7"/>
          <a:stretch/>
        </p:blipFill>
        <p:spPr>
          <a:xfrm>
            <a:off x="1736640" y="2892600"/>
            <a:ext cx="2073240" cy="54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8"/>
          <a:stretch/>
        </p:blipFill>
        <p:spPr>
          <a:xfrm>
            <a:off x="1936800" y="2892600"/>
            <a:ext cx="1863720" cy="1049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9"/>
          <a:stretch/>
        </p:blipFill>
        <p:spPr>
          <a:xfrm>
            <a:off x="4191120" y="838080"/>
            <a:ext cx="185400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11"/>
          <p:cNvGraphicFramePr/>
          <p:nvPr/>
        </p:nvGraphicFramePr>
        <p:xfrm>
          <a:off x="160200" y="2284560"/>
          <a:ext cx="2203560" cy="37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200" y="2284560"/>
                    <a:ext cx="22035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2"/>
          <p:cNvGraphicFramePr/>
          <p:nvPr/>
        </p:nvGraphicFramePr>
        <p:xfrm>
          <a:off x="163440" y="2779560"/>
          <a:ext cx="1816200" cy="460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3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3440" y="2779560"/>
                    <a:ext cx="1816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13"/>
          <p:cNvGraphicFramePr/>
          <p:nvPr/>
        </p:nvGraphicFramePr>
        <p:xfrm>
          <a:off x="157320" y="3387600"/>
          <a:ext cx="2205000" cy="114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5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7320" y="3387600"/>
                    <a:ext cx="22050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6"/>
          <p:cNvSpPr/>
          <p:nvPr/>
        </p:nvSpPr>
        <p:spPr>
          <a:xfrm>
            <a:off x="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4452840" y="154764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66680" y="1549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ăn bậc h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410080" y="1549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ăn bậc 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0" y="214776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Chỉ có số ..................... mới có căn bậc h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4432320" y="2209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ọi số đều có 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0" y="281952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ố dương có ......... căn bậc hai là hai số đối nha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411800" y="272736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ất kỳ số nào cũng chỉ có ........................... căn bậ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0"/>
          <p:cNvGraphicFramePr/>
          <p:nvPr/>
        </p:nvGraphicFramePr>
        <p:xfrm>
          <a:off x="0" y="3581280"/>
          <a:ext cx="270180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1280"/>
                    <a:ext cx="27018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1"/>
          <p:cNvGraphicFramePr/>
          <p:nvPr/>
        </p:nvGraphicFramePr>
        <p:xfrm>
          <a:off x="4495680" y="3505320"/>
          <a:ext cx="175284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05320"/>
                    <a:ext cx="17528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Line 3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2819520" y="3657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(§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.......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1384200" y="21351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kh«ng 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6172200" y="2197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c¨n bË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4925880" y="30099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duy nhÊt m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1803240" y="28065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4"/>
          <p:cNvGrpSpPr/>
          <p:nvPr/>
        </p:nvGrpSpPr>
        <p:grpSpPr>
          <a:xfrm>
            <a:off x="3352680" y="3581280"/>
            <a:ext cx="1523880" cy="398880"/>
            <a:chOff x="3352680" y="3581280"/>
            <a:chExt cx="1523880" cy="398880"/>
          </a:xfrm>
        </p:grpSpPr>
        <p:sp>
          <p:nvSpPr>
            <p:cNvPr id="247" name="Text Box 32"/>
            <p:cNvSpPr/>
            <p:nvPr/>
          </p:nvSpPr>
          <p:spPr>
            <a:xfrm>
              <a:off x="3352680" y="358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 </a:t>
              </a: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    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8" name="Object 22"/>
            <p:cNvGraphicFramePr/>
            <p:nvPr/>
          </p:nvGraphicFramePr>
          <p:xfrm>
            <a:off x="3657240" y="3581280"/>
            <a:ext cx="254160" cy="30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240" y="3581280"/>
                      <a:ext cx="2541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0" name="Text Box 35"/>
          <p:cNvSpPr/>
          <p:nvPr/>
        </p:nvSpPr>
        <p:spPr>
          <a:xfrm>
            <a:off x="5689440" y="3429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6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ãy điền và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ấu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...) để thấy được điều </a:t>
            </a:r>
            <a:r>
              <a:rPr b="0" i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hác nhau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ữa </a:t>
            </a:r>
            <a:r>
              <a:rPr b="0" i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ăn bậc hai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à</a:t>
            </a:r>
            <a:r>
              <a:rPr b="0" i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ăn bậc 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9"/>
          <p:cNvSpPr/>
          <p:nvPr/>
        </p:nvSpPr>
        <p:spPr>
          <a:xfrm>
            <a:off x="4419720" y="3962520"/>
            <a:ext cx="5146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ăn bậc ba của số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ơng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0"/>
          <p:cNvSpPr/>
          <p:nvPr/>
        </p:nvSpPr>
        <p:spPr>
          <a:xfrm>
            <a:off x="7162920" y="4546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ố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76320" y="499104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ố 0 có một căn bậc hai là 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4484520" y="4572000"/>
            <a:ext cx="49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ăn bậc ba của số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m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7467480" y="39495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ố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ươ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4495680" y="50752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ố 0 có một căn bậc ba là 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2895480" y="4965840"/>
            <a:ext cx="8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39152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17:37:33Z</dcterms:created>
  <dc:creator>Vinaghost.Com</dc:creator>
  <dc:description/>
  <dc:language>en-US</dc:language>
  <cp:lastModifiedBy>Admin</cp:lastModifiedBy>
  <dcterms:modified xsi:type="dcterms:W3CDTF">2020-10-14T15:24:43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