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jpeg" ContentType="image/jpeg"/>
  <Override PartName="/ppt/media/image10.jpeg" ContentType="image/jpeg"/>
  <Override PartName="/ppt/media/image25.gif" ContentType="image/gif"/>
  <Override PartName="/ppt/media/image9.png" ContentType="image/png"/>
  <Override PartName="/ppt/media/image8.gif" ContentType="image/gif"/>
  <Override PartName="/ppt/media/image12.jpeg" ContentType="image/jpeg"/>
  <Override PartName="/ppt/media/image7.jpeg" ContentType="image/jpeg"/>
  <Override PartName="/ppt/media/image6.png" ContentType="image/png"/>
  <Override PartName="/ppt/media/image3.gif" ContentType="image/gif"/>
  <Override PartName="/ppt/media/image5.wmf" ContentType="image/x-wmf"/>
  <Override PartName="/ppt/media/image11.jpeg" ContentType="image/jpeg"/>
  <Override PartName="/ppt/media/image4.gif" ContentType="image/gif"/>
  <Override PartName="/ppt/media/image1.jpeg" ContentType="image/jpeg"/>
  <Override PartName="/ppt/media/image22.jpeg" ContentType="image/jpeg"/>
  <Override PartName="/ppt/media/image27.png" ContentType="image/png"/>
  <Override PartName="/ppt/media/image24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wmf" ContentType="image/x-wmf"/>
  <Override PartName="/ppt/media/image26.png" ContentType="image/png"/>
  <Override PartName="/ppt/media/image17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1A18-E0D2-4727-9763-A57FDA9DC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6964-49B8-4B93-A6EF-23C774573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D095-D0CD-432A-921F-F25E730B5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0E93-022D-4DA5-AC0E-DD833890A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92032-07DD-489C-8365-F1F8DED4F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81464-C797-4F32-8947-86A89AC6F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66E32-D026-455F-8BE0-D32822D1F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A1D14-51EA-414B-B6CC-E6EF6F017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93612-C9A9-4B42-8B80-40DB44955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8143A-CC29-4B0E-8580-4CE7B9954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8093D-D92D-4758-AB91-A84637B58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FA04-E4BF-4DB1-B18B-4A67F4441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540D2-BB8D-49E6-9810-6AF4C35BA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AB811-EC25-40F4-A695-A181D2560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B2686-9624-492E-8EE6-E92E19D3B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6607D-7BAC-4A9A-8192-936F77B39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6BDF6-FDFF-4657-9A68-35432A64E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81EC5D-9060-4FE8-B670-4767CDC1F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741254-7283-4A85-9977-4BA58D25C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C649CF-1791-48AD-B0EE-E25331F3F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76F77E-BADE-47B2-B2CF-2602400B0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1C5315-E37F-40DE-B197-90DE5BD89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0F4E-D962-48FF-88C9-89B6DBDB4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8AD730-DF13-4105-B43E-7E3AF42F7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815FF8-06CB-438D-8E56-88ECB1A7D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B62927-5E0C-46FE-93CE-032565097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CF7B44-4577-4289-A4BE-84F1694AB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A2FD27-3214-4C88-9C49-0E3DAC641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8F5E93-413C-4E7C-B961-7DE5E8BF2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E3A7CC-8FCE-4171-94F4-48E36F52F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DBD9-B6B2-4C52-A064-9915F649E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575D-B88C-44C5-935D-AE67EB676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DC72-2662-4B0A-BFCC-84F19AE03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3C6D-E0A0-4937-A2A8-141C99157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F3D5-A3E6-4726-B7CA-1DD1BDBBA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F606-39A2-4936-BCB7-73F91706C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BED8A-3150-4D34-A7B3-E6574ED957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B7C66-E32B-4634-8A92-02B77E3CE8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69E19-115A-4162-9756-9F3B735759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image" Target="../media/image5.wmf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6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5.gif"/><Relationship Id="rId7" Type="http://schemas.openxmlformats.org/officeDocument/2006/relationships/image" Target="../media/image26.png"/><Relationship Id="rId8" Type="http://schemas.openxmlformats.org/officeDocument/2006/relationships/image" Target="../media/image26.png"/><Relationship Id="rId9" Type="http://schemas.openxmlformats.org/officeDocument/2006/relationships/image" Target="../media/image27.png"/><Relationship Id="rId10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8.wmf"/><Relationship Id="rId3" Type="http://schemas.openxmlformats.org/officeDocument/2006/relationships/image" Target="../media/image18.wmf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8.wmf"/><Relationship Id="rId3" Type="http://schemas.openxmlformats.org/officeDocument/2006/relationships/image" Target="../media/image18.wmf"/><Relationship Id="rId4" Type="http://schemas.openxmlformats.org/officeDocument/2006/relationships/image" Target="../media/image18.wmf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image" Target="../media/image22.jpe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17" descr="blumen-pflanzen111"/>
          <p:cNvPicPr/>
          <p:nvPr/>
        </p:nvPicPr>
        <p:blipFill>
          <a:blip r:embed="rId1"/>
          <a:stretch/>
        </p:blipFill>
        <p:spPr>
          <a:xfrm>
            <a:off x="7315200" y="0"/>
            <a:ext cx="1828800" cy="18954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8" descr="blumen-pflanzen042"/>
          <p:cNvPicPr/>
          <p:nvPr/>
        </p:nvPicPr>
        <p:blipFill>
          <a:blip r:embed="rId2"/>
          <a:stretch/>
        </p:blipFill>
        <p:spPr>
          <a:xfrm>
            <a:off x="0" y="-76320"/>
            <a:ext cx="2666880" cy="182880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9"/>
          <p:cNvSpPr/>
          <p:nvPr/>
        </p:nvSpPr>
        <p:spPr>
          <a:xfrm>
            <a:off x="0" y="41148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.VnTimeH"/>
              </a:rPr>
              <a:t>Gi¸o viªn thùc hiÖn: NguyÔn ThÞ Quyª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.VnTimeH"/>
              </a:rPr>
              <a:t>Tr­êng THCS §×nh Tæ – ThuËn Thµnh – B¾c Nin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20" descr="Picture5"/>
          <p:cNvPicPr/>
          <p:nvPr/>
        </p:nvPicPr>
        <p:blipFill>
          <a:blip r:embed="rId3"/>
          <a:stretch/>
        </p:blipFill>
        <p:spPr>
          <a:xfrm>
            <a:off x="6629400" y="4340160"/>
            <a:ext cx="2514600" cy="25178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1" descr="Frames PPT 014"/>
          <p:cNvPicPr/>
          <p:nvPr/>
        </p:nvPicPr>
        <p:blipFill>
          <a:blip r:embed="rId4"/>
          <a:stretch/>
        </p:blipFill>
        <p:spPr>
          <a:xfrm>
            <a:off x="0" y="-763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 txBox="1"/>
          <p:nvPr/>
        </p:nvSpPr>
        <p:spPr>
          <a:xfrm>
            <a:off x="1600200" y="2057400"/>
            <a:ext cx="60199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0">
                  <a:noFill/>
                </a:ln>
                <a:solidFill>
                  <a:srgbClr val="0000ff"/>
                </a:solidFill>
                <a:latin typeface="Times New Roman"/>
              </a:rPr>
              <a:t>Lịch sử lớp 7</a:t>
            </a:r>
            <a:endParaRPr b="1" lang="en-US" sz="9600" spc="1" strike="noStrike">
              <a:ln w="0">
                <a:noFill/>
              </a:ln>
              <a:solidFill>
                <a:srgbClr val="0000ff"/>
              </a:solidFill>
              <a:latin typeface="Times New Roman"/>
              <a:ea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2943360" y="3276720"/>
            <a:ext cx="3305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.VnTifani HeavyH"/>
              </a:rPr>
              <a:t>Bµi 23 phÇn II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.VnTifani HeavyH"/>
              <a:ea typeface=".VnTifani Heavy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95 0.00763 L -0.65833 0.00763 E">
                                      <p:cBhvr>
                                        <p:cTn id="6" dur="10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0000"/>
                            </p:stCondLst>
                            <p:childTnLst>
                              <p:par>
                                <p:cTn id="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1000"/>
                            </p:stCondLst>
                            <p:childTnLst>
                              <p:par>
                                <p:cTn id="12" nodeType="after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4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5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6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1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5000"/>
                            </p:stCondLst>
                            <p:childTnLst>
                              <p:par>
                                <p:cTn id="21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" dur="5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5000"/>
                            </p:stCondLst>
                            <p:childTnLst>
                              <p:par>
                                <p:cTn id="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5500"/>
                            </p:stCondLst>
                            <p:childTnLst>
                              <p:par>
                                <p:cTn id="32" nodeType="afterEffect" fill="hold" presetClass="emph" presetID="2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3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1724040" y="228600"/>
            <a:ext cx="5695920" cy="69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.VnTifani HeavyH"/>
              </a:rPr>
              <a:t>LuyÖn tËp cñng cè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.VnTifani HeavyH"/>
              <a:ea typeface=".VnTifani HeavyH"/>
            </a:endParaRPr>
          </a:p>
        </p:txBody>
      </p:sp>
      <p:sp>
        <p:nvSpPr>
          <p:cNvPr id="226" name=""/>
          <p:cNvSpPr/>
          <p:nvPr/>
        </p:nvSpPr>
        <p:spPr>
          <a:xfrm>
            <a:off x="380880" y="1176480"/>
            <a:ext cx="8382240" cy="33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.VnAvant"/>
              </a:rPr>
              <a:t>Qua bµi häc c¸c em cÇn n¨m ®­î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99"/>
              </a:buClr>
              <a:buFont typeface=".VnAvan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.VnAvant"/>
              </a:rPr>
              <a:t>Tõ thÕ kØ XVI – XVIII ë n­íc ta tån t¹i c¸c lo¹i h×nh t«n gi¸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.VnAvant"/>
              </a:rPr>
              <a:t>+ Nho gi¸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.VnAvant"/>
              </a:rPr>
              <a:t>+ PhËt gi¸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.VnAvant"/>
              </a:rPr>
              <a:t>+ §¹o gi¸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.VnAvant"/>
              </a:rPr>
              <a:t>+ Thiªn chóa gi¸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.VnAvant"/>
              </a:rPr>
              <a:t>2. Sù xuÊt hiÖn cña ch÷ Quèc ng÷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.VnAvant"/>
              </a:rPr>
              <a:t>3. Thµnh tùu vÒ v¨n häc vµ nghÖ thuËt d©n gi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1724040" y="228600"/>
            <a:ext cx="5695920" cy="69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.VnTifani HeavyH"/>
              </a:rPr>
              <a:t>LuyÖn tËp cñng cè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.VnTifani HeavyH"/>
              <a:ea typeface=".VnTifani HeavyH"/>
            </a:endParaRPr>
          </a:p>
        </p:txBody>
      </p:sp>
      <p:sp>
        <p:nvSpPr>
          <p:cNvPr id="228" name=""/>
          <p:cNvSpPr/>
          <p:nvPr/>
        </p:nvSpPr>
        <p:spPr>
          <a:xfrm>
            <a:off x="304920" y="228600"/>
            <a:ext cx="853416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.VnTime"/>
              </a:rPr>
              <a:t>Bµi tËp 1: H·y ®iÒn tõ ng÷ thÝch hîp vµo chç trèng</a:t>
            </a:r>
            <a:r>
              <a:rPr b="0" lang="en-US" sz="2800" spc="-1" strike="noStrike">
                <a:solidFill>
                  <a:srgbClr val="ffff99"/>
                </a:solidFill>
                <a:latin typeface=".VnTim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14400" y="1752480"/>
            <a:ext cx="7086600" cy="4800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.VnTime"/>
              </a:rPr>
              <a:t>“</a:t>
            </a:r>
            <a:r>
              <a:rPr b="1" lang="en-US" sz="2800" spc="-1" strike="noStrike">
                <a:solidFill>
                  <a:srgbClr val="ff3300"/>
                </a:solidFill>
                <a:latin typeface=".VnTimeH"/>
              </a:rPr>
              <a:t>ë</a:t>
            </a:r>
            <a:r>
              <a:rPr b="1" lang="en-US" sz="2800" spc="-1" strike="noStrike">
                <a:solidFill>
                  <a:srgbClr val="ff3300"/>
                </a:solidFill>
                <a:latin typeface=".VnTime"/>
              </a:rPr>
              <a:t> thÕ kØ XVI – XVII, …. ……          vÉn ®­îc chÝnh quyÒn ®Ò cao trong häc tËp, thi cö vµ tuyÓn lùa quan l¹i, ………..vµ…..............        bÞ h¹n chÕ ë thÕ kØ XV , nay l¹i ®­îc phôc håi. Trong n«ng th«n, nh©n d©n ta vÉn gi÷ nÒ nÕp v¨n hãa……………….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343400" y="1676520"/>
            <a:ext cx="21337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.VnTime"/>
              </a:rPr>
              <a:t>Nho gi¸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80880" y="2895480"/>
            <a:ext cx="21337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.VnTime"/>
              </a:rPr>
              <a:t>PhËt gi¸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048120" y="2971800"/>
            <a:ext cx="25905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.VnTime"/>
              </a:rPr>
              <a:t>§¹o gi¸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981080" y="4191120"/>
            <a:ext cx="2667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.VnTime"/>
              </a:rPr>
              <a:t>truyÒn thè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7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3300"/>
                </a:solidFill>
                <a:latin typeface=".VnTime"/>
              </a:rPr>
              <a:t>Bµi tËp 2. Tr¹ng Tr×nh lµ tªn d©n gian cña ai?</a:t>
            </a:r>
            <a:endParaRPr b="0" lang="en-US" sz="5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1295280" y="3276360"/>
            <a:ext cx="64008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.VnTime"/>
              </a:rPr>
              <a:t>b. NguyÔn BØnh Khiªm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295280" y="2438280"/>
            <a:ext cx="6400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.VnTime"/>
              </a:rPr>
              <a:t>a. L­¬ng ThÕ Vin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295280" y="4038480"/>
            <a:ext cx="64008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.VnTime"/>
              </a:rPr>
              <a:t>c. Vò H÷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295280" y="4876920"/>
            <a:ext cx="64008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.VnTime"/>
              </a:rPr>
              <a:t>d. L­¬ng §¾c B»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914400" y="3276720"/>
            <a:ext cx="914400" cy="6094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2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1905120" y="533520"/>
            <a:ext cx="54864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cc"/>
                </a:solidFill>
                <a:latin typeface=".VnBodoni"/>
              </a:rPr>
              <a:t>H­íng dÉn vÒ nh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cc"/>
              </a:solidFill>
              <a:latin typeface=".VnBodoni"/>
              <a:ea typeface=".VnBodoni"/>
            </a:endParaRPr>
          </a:p>
        </p:txBody>
      </p:sp>
      <p:sp>
        <p:nvSpPr>
          <p:cNvPr id="241" name=""/>
          <p:cNvSpPr/>
          <p:nvPr/>
        </p:nvSpPr>
        <p:spPr>
          <a:xfrm>
            <a:off x="888840" y="1866960"/>
            <a:ext cx="641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.VnAvan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.VnAvant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.VnAvant"/>
              </a:rPr>
              <a:t>Häc bµi vµ tr¶ Lêi c¸c c©u hái 1, 2, 3 SG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.VnAvant"/>
              </a:rPr>
              <a:t>- §äc tr­íc bµi 24 SG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609480" y="3060720"/>
            <a:ext cx="7848720" cy="11304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00ff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.VnTimeH"/>
              </a:rPr>
              <a:t>Xin ch©n thµnh c¶m ¬n</a:t>
            </a:r>
            <a:endParaRPr b="1" lang="en-US" sz="4400" spc="1" strike="noStrike">
              <a:ln w="0">
                <a:noFill/>
              </a:ln>
              <a:solidFill>
                <a:srgbClr val="00ff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.VnTimeH"/>
              <a:ea typeface=".VnTimeH"/>
            </a:endParaRPr>
          </a:p>
        </p:txBody>
      </p:sp>
      <p:sp>
        <p:nvSpPr>
          <p:cNvPr id="243" name=""/>
          <p:cNvSpPr/>
          <p:nvPr/>
        </p:nvSpPr>
        <p:spPr>
          <a:xfrm>
            <a:off x="609480" y="5943600"/>
            <a:ext cx="304920" cy="380880"/>
          </a:xfrm>
          <a:custGeom>
            <a:avLst/>
            <a:gdLst>
              <a:gd name="textAreaLeft" fmla="*/ 125640 w 304920"/>
              <a:gd name="textAreaRight" fmla="*/ 179280 w 30492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447920" y="5715000"/>
            <a:ext cx="304560" cy="380880"/>
          </a:xfrm>
          <a:custGeom>
            <a:avLst/>
            <a:gdLst>
              <a:gd name="textAreaLeft" fmla="*/ 125280 w 304560"/>
              <a:gd name="textAreaRight" fmla="*/ 179280 w 30456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029200" y="5486400"/>
            <a:ext cx="304920" cy="380880"/>
          </a:xfrm>
          <a:custGeom>
            <a:avLst/>
            <a:gdLst>
              <a:gd name="textAreaLeft" fmla="*/ 125640 w 304920"/>
              <a:gd name="textAreaRight" fmla="*/ 179280 w 30492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438280" y="5943600"/>
            <a:ext cx="304920" cy="380880"/>
          </a:xfrm>
          <a:custGeom>
            <a:avLst/>
            <a:gdLst>
              <a:gd name="textAreaLeft" fmla="*/ 125640 w 304920"/>
              <a:gd name="textAreaRight" fmla="*/ 179280 w 30492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505320" y="6172200"/>
            <a:ext cx="304560" cy="380880"/>
          </a:xfrm>
          <a:custGeom>
            <a:avLst/>
            <a:gdLst>
              <a:gd name="textAreaLeft" fmla="*/ 125280 w 304560"/>
              <a:gd name="textAreaRight" fmla="*/ 179280 w 30456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248520" y="5943600"/>
            <a:ext cx="304560" cy="380880"/>
          </a:xfrm>
          <a:custGeom>
            <a:avLst/>
            <a:gdLst>
              <a:gd name="textAreaLeft" fmla="*/ 125280 w 304560"/>
              <a:gd name="textAreaRight" fmla="*/ 179280 w 30456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772400" y="6019920"/>
            <a:ext cx="304920" cy="380880"/>
          </a:xfrm>
          <a:custGeom>
            <a:avLst/>
            <a:gdLst>
              <a:gd name="textAreaLeft" fmla="*/ 125640 w 304920"/>
              <a:gd name="textAreaRight" fmla="*/ 179280 w 30492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>
            <a:lum bright="-6000"/>
          </a:blip>
          <a:stretch/>
        </p:blipFill>
        <p:spPr>
          <a:xfrm>
            <a:off x="-9360" y="0"/>
            <a:ext cx="558720" cy="403848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3">
            <a:lum bright="-6000"/>
          </a:blip>
          <a:stretch/>
        </p:blipFill>
        <p:spPr>
          <a:xfrm>
            <a:off x="8591400" y="0"/>
            <a:ext cx="559080" cy="403848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4">
            <a:lum bright="-6000"/>
          </a:blip>
          <a:stretch/>
        </p:blipFill>
        <p:spPr>
          <a:xfrm>
            <a:off x="-9360" y="2895480"/>
            <a:ext cx="558720" cy="403884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5">
            <a:lum bright="-6000"/>
          </a:blip>
          <a:stretch/>
        </p:blipFill>
        <p:spPr>
          <a:xfrm>
            <a:off x="8680320" y="2819520"/>
            <a:ext cx="559080" cy="403848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6"/>
          <a:stretch/>
        </p:blipFill>
        <p:spPr>
          <a:xfrm>
            <a:off x="3200400" y="0"/>
            <a:ext cx="3105000" cy="328608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7">
            <a:lum bright="-6000"/>
          </a:blip>
          <a:stretch/>
        </p:blipFill>
        <p:spPr>
          <a:xfrm>
            <a:off x="304920" y="0"/>
            <a:ext cx="4038480" cy="55872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8">
            <a:lum bright="-6000"/>
          </a:blip>
          <a:stretch/>
        </p:blipFill>
        <p:spPr>
          <a:xfrm>
            <a:off x="4572000" y="0"/>
            <a:ext cx="4038480" cy="55872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9"/>
          <a:stretch/>
        </p:blipFill>
        <p:spPr>
          <a:xfrm>
            <a:off x="457200" y="380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0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withEffect" fill="hold" presetClass="path" presetID="0" repeatCount="10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052 -0.00347 -0.00052 -0.00741 -0.00139 -0.01088 C -0.00191 -0.01366 -0.00365 -0.01574 -0.00417 -0.01852 C -0.00938 -0.04861 -0.00955 -0.08218 -0.01111 -0.11273 C -0.01164 -0.19676 -0.01164 -0.28056 -0.0125 -0.36459 C -0.01268 -0.38171 -0.01875 -0.40139 -0.02084 -0.41829 C -0.02587 -0.4588 -0.03091 -0.49954 -0.03334 -0.54051 C -0.03559 -0.64167 -0.03559 -0.61644 -0.03334 -0.75903 C -0.03316 -0.77338 -0.0316 -0.78681 -0.01945 -0.78681 E">
                                      <p:cBhvr>
                                        <p:cTn id="588" dur="2000" fill="hold"/>
                                        <p:tgtEl>
                                          <p:spTgt spid="2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9" nodeType="withEffect" fill="hold" presetClass="path" presetID="0" repeatCount="10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559 0.00324 C 0.03507 -1.11110999999981E-006 0.03507 -0.00417 0.0342 -0.00741 C 0.03368 -0.01042 0.03194 -0.0125 0.03142 -0.01505 C 0.02622 -0.04514 0.02604 -0.07893 0.02448 -0.10949 C 0.02396 -0.19329 0.02396 -0.27731 0.02309 -0.36111 C 0.02292 -0.37824 0.01684 -0.39815 0.01476 -0.41481 C 0.00972 -0.45532 0.00469 -0.49606 0.00226 -0.53727 C 0 -0.63842 0 -0.61296 0.00226 -0.75555 C 0.00243 -0.76991 0.00399 -0.78333 0.01615 -0.78333 E">
                                      <p:cBhvr>
                                        <p:cTn id="590" dur="2000" fill="hold"/>
                                        <p:tgtEl>
                                          <p:spTgt spid="2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1" nodeType="withEffect" fill="hold" presetClass="path" presetID="0" repeatCount="10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052 -0.00347 -0.00052 -0.00741 -0.00139 -0.01088 C -0.00191 -0.01366 -0.00365 -0.01574 -0.00417 -0.01852 C -0.00938 -0.04861 -0.00955 -0.08218 -0.01111 -0.11273 C -0.01164 -0.19676 -0.01164 -0.28056 -0.0125 -0.36459 C -0.01268 -0.38171 -0.01875 -0.40139 -0.02084 -0.41829 C -0.02587 -0.4588 -0.03091 -0.49954 -0.03334 -0.54051 C -0.03559 -0.64167 -0.03559 -0.61644 -0.03334 -0.75903 C -0.03316 -0.77338 -0.0316 -0.78681 -0.01945 -0.78681 E">
                                      <p:cBhvr>
                                        <p:cTn id="592" dur="2000" fill="hold"/>
                                        <p:tgtEl>
                                          <p:spTgt spid="2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3" nodeType="withEffect" fill="hold" presetClass="path" presetID="0" repeatCount="10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893 0.03658 C 0.01841 0.03334 0.01841 0.02917 0.01754 0.02593 C 0.01702 0.02292 0.01528 0.02084 0.01476 0.01829 C 0.00955 -0.0118 0.00938 -0.0456 0.00782 -0.07615 C 0.0073 -0.15995 0.0073 -0.24398 0.00643 -0.32777 C 0.00625 -0.3449 0.00018 -0.36458 -0.00191 -0.38148 C -0.00694 -0.42199 -0.01198 -0.46273 -0.01441 -0.50393 C -0.01666 -0.60486 -0.01666 -0.57963 -0.01441 -0.72222 C -0.01423 -0.73657 -0.01267 -0.75 -0.00052 -0.75 E">
                                      <p:cBhvr>
                                        <p:cTn id="594" dur="2000" fill="hold"/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5" nodeType="withEffect" fill="hold" presetClass="path" presetID="0" repeatCount="10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559 -0.06343 C 0.03507 -0.06667 0.03507 -0.07084 0.0342 -0.07408 C 0.03368 -0.07709 0.03194 -0.07917 0.03142 -0.08172 C 0.02622 -0.11181 0.02604 -0.1456 0.02448 -0.17616 C 0.02396 -0.25996 0.02396 -0.34398 0.02309 -0.42778 C 0.02292 -0.44491 0.01684 -0.46482 0.01476 -0.48148 C 0.00972 -0.52199 0.00469 -0.56273 0.00226 -0.60394 C 0 -0.70509 0 -0.67963 0.00226 -0.82222 C 0.00243 -0.83658 0.00399 -0.85 0.01615 -0.85 E">
                                      <p:cBhvr>
                                        <p:cTn id="596" dur="2000" fill="hold"/>
                                        <p:tgtEl>
                                          <p:spTgt spid="2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7" nodeType="withEffect" fill="hold" presetClass="path" presetID="0" repeatCount="10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392 -0.00787 C 0.0434 -0.01111 0.0434 -0.01527 0.04253 -0.01851 C 0.04201 -0.02152 0.04028 -0.02361 0.03976 -0.02615 C 0.03455 -0.05625 0.03438 -0.09004 0.03281 -0.1206 C 0.03229 -0.20439 0.03229 -0.28842 0.03142 -0.37222 C 0.03125 -0.38935 0.02517 -0.40902 0.02309 -0.42592 C 0.01806 -0.46643 0.01302 -0.50717 0.01059 -0.54838 C 0.00833 -0.6493 0.00833 -0.62407 0.01059 -0.76666 C 0.01076 -0.78101 0.01233 -0.79444 0.02448 -0.79444 E">
                                      <p:cBhvr>
                                        <p:cTn id="598" dur="2000" fill="hold"/>
                                        <p:tgtEl>
                                          <p:spTgt spid="2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9" nodeType="withEffect" fill="hold" presetClass="path" presetID="0" repeatCount="10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392 0.00324 C 0.0434 4.44444000000013E-006 0.0434 -0.00417 0.04253 -0.00741 C 0.04201 -0.01042 0.04027 -0.0125 0.03975 -0.01505 C 0.03455 -0.04514 0.03437 -0.07894 0.03281 -0.1095 C 0.03229 -0.19329 0.03229 -0.27732 0.03142 -0.36112 C 0.03125 -0.37825 0.02517 -0.39792 0.02309 -0.41482 C 0.01805 -0.45533 0.01302 -0.49607 0.01059 -0.53727 C 0.00833 -0.6382 0.00833 -0.61297 0.01059 -0.75556 C 0.01076 -0.76991 0.01232 -0.78334 0.02448 -0.78334 E">
                                      <p:cBhvr>
                                        <p:cTn id="600" dur="2000" fill="hold"/>
                                        <p:tgtEl>
                                          <p:spTgt spid="2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1" nodeType="withEffect" fill="hold" presetClass="emph" presetID="2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hsl" dir="cw">
                                      <p:cBhvr>
                                        <p:cTn id="60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0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0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60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6" nodeType="withEffect" fill="hold" presetClass="emph" presetID="2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hsl" dir="cw">
                                      <p:cBhvr>
                                        <p:cTn id="60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0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0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61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1" nodeType="withEffect" fill="hold" presetClass="emph" presetID="2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hsl" dir="cw">
                                      <p:cBhvr>
                                        <p:cTn id="61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1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1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61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6" nodeType="withEffect" fill="hold" presetClass="emph" presetID="2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hsl" dir="cw">
                                      <p:cBhvr>
                                        <p:cTn id="6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1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1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62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1" nodeType="withEffect" fill="hold" presetClass="emph" presetID="2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hsl" dir="cw">
                                      <p:cBhvr>
                                        <p:cTn id="6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2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62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6" nodeType="withEffect" fill="hold" presetClass="emph" presetID="2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hsl" dir="cw">
                                      <p:cBhvr>
                                        <p:cTn id="62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2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2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63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1" nodeType="withEffect" fill="hold" presetClass="emph" presetID="2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hsl" dir="cw">
                                      <p:cBhvr>
                                        <p:cTn id="63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3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3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63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6" nodeType="with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8" dur="250" autoRev="1" fill="hold"/>
                                        <p:tgtEl>
                                          <p:spTgt spid="24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39" nodeType="withEffect" fill="hold" presetClass="emph" presetID="22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hsl" dir="cw">
                                      <p:cBhvr>
                                        <p:cTn id="64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4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4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64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9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5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1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7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4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3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4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9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20000"/>
                            </p:stCondLst>
                            <p:childTnLst>
                              <p:par>
                                <p:cTn id="68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82" dur="47202" fill="hold"/>
                                        <p:tgtEl>
                                          <p:spTgt spid="2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419040" y="2286000"/>
            <a:ext cx="834408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3366ff"/>
                </a:solidFill>
                <a:latin typeface=".VnBodoniH"/>
              </a:rPr>
              <a:t>Kinh TÕ, V¨n Ho¸ thÕ kØ XVI - XVIII</a:t>
            </a:r>
            <a:endParaRPr b="0" lang="en-US" sz="2400" spc="1" strike="noStrike">
              <a:ln w="9360">
                <a:solidFill>
                  <a:srgbClr val="0000ff"/>
                </a:solidFill>
                <a:miter/>
              </a:ln>
              <a:solidFill>
                <a:srgbClr val="3366ff"/>
              </a:solidFill>
              <a:latin typeface=".VnBodoniH"/>
              <a:ea typeface=".VnBodoniH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5791320" y="4572000"/>
            <a:ext cx="3124080" cy="203832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3695760" y="1359000"/>
            <a:ext cx="172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00"/>
                </a:solidFill>
                <a:latin typeface=".VnTime"/>
              </a:rPr>
              <a:t>Bµi 2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609480" y="711360"/>
            <a:ext cx="2514600" cy="13460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64560" y="685800"/>
            <a:ext cx="2059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0000"/>
                </a:solidFill>
                <a:uFillTx/>
                <a:latin typeface=".VnAristote"/>
              </a:rPr>
              <a:t>TiÕt 4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822840" y="400356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( TiÕp theo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371600" y="380880"/>
            <a:ext cx="74660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.VnTime"/>
              </a:rPr>
              <a:t>Bµi 23</a:t>
            </a:r>
            <a:r>
              <a:rPr b="1" lang="en-US" sz="2800" spc="-1" strike="noStrike">
                <a:solidFill>
                  <a:srgbClr val="003300"/>
                </a:solidFill>
                <a:latin typeface=".VnTime"/>
              </a:rPr>
              <a:t>    </a:t>
            </a:r>
            <a:r>
              <a:rPr b="1" lang="en-US" sz="2400" spc="-1" strike="noStrike">
                <a:solidFill>
                  <a:srgbClr val="003300"/>
                </a:solidFill>
                <a:latin typeface=".VnTimeH"/>
              </a:rPr>
              <a:t>Kinh tÕ v¨n ho¸ thÕ kØ XVI – XVI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00"/>
                </a:solidFill>
                <a:latin typeface=".VnTime"/>
              </a:rPr>
              <a:t>( TiÕp theo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7720" y="304920"/>
            <a:ext cx="15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.VnAristote"/>
              </a:rPr>
              <a:t>TiÕt 4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946680" y="1328760"/>
            <a:ext cx="489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.VnTimeH"/>
              </a:rPr>
              <a:t>II. V¨n Ho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886200" y="1523880"/>
            <a:ext cx="0" cy="502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946680" y="1633680"/>
            <a:ext cx="48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.VnTime"/>
              </a:rPr>
              <a:t>1. T«n gi¸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5040" y="1633680"/>
            <a:ext cx="344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33cc"/>
                </a:solidFill>
                <a:latin typeface=".VnAvant"/>
              </a:rPr>
              <a:t>? ThÕ kØ XVI n­íc ta cã nh÷ng t«n gi¸o nµ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04920" y="167652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cc"/>
                </a:solidFill>
                <a:latin typeface=".VnAvant"/>
              </a:rPr>
              <a:t>- Nho, PhËt, §¹o, sau thªm Thiªn chóa gi¸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57200" y="2438280"/>
            <a:ext cx="3352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33cc"/>
                </a:solidFill>
                <a:latin typeface=".VnAvant"/>
              </a:rPr>
              <a:t>? V× sao nho gi¸o kh«ng cßn gi÷ ®Þa vÞ ®éc t«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09480" y="3124080"/>
            <a:ext cx="3048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cc"/>
                </a:solidFill>
                <a:latin typeface=".VnAvant"/>
              </a:rPr>
              <a:t>- Sù tranh chÊp quyÒn hµnh, vua kh«ng cßn cã ý nghÜa thiªng liª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33cc"/>
                </a:solidFill>
                <a:latin typeface=".VnAvant"/>
              </a:rPr>
              <a:t>- Bé m¸y quan l¹i bÞ triÒu ®×nh chi phè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33cc"/>
                </a:solidFill>
                <a:latin typeface=".VnAvant"/>
              </a:rPr>
              <a:t>“</a:t>
            </a:r>
            <a:r>
              <a:rPr b="1" i="1" lang="pt-BR" sz="1800" spc="-1" strike="noStrike">
                <a:solidFill>
                  <a:srgbClr val="0033cc"/>
                </a:solidFill>
                <a:latin typeface=".VnAvant"/>
              </a:rPr>
              <a:t>Cßn b¹c, cßn tiÒn, cßn ®Ò t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33cc"/>
                </a:solidFill>
                <a:latin typeface=".VnAvant"/>
              </a:rPr>
              <a:t>HÕt c¬m, hÕt r­îu, hÕt «ng t«i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175280" y="1981080"/>
            <a:ext cx="466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.VnAvant"/>
              </a:rPr>
              <a:t>-Nho gi¸o: tiÕp tôc ®ược duy tr× vµ ph¸t triÓn, vÉn lµ néi dung häc tËp, song kh«ng gi÷ vÞ trÝ ®éc t«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3276720" cy="50292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304920" y="1523880"/>
            <a:ext cx="3504960" cy="49532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9" dur="5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8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8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8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8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8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8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8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8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8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3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20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6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0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20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373040" y="380880"/>
            <a:ext cx="74660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.VnTime"/>
              </a:rPr>
              <a:t>Bµi 23</a:t>
            </a:r>
            <a:r>
              <a:rPr b="1" lang="en-US" sz="2800" spc="-1" strike="noStrike">
                <a:solidFill>
                  <a:srgbClr val="003300"/>
                </a:solidFill>
                <a:latin typeface=".VnTime"/>
              </a:rPr>
              <a:t>    </a:t>
            </a:r>
            <a:r>
              <a:rPr b="1" lang="en-US" sz="2400" spc="-1" strike="noStrike">
                <a:solidFill>
                  <a:srgbClr val="003300"/>
                </a:solidFill>
                <a:latin typeface=".VnTimeH"/>
              </a:rPr>
              <a:t>Kinh tÕ v¨n ho¸ thÕ kØ XVI – XVI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00"/>
                </a:solidFill>
                <a:latin typeface=".VnTime"/>
              </a:rPr>
              <a:t>( TiÕp theo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7720" y="304920"/>
            <a:ext cx="15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.VnAristote"/>
              </a:rPr>
              <a:t>TiÕt 4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946680" y="1328760"/>
            <a:ext cx="489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.VnTimeH"/>
              </a:rPr>
              <a:t>II. V¨n Ho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886200" y="1523880"/>
            <a:ext cx="0" cy="502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946680" y="1633680"/>
            <a:ext cx="489240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.VnTim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.VnTime"/>
              </a:rPr>
              <a:t>T«n gi¸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.VnAvant"/>
              </a:rPr>
              <a:t>-Nho gi¸o: tiÕp tôc ®c duy tr× vµ ph¸t triÓn, vÉn lµ néi dung häc tËp, song kh«ng gi÷ vÞ trÝ ®éc t«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.VnAvant"/>
              </a:rPr>
              <a:t>-PhËt gi¸o, ®¹o gi¸o phôc håi vµ ph¸t triÓn ë thÕ kØ XVI-XVI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1752480"/>
            <a:ext cx="3429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.VnAvant"/>
              </a:rPr>
              <a:t>Vua, chóa, cung tÇn, quan l¹i ®ua nhau theo phËt, gãp tiÒn, cóng ruéng cho c¸c nhµ chïa, nhiÒu chïa chiÒn ®­îc söa ch÷a, x©y dùng mí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.VnAvant"/>
              </a:rPr>
              <a:t>Chïa T©y Ph­¬ng- Hµ Né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.VnAvant"/>
              </a:rPr>
              <a:t>Chïa Thiªn Mô- HuÕ &lt;1601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.VnAvant"/>
              </a:rPr>
              <a:t>Chïa Thiªn Hùu, B¶o Phóc &lt;S¬n T©y&gt;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304920" y="1523880"/>
            <a:ext cx="3429000" cy="533412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304920" y="5729400"/>
            <a:ext cx="3657600" cy="747720"/>
          </a:xfrm>
          <a:prstGeom prst="rect">
            <a:avLst/>
          </a:prstGeom>
          <a:solidFill>
            <a:srgbClr val="3366cc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.VnTime"/>
              </a:rPr>
              <a:t>BiÓu diÔn vâ ngh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.VnTime"/>
              </a:rPr>
              <a:t> </a:t>
            </a:r>
            <a:r>
              <a:rPr b="1" lang="en-US" sz="2400" spc="-1" strike="noStrike">
                <a:solidFill>
                  <a:srgbClr val="800000"/>
                </a:solidFill>
                <a:latin typeface=".VnTime"/>
              </a:rPr>
              <a:t>(tranh vÏ ë thÕ ki XVI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304920" y="1295280"/>
            <a:ext cx="3657600" cy="44197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304920" y="1295280"/>
            <a:ext cx="3352680" cy="51055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5"/>
          <a:stretch/>
        </p:blipFill>
        <p:spPr>
          <a:xfrm>
            <a:off x="304920" y="1295280"/>
            <a:ext cx="3429000" cy="518184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6"/>
          <a:stretch/>
        </p:blipFill>
        <p:spPr>
          <a:xfrm>
            <a:off x="304920" y="1371600"/>
            <a:ext cx="3581280" cy="54864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7"/>
          <a:stretch/>
        </p:blipFill>
        <p:spPr>
          <a:xfrm>
            <a:off x="304920" y="1295280"/>
            <a:ext cx="3504960" cy="54104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8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8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8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8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0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20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9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3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20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1" dur="2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2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7" dur="20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20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3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20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9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20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2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20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5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20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4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8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20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7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1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20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373040" y="380880"/>
            <a:ext cx="74660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.VnTime"/>
              </a:rPr>
              <a:t>Bµi 23</a:t>
            </a:r>
            <a:r>
              <a:rPr b="1" lang="en-US" sz="2800" spc="-1" strike="noStrike">
                <a:solidFill>
                  <a:srgbClr val="003300"/>
                </a:solidFill>
                <a:latin typeface=".VnTime"/>
              </a:rPr>
              <a:t>    </a:t>
            </a:r>
            <a:r>
              <a:rPr b="1" lang="en-US" sz="2400" spc="-1" strike="noStrike">
                <a:solidFill>
                  <a:srgbClr val="003300"/>
                </a:solidFill>
                <a:latin typeface=".VnTimeH"/>
              </a:rPr>
              <a:t>Kinh tÕ v¨n ho¸ thÕ kØ XVI – XVI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00"/>
                </a:solidFill>
                <a:latin typeface=".VnTime"/>
              </a:rPr>
              <a:t>( TiÕp theo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720" y="304920"/>
            <a:ext cx="15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.VnAristote"/>
              </a:rPr>
              <a:t>TiÕt 4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946680" y="1328760"/>
            <a:ext cx="489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.VnTimeH"/>
              </a:rPr>
              <a:t>II. V¨n Ho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886200" y="1523880"/>
            <a:ext cx="0" cy="502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946680" y="1633680"/>
            <a:ext cx="489240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.VnTim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.VnTime"/>
              </a:rPr>
              <a:t>T«n gi¸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.VnAvant"/>
              </a:rPr>
              <a:t>-Nho gi¸o: tiÕp tôc ®­îc duy tr× vµ ph¸t triÓn, vÉn lµ néi dung häc tËp, song kh«ng gi÷ vÞ trÝ ®éc t«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.VnAvant"/>
              </a:rPr>
              <a:t>-PhËt gi¸o, ®¹o gi¸o phôc håi vµ ph¸t triÓn ë thÕ kØ XVI-XVI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04920" y="1506600"/>
            <a:ext cx="3520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33cc"/>
                </a:solidFill>
                <a:latin typeface=".VnAvant"/>
              </a:rPr>
              <a:t>?Qua mét sè h×nh ¶nh võa quan s¸t, Em h·y nªu nÕp sinh ho¹t v¨n ho¸ truyÒn thèng cña nh©n d©n ta ë th«n quª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360" y="3157560"/>
            <a:ext cx="3292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.VnAvant"/>
              </a:rPr>
              <a:t>? H×nh thøc sinh ho¹t v¨n ho¸ ®ã cã ý nghÜa g×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80880" y="3870360"/>
            <a:ext cx="3429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33cc"/>
                </a:solidFill>
                <a:latin typeface=".VnAvant"/>
              </a:rPr>
              <a:t>- Th¾t chÆt t×nh ®oµn kÕt, yªu quª h­¬ng rÌn vâ nghÖ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8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8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8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8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8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8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8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8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373040" y="380880"/>
            <a:ext cx="74660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.VnTime"/>
              </a:rPr>
              <a:t>Bµi 23</a:t>
            </a:r>
            <a:r>
              <a:rPr b="1" lang="en-US" sz="2800" spc="-1" strike="noStrike">
                <a:solidFill>
                  <a:srgbClr val="003300"/>
                </a:solidFill>
                <a:latin typeface=".VnTime"/>
              </a:rPr>
              <a:t>    </a:t>
            </a:r>
            <a:r>
              <a:rPr b="1" lang="en-US" sz="2400" spc="-1" strike="noStrike">
                <a:solidFill>
                  <a:srgbClr val="003300"/>
                </a:solidFill>
                <a:latin typeface=".VnTimeH"/>
              </a:rPr>
              <a:t>Kinh tÕ v¨n ho¸ thÕ kØ XVI – XVI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00"/>
                </a:solidFill>
                <a:latin typeface=".VnTime"/>
              </a:rPr>
              <a:t>( TiÕp theo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7720" y="304920"/>
            <a:ext cx="15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.VnAristote"/>
              </a:rPr>
              <a:t>TiÕt 4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946680" y="1328760"/>
            <a:ext cx="489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.VnTimeH"/>
              </a:rPr>
              <a:t>II. V¨n Ho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886200" y="1523880"/>
            <a:ext cx="0" cy="502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946680" y="1633680"/>
            <a:ext cx="489240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.VnTim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.VnTime"/>
              </a:rPr>
              <a:t>T«n gi¸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.VnAvant"/>
              </a:rPr>
              <a:t>-Nho gi¸o: tiÕp tôc ®c duy tr× vµ ph¸t triÓn, vÉn lµ néi dung häc tËp, song kh«ng gi÷ vÞ trÝ ®éc t«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.VnAvant"/>
              </a:rPr>
              <a:t>-PhËt gi¸o, ®¹o gi¸o phôc håi vµ ph¸t triÓn ë thÕ kØ XVI-XVI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022640" y="3429000"/>
            <a:ext cx="489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.VnAvant"/>
              </a:rPr>
              <a:t>- Tõ thÕ kØ XVII b¾t ®Çu xuÊt hiÖn ®¹o thiªn chóa gi¸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6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0" y="6477120"/>
            <a:ext cx="9144000" cy="38088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 rot="16200000">
            <a:off x="5524560" y="3238560"/>
            <a:ext cx="6858000" cy="38088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 rot="16200000">
            <a:off x="-3238200" y="3238560"/>
            <a:ext cx="6858000" cy="38088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4"/>
          <a:stretch/>
        </p:blipFill>
        <p:spPr>
          <a:xfrm rot="10800000">
            <a:off x="0" y="0"/>
            <a:ext cx="9144000" cy="38088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1373040" y="380880"/>
            <a:ext cx="74660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.VnTime"/>
              </a:rPr>
              <a:t>Bµi 23</a:t>
            </a:r>
            <a:r>
              <a:rPr b="1" lang="en-US" sz="2800" spc="-1" strike="noStrike">
                <a:solidFill>
                  <a:srgbClr val="003300"/>
                </a:solidFill>
                <a:latin typeface=".VnTime"/>
              </a:rPr>
              <a:t>    </a:t>
            </a:r>
            <a:r>
              <a:rPr b="1" lang="en-US" sz="2400" spc="-1" strike="noStrike">
                <a:solidFill>
                  <a:srgbClr val="003300"/>
                </a:solidFill>
                <a:latin typeface=".VnTimeH"/>
              </a:rPr>
              <a:t>Kinh tÕ v¨n ho¸ thÕ kØ XVI – XVI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00"/>
                </a:solidFill>
                <a:latin typeface=".VnTime"/>
              </a:rPr>
              <a:t>( TiÕp theo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7720" y="304920"/>
            <a:ext cx="15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.VnAristote"/>
              </a:rPr>
              <a:t>TiÕt 4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946680" y="1328760"/>
            <a:ext cx="489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.VnTimeH"/>
              </a:rPr>
              <a:t>II. V¨n Ho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946680" y="1633680"/>
            <a:ext cx="48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.VnTim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.VnTime"/>
              </a:rPr>
              <a:t>T«n gi¸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1523880"/>
            <a:ext cx="0" cy="502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946680" y="2014560"/>
            <a:ext cx="466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.VnTime"/>
              </a:rPr>
              <a:t>2. Sù ra ®êi ch÷ Quèc ng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57200" y="148104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.VnAvant"/>
              </a:rPr>
              <a:t>? Ch÷ quèc ng÷ ra ®êi trong hoµn c¶nh nµ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33520" y="2025720"/>
            <a:ext cx="32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.VnAvant"/>
              </a:rPr>
              <a:t>? Môc ®Ých ban ®Çu cña ch÷ quèc ng÷ lµ g×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880" y="2700360"/>
            <a:ext cx="335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.VnAvant"/>
              </a:rPr>
              <a:t>? V× sao ch÷ c¸i La Tinh l¹i ghi ©m tiÕng ViÖt vµ trë thµnh ch÷ quèc ng÷ cña n­íc ta cho ®Õn ngµy nay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57200" y="3614760"/>
            <a:ext cx="3352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.VnAvant"/>
              </a:rPr>
              <a:t>- §©y lµ thø ch÷ phæ biÕn toµn què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.VnAvant"/>
              </a:rPr>
              <a:t>Nh©n d©n ta kh«ng ngõng söa ®æi, hoµn thiÖn lÊy ®ã lµ c«ng cô th«ng tin, häc tËp vµ trë thµnh ch÷ phæ th«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098960" y="2438280"/>
            <a:ext cx="4587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.VnAvant"/>
              </a:rPr>
              <a:t>-ThÕ kØ XVII gi¸o sÜ ph­¬ng T©y A-lÕc- x¨ng ®¬ Rèt dïng ch÷ c¸i La tinh, ghi ©m tiÕng ViÖt 1651. XuÊt b¶n cuèn tõ ®iÓn tiÕng ViÖt- Bå- La tin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.VnAvant"/>
              </a:rPr>
              <a:t>-&gt; Ch÷ viÕt khoa häc, tiÖn lîi, dÔ sö dông, dÔ phæ biÕ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8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8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8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8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2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20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8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8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0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20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20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20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8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8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8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8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8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20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20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20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8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8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8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8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6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20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0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20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5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0" y="6477120"/>
            <a:ext cx="9144000" cy="38088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 rot="16200000">
            <a:off x="5524560" y="3238560"/>
            <a:ext cx="6858000" cy="38088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 rot="16200000">
            <a:off x="-3238200" y="3238560"/>
            <a:ext cx="6858000" cy="38088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4"/>
          <a:stretch/>
        </p:blipFill>
        <p:spPr>
          <a:xfrm rot="10800000">
            <a:off x="0" y="0"/>
            <a:ext cx="9144000" cy="38088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1373040" y="380880"/>
            <a:ext cx="74660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.VnTime"/>
              </a:rPr>
              <a:t>Bµi 23</a:t>
            </a:r>
            <a:r>
              <a:rPr b="1" lang="en-US" sz="2800" spc="-1" strike="noStrike">
                <a:solidFill>
                  <a:srgbClr val="003300"/>
                </a:solidFill>
                <a:latin typeface=".VnTime"/>
              </a:rPr>
              <a:t>    </a:t>
            </a:r>
            <a:r>
              <a:rPr b="1" lang="en-US" sz="2400" spc="-1" strike="noStrike">
                <a:solidFill>
                  <a:srgbClr val="003300"/>
                </a:solidFill>
                <a:latin typeface=".VnTimeH"/>
              </a:rPr>
              <a:t>Kinh tÕ v¨n ho¸ thÕ kØ XVI – XVI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00"/>
                </a:solidFill>
                <a:latin typeface=".VnTime"/>
              </a:rPr>
              <a:t>( TiÕp theo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7720" y="304920"/>
            <a:ext cx="15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.VnAristote"/>
              </a:rPr>
              <a:t>TiÕt 4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946680" y="1328760"/>
            <a:ext cx="489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.VnTimeH"/>
              </a:rPr>
              <a:t>II. V¨n Ho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946680" y="1633680"/>
            <a:ext cx="48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.VnTim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.VnTime"/>
              </a:rPr>
              <a:t>T«n gi¸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886200" y="1523880"/>
            <a:ext cx="0" cy="502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946680" y="2014560"/>
            <a:ext cx="466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.VnTime"/>
              </a:rPr>
              <a:t>2. Sù ra ®êi ch÷ Quèc ng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5"/>
          <a:stretch/>
        </p:blipFill>
        <p:spPr>
          <a:xfrm>
            <a:off x="380880" y="1295280"/>
            <a:ext cx="3505320" cy="518184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6"/>
          <a:stretch/>
        </p:blipFill>
        <p:spPr>
          <a:xfrm>
            <a:off x="380880" y="1219320"/>
            <a:ext cx="3505320" cy="518148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4098960" y="2438280"/>
            <a:ext cx="4587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.VnAvant"/>
              </a:rPr>
              <a:t>-ThÕ kØ XVII gi¸o sÜ ph­¬ng T©y A-lÕc- x¨ng ®¬ Rèt dïng ch÷ c¸i La tinh, ghi ©m tiÕng ViÖt 1651. XuÊt b¶n cuèn tõ ®iÓn tiÕng ViÖt- Bå- La tin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.VnAvant"/>
              </a:rPr>
              <a:t>-&gt; Ch÷ viÕt khoa häc, tiÖn lîi, dÔ sö dông, dÔ phæ biÕ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886200" y="41911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.VnTime"/>
              </a:rPr>
              <a:t>3. V¨n häc vµ nghÖ thuËt d©n gi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267080" y="4586400"/>
            <a:ext cx="441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.VnAvant"/>
              </a:rPr>
              <a:t>a) V¨n hä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495680" y="491004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.VnAvant"/>
              </a:rPr>
              <a:t>- V¨n häc ch÷ N«m ph¸t triÓn. Tiªu biÓu: NguyÔn BØnh Khiªm, §µo Duy T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479840" y="5824440"/>
            <a:ext cx="428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.VnAvant"/>
              </a:rPr>
              <a:t>-  V¨n häc d©n gian ph¸t triÓn víi nhiÒu thÓ lo¹i phong phó</a:t>
            </a:r>
            <a:r>
              <a:rPr b="1" lang="en-US" sz="1800" spc="-1" strike="noStrike">
                <a:solidFill>
                  <a:srgbClr val="000000"/>
                </a:solidFill>
                <a:latin typeface=".VnAvan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93640" y="4600440"/>
            <a:ext cx="314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99"/>
                </a:solidFill>
                <a:latin typeface=".VnAvant"/>
              </a:rPr>
              <a:t>? Th¬ N«m xuÊt hiÖn ngµy cµng nhiÒu cã ý nghÜa nh­ thÕ nµo ®èi víi tiÕng nãi vµ v¨n ho¸ d©n téc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17680" y="3843360"/>
            <a:ext cx="32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99"/>
                </a:solidFill>
                <a:latin typeface=".VnAvant"/>
              </a:rPr>
              <a:t>? C¸c t¸c phÈm b»ng ch÷ N«m tËp trung ph¶n ¸nh néi dung g×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7"/>
          <a:stretch/>
        </p:blipFill>
        <p:spPr>
          <a:xfrm>
            <a:off x="380880" y="1143000"/>
            <a:ext cx="3505320" cy="518148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8"/>
          <a:stretch/>
        </p:blipFill>
        <p:spPr>
          <a:xfrm>
            <a:off x="304920" y="1143000"/>
            <a:ext cx="3733560" cy="5257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6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20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20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20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20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20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20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8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8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8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8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5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20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20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20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xit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42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20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20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20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8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" dur="8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8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8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1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5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6" dur="20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20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20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4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8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9" dur="20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20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20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9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373040" y="380880"/>
            <a:ext cx="74660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.VnTime"/>
              </a:rPr>
              <a:t>Bµi 23</a:t>
            </a:r>
            <a:r>
              <a:rPr b="1" lang="en-US" sz="2800" spc="-1" strike="noStrike">
                <a:solidFill>
                  <a:srgbClr val="003300"/>
                </a:solidFill>
                <a:latin typeface=".VnTime"/>
              </a:rPr>
              <a:t>    </a:t>
            </a:r>
            <a:r>
              <a:rPr b="1" lang="en-US" sz="2400" spc="-1" strike="noStrike">
                <a:solidFill>
                  <a:srgbClr val="003300"/>
                </a:solidFill>
                <a:latin typeface=".VnTimeH"/>
              </a:rPr>
              <a:t>Kinh tÕ v¨n ho¸ thÕ kØ XVI – XVI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00"/>
                </a:solidFill>
                <a:latin typeface=".VnTime"/>
              </a:rPr>
              <a:t>( TiÕp theo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7720" y="304920"/>
            <a:ext cx="15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.VnAristote"/>
              </a:rPr>
              <a:t>TiÕt 4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946680" y="1328760"/>
            <a:ext cx="489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.VnTimeH"/>
              </a:rPr>
              <a:t>II. V¨n Ho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886200" y="1523880"/>
            <a:ext cx="0" cy="502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946680" y="1633680"/>
            <a:ext cx="48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.VnTim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.VnTime"/>
              </a:rPr>
              <a:t>T«n gi¸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946680" y="2014560"/>
            <a:ext cx="466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.VnTime"/>
              </a:rPr>
              <a:t>2. Sù ra ®êi ch÷ Quèc ng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62520" y="23623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.VnTime"/>
              </a:rPr>
              <a:t>3. V¨n häc vµ nghÖ thuËt d©n gi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67080" y="2757600"/>
            <a:ext cx="441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.VnAvant"/>
              </a:rPr>
              <a:t>a) V¨n hä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495680" y="308124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.VnAvant"/>
              </a:rPr>
              <a:t>- V¨n häc ch÷ N«m ph¸t triÓn. Tiªu biÓu: NguyÔn BØnh Khiªm, §µo Duy T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479840" y="3995640"/>
            <a:ext cx="428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.VnAvant"/>
              </a:rPr>
              <a:t>-  V¨n häc d©n gian ph¸t triÓn víi nhiÒu thÓ lo¹i phong phó</a:t>
            </a:r>
            <a:r>
              <a:rPr b="0" lang="en-US" sz="1800" spc="-1" strike="noStrike">
                <a:solidFill>
                  <a:srgbClr val="000000"/>
                </a:solidFill>
                <a:latin typeface=".VnAvan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327560" y="4648320"/>
            <a:ext cx="451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.VnAvant"/>
              </a:rPr>
              <a:t>b) NghÖ thuËt d©n g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304920" y="1219320"/>
            <a:ext cx="3504960" cy="563868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4267080" y="3279960"/>
            <a:ext cx="4876920" cy="2533320"/>
          </a:xfrm>
          <a:prstGeom prst="rect">
            <a:avLst/>
          </a:prstGeom>
          <a:solidFill>
            <a:srgbClr val="ffff66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.VnAvant"/>
              </a:rPr>
              <a:t>Næi tiÕng nhÊt lµ t­îng PhËt Bµ Quan ¢m ngh×n m¾t ngh×n tay ë chïa Bót Th¸p ( B¾c Ninh ).Bøc t­îng do nghÖ nh©n Tr­¬ng V¨n Thä t¹o ra n¨m 1655. T­îng cao 3m7, réng 2m1, khu«n mÆt ®Ñp, c©n ®èi, hµi hoµ, gi÷a mçi tay lµ 1 con m¾t, ®Çu ®éi mò hoa sen. Bøc t­îng cã vÎ ®Ñp tù nhiªn, mÒm m¹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479840" y="5062680"/>
            <a:ext cx="435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.VnAvant"/>
              </a:rPr>
              <a:t>- Gåm 2 lo¹i h×nh lµ ®iªu kh¾c vµ s©n khÊu</a:t>
            </a:r>
            <a:r>
              <a:rPr b="0" lang="en-US" sz="1800" spc="-1" strike="noStrike">
                <a:solidFill>
                  <a:srgbClr val="000000"/>
                </a:solidFill>
                <a:latin typeface=".VnAvan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0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6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3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4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5" dur="200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200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200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8T14:13:06Z</dcterms:created>
  <dc:creator>Thanhcan</dc:creator>
  <dc:description/>
  <dc:language>en-US</dc:language>
  <cp:lastModifiedBy>Thanhcan</cp:lastModifiedBy>
  <dcterms:modified xsi:type="dcterms:W3CDTF">2011-02-21T10:52:37Z</dcterms:modified>
  <cp:revision>91</cp:revision>
  <dc:subject/>
  <dc:title>Slide 1</dc:title>
</cp:coreProperties>
</file>